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6858000" cy="908352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083520"/>
              <a:gd name="textAreaBottom" fmla="*/ 9083160 h 9083520"/>
            </a:gdLst>
            <a:ahLst/>
            <a:rect l="textAreaLeft" t="textAreaTop" r="textAreaRight" b="textAreaBottom"/>
            <a:pathLst>
              <a:path w="21600" h="28609">
                <a:moveTo>
                  <a:pt x="5" y="0"/>
                </a:moveTo>
                <a:arcTo wR="5" hR="5" stAng="16200000" swAng="-5400000"/>
                <a:lnTo>
                  <a:pt x="0" y="28604"/>
                </a:lnTo>
                <a:arcTo wR="5" hR="5" stAng="10800000" swAng="-5400000"/>
                <a:lnTo>
                  <a:pt x="21595" y="2860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858000" cy="908352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083520"/>
              <a:gd name="textAreaBottom" fmla="*/ 9083160 h 9083520"/>
            </a:gdLst>
            <a:ahLst/>
            <a:rect l="textAreaLeft" t="textAreaTop" r="textAreaRight" b="textAreaBottom"/>
            <a:pathLst>
              <a:path w="21600" h="28609">
                <a:moveTo>
                  <a:pt x="5" y="0"/>
                </a:moveTo>
                <a:arcTo wR="5" hR="5" stAng="16200000" swAng="-5400000"/>
                <a:lnTo>
                  <a:pt x="0" y="28604"/>
                </a:lnTo>
                <a:arcTo wR="5" hR="5" stAng="10800000" swAng="-5400000"/>
                <a:lnTo>
                  <a:pt x="21595" y="2860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891720" y="4295520"/>
            <a:ext cx="504684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ldImg"/>
          </p:nvPr>
        </p:nvSpPr>
        <p:spPr>
          <a:xfrm>
            <a:off x="1371600" y="764280"/>
            <a:ext cx="502848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14960"/>
            <a:ext cx="5030640" cy="5522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J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98360"/>
            <a:ext cx="77900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29760" y="1117080"/>
            <a:ext cx="8621640" cy="24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29760" y="3761640"/>
            <a:ext cx="8621640" cy="24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198360"/>
            <a:ext cx="77900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29760" y="1117080"/>
            <a:ext cx="4207320" cy="24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7680" y="1117080"/>
            <a:ext cx="4207320" cy="24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29760" y="3761640"/>
            <a:ext cx="4207320" cy="24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47680" y="3761640"/>
            <a:ext cx="4207320" cy="24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98360"/>
            <a:ext cx="77900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9760" y="1117080"/>
            <a:ext cx="2775960" cy="24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45040" y="1117080"/>
            <a:ext cx="2775960" cy="24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59960" y="1117080"/>
            <a:ext cx="2775960" cy="24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29760" y="3761640"/>
            <a:ext cx="2775960" cy="24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45040" y="3761640"/>
            <a:ext cx="2775960" cy="24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59960" y="3761640"/>
            <a:ext cx="2775960" cy="24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50560" y="198360"/>
            <a:ext cx="77900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29760" y="1117080"/>
            <a:ext cx="8621640" cy="50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0560" y="198360"/>
            <a:ext cx="77900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9760" y="1117080"/>
            <a:ext cx="8621640" cy="50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198360"/>
            <a:ext cx="77900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9760" y="1117080"/>
            <a:ext cx="4207320" cy="50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47680" y="1117080"/>
            <a:ext cx="4207320" cy="50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198360"/>
            <a:ext cx="77900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50560" y="198360"/>
            <a:ext cx="779004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198360"/>
            <a:ext cx="77900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9760" y="1117080"/>
            <a:ext cx="4207320" cy="24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47680" y="1117080"/>
            <a:ext cx="4207320" cy="50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29760" y="3761640"/>
            <a:ext cx="4207320" cy="24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50560" y="198360"/>
            <a:ext cx="77900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29760" y="1117080"/>
            <a:ext cx="8621640" cy="50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98360"/>
            <a:ext cx="77900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9760" y="1117080"/>
            <a:ext cx="4207320" cy="50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47680" y="1117080"/>
            <a:ext cx="4207320" cy="24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47680" y="3761640"/>
            <a:ext cx="4207320" cy="24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98360"/>
            <a:ext cx="77900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9760" y="1117080"/>
            <a:ext cx="4207320" cy="24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7680" y="1117080"/>
            <a:ext cx="4207320" cy="24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29760" y="3761640"/>
            <a:ext cx="8621640" cy="24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198360"/>
            <a:ext cx="77900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9760" y="1117080"/>
            <a:ext cx="8621640" cy="24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9760" y="3761640"/>
            <a:ext cx="8621640" cy="24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198360"/>
            <a:ext cx="77900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9760" y="1117080"/>
            <a:ext cx="4207320" cy="24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7680" y="1117080"/>
            <a:ext cx="4207320" cy="24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29760" y="3761640"/>
            <a:ext cx="4207320" cy="24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47680" y="3761640"/>
            <a:ext cx="4207320" cy="24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198360"/>
            <a:ext cx="77900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29760" y="1117080"/>
            <a:ext cx="2775960" cy="24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45040" y="1117080"/>
            <a:ext cx="2775960" cy="24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59960" y="1117080"/>
            <a:ext cx="2775960" cy="24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29760" y="3761640"/>
            <a:ext cx="2775960" cy="24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45040" y="3761640"/>
            <a:ext cx="2775960" cy="24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59960" y="3761640"/>
            <a:ext cx="2775960" cy="24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50560" y="198360"/>
            <a:ext cx="77900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29760" y="1117080"/>
            <a:ext cx="8621640" cy="50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98360"/>
            <a:ext cx="77900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9760" y="1117080"/>
            <a:ext cx="4207320" cy="50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47680" y="1117080"/>
            <a:ext cx="4207320" cy="50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198360"/>
            <a:ext cx="77900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50560" y="198360"/>
            <a:ext cx="779004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198360"/>
            <a:ext cx="77900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9760" y="1117080"/>
            <a:ext cx="4207320" cy="24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7680" y="1117080"/>
            <a:ext cx="4207320" cy="50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29760" y="3761640"/>
            <a:ext cx="4207320" cy="24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198360"/>
            <a:ext cx="77900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29760" y="1117080"/>
            <a:ext cx="4207320" cy="50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7680" y="1117080"/>
            <a:ext cx="4207320" cy="24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47680" y="3761640"/>
            <a:ext cx="4207320" cy="24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98360"/>
            <a:ext cx="77900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29760" y="1117080"/>
            <a:ext cx="4207320" cy="24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7680" y="1117080"/>
            <a:ext cx="4207320" cy="24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29760" y="3761640"/>
            <a:ext cx="8621640" cy="24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42800" y="853920"/>
            <a:ext cx="8226360" cy="32040"/>
          </a:xfrm>
          <a:prstGeom prst="roundRect">
            <a:avLst>
              <a:gd name="adj" fmla="val 5000"/>
            </a:avLst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50560" y="198360"/>
            <a:ext cx="77900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29760" y="1117080"/>
            <a:ext cx="8621640" cy="50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74"/>
              </a:spcBef>
              <a:buClr>
                <a:srgbClr val="ff0000"/>
              </a:buClr>
              <a:buSzPct val="55000"/>
              <a:buFont typeface="ZapfDingbat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74"/>
              </a:spcBef>
              <a:buClr>
                <a:srgbClr val="3333cc"/>
              </a:buClr>
              <a:buSzPct val="50000"/>
              <a:buFont typeface="ZapfDingbat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74"/>
              </a:spcBef>
              <a:buClr>
                <a:srgbClr val="ffcf01"/>
              </a:buClr>
              <a:buSzPct val="55000"/>
              <a:buFont typeface="ZapfDingbat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74"/>
              </a:spcBef>
              <a:buClr>
                <a:srgbClr val="ffcf01"/>
              </a:buClr>
              <a:buSzPct val="5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"/>
          <p:cNvGrpSpPr/>
          <p:nvPr/>
        </p:nvGrpSpPr>
        <p:grpSpPr>
          <a:xfrm>
            <a:off x="0" y="2438280"/>
            <a:ext cx="9005400" cy="1049400"/>
            <a:chOff x="0" y="2438280"/>
            <a:chExt cx="9005400" cy="1049400"/>
          </a:xfrm>
        </p:grpSpPr>
        <p:grpSp>
          <p:nvGrpSpPr>
            <p:cNvPr id="40" name=""/>
            <p:cNvGrpSpPr/>
            <p:nvPr/>
          </p:nvGrpSpPr>
          <p:grpSpPr>
            <a:xfrm>
              <a:off x="290160" y="2545920"/>
              <a:ext cx="707400" cy="470520"/>
              <a:chOff x="290160" y="2545920"/>
              <a:chExt cx="707400" cy="470520"/>
            </a:xfrm>
          </p:grpSpPr>
          <p:sp>
            <p:nvSpPr>
              <p:cNvPr id="41" name=""/>
              <p:cNvSpPr/>
              <p:nvPr/>
            </p:nvSpPr>
            <p:spPr>
              <a:xfrm>
                <a:off x="290160" y="2545920"/>
                <a:ext cx="436680" cy="470520"/>
              </a:xfrm>
              <a:custGeom>
                <a:avLst/>
                <a:gdLst>
                  <a:gd name="textAreaLeft" fmla="*/ 360 w 436680"/>
                  <a:gd name="textAreaRight" fmla="*/ 436320 w 436680"/>
                  <a:gd name="textAreaTop" fmla="*/ 360 h 470520"/>
                  <a:gd name="textAreaBottom" fmla="*/ 470160 h 470520"/>
                </a:gdLst>
                <a:ahLst/>
                <a:rect l="textAreaLeft" t="textAreaTop" r="textAreaRight" b="textAreaBottom"/>
                <a:pathLst>
                  <a:path w="21600" h="23272">
                    <a:moveTo>
                      <a:pt x="78" y="0"/>
                    </a:moveTo>
                    <a:arcTo wR="78" hR="78" stAng="16200000" swAng="-5400000"/>
                    <a:lnTo>
                      <a:pt x="0" y="23194"/>
                    </a:lnTo>
                    <a:arcTo wR="78" hR="78" stAng="10800000" swAng="-5400000"/>
                    <a:lnTo>
                      <a:pt x="21522" y="23272"/>
                    </a:lnTo>
                    <a:arcTo wR="78" hR="78" stAng="5400000" swAng="-5400000"/>
                    <a:lnTo>
                      <a:pt x="21600" y="78"/>
                    </a:lnTo>
                    <a:arcTo wR="78" hR="78" stAng="0" swAng="-5400000"/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669960" y="2545920"/>
                <a:ext cx="327600" cy="470520"/>
              </a:xfrm>
              <a:custGeom>
                <a:avLst/>
                <a:gdLst>
                  <a:gd name="textAreaLeft" fmla="*/ 360 w 327600"/>
                  <a:gd name="textAreaRight" fmla="*/ 327240 w 327600"/>
                  <a:gd name="textAreaTop" fmla="*/ 360 h 470520"/>
                  <a:gd name="textAreaBottom" fmla="*/ 470160 h 470520"/>
                </a:gdLst>
                <a:ahLst/>
                <a:rect l="textAreaLeft" t="textAreaTop" r="textAreaRight" b="textAreaBottom"/>
                <a:pathLst>
                  <a:path w="21600" h="31013">
                    <a:moveTo>
                      <a:pt x="104" y="0"/>
                    </a:moveTo>
                    <a:arcTo wR="104" hR="104" stAng="16200000" swAng="-5400000"/>
                    <a:lnTo>
                      <a:pt x="0" y="30909"/>
                    </a:lnTo>
                    <a:arcTo wR="104" hR="104" stAng="10800000" swAng="-5400000"/>
                    <a:lnTo>
                      <a:pt x="21496" y="31013"/>
                    </a:lnTo>
                    <a:arcTo wR="104" hR="104" stAng="5400000" swAng="-5400000"/>
                    <a:lnTo>
                      <a:pt x="21600" y="104"/>
                    </a:lnTo>
                    <a:arcTo wR="104" hR="104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" name=""/>
            <p:cNvGrpSpPr/>
            <p:nvPr/>
          </p:nvGrpSpPr>
          <p:grpSpPr>
            <a:xfrm>
              <a:off x="414000" y="2967480"/>
              <a:ext cx="734400" cy="470520"/>
              <a:chOff x="414000" y="2967480"/>
              <a:chExt cx="734400" cy="470520"/>
            </a:xfrm>
          </p:grpSpPr>
          <p:sp>
            <p:nvSpPr>
              <p:cNvPr id="44" name=""/>
              <p:cNvSpPr/>
              <p:nvPr/>
            </p:nvSpPr>
            <p:spPr>
              <a:xfrm>
                <a:off x="414000" y="2967480"/>
                <a:ext cx="420120" cy="470520"/>
              </a:xfrm>
              <a:custGeom>
                <a:avLst/>
                <a:gdLst>
                  <a:gd name="textAreaLeft" fmla="*/ 360 w 420120"/>
                  <a:gd name="textAreaRight" fmla="*/ 419760 w 420120"/>
                  <a:gd name="textAreaTop" fmla="*/ 360 h 470520"/>
                  <a:gd name="textAreaBottom" fmla="*/ 470160 h 470520"/>
                </a:gdLst>
                <a:ahLst/>
                <a:rect l="textAreaLeft" t="textAreaTop" r="textAreaRight" b="textAreaBottom"/>
                <a:pathLst>
                  <a:path w="21600" h="24189">
                    <a:moveTo>
                      <a:pt x="81" y="0"/>
                    </a:moveTo>
                    <a:arcTo wR="81" hR="81" stAng="16200000" swAng="-5400000"/>
                    <a:lnTo>
                      <a:pt x="0" y="24108"/>
                    </a:lnTo>
                    <a:arcTo wR="81" hR="81" stAng="10800000" swAng="-5400000"/>
                    <a:lnTo>
                      <a:pt x="21519" y="24189"/>
                    </a:lnTo>
                    <a:arcTo wR="81" hR="81" stAng="5400000" swAng="-5400000"/>
                    <a:lnTo>
                      <a:pt x="21600" y="81"/>
                    </a:lnTo>
                    <a:arcTo wR="81" hR="81" stAng="0" swAng="-5400000"/>
                    <a:close/>
                  </a:path>
                </a:pathLst>
              </a:cu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80480" y="2967480"/>
                <a:ext cx="367920" cy="470520"/>
              </a:xfrm>
              <a:custGeom>
                <a:avLst/>
                <a:gdLst>
                  <a:gd name="textAreaLeft" fmla="*/ 360 w 367920"/>
                  <a:gd name="textAreaRight" fmla="*/ 367560 w 367920"/>
                  <a:gd name="textAreaTop" fmla="*/ 360 h 470520"/>
                  <a:gd name="textAreaBottom" fmla="*/ 470160 h 470520"/>
                </a:gdLst>
                <a:ahLst/>
                <a:rect l="textAreaLeft" t="textAreaTop" r="textAreaRight" b="textAreaBottom"/>
                <a:pathLst>
                  <a:path w="21600" h="27618">
                    <a:moveTo>
                      <a:pt x="93" y="0"/>
                    </a:moveTo>
                    <a:arcTo wR="93" hR="93" stAng="16200000" swAng="-5400000"/>
                    <a:lnTo>
                      <a:pt x="0" y="27525"/>
                    </a:lnTo>
                    <a:arcTo wR="93" hR="93" stAng="10800000" swAng="-5400000"/>
                    <a:lnTo>
                      <a:pt x="21507" y="27618"/>
                    </a:lnTo>
                    <a:arcTo wR="93" hR="93" stAng="5400000" swAng="-5400000"/>
                    <a:lnTo>
                      <a:pt x="21600" y="93"/>
                    </a:lnTo>
                    <a:arcTo wR="93" hR="93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" name=""/>
            <p:cNvSpPr/>
            <p:nvPr/>
          </p:nvSpPr>
          <p:spPr>
            <a:xfrm>
              <a:off x="0" y="2892960"/>
              <a:ext cx="560160" cy="421200"/>
            </a:xfrm>
            <a:prstGeom prst="roundRect">
              <a:avLst>
                <a:gd name="adj" fmla="val 375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34680" y="2438280"/>
              <a:ext cx="31320" cy="1049400"/>
            </a:xfrm>
            <a:custGeom>
              <a:avLst/>
              <a:gdLst>
                <a:gd name="textAreaLeft" fmla="*/ 360 w 31320"/>
                <a:gd name="textAreaRight" fmla="*/ 30960 w 31320"/>
                <a:gd name="textAreaTop" fmla="*/ 360 h 1049400"/>
                <a:gd name="textAreaBottom" fmla="*/ 1049040 h 1049400"/>
              </a:gdLst>
              <a:ahLst/>
              <a:rect l="textAreaLeft" t="textAreaTop" r="textAreaRight" b="textAreaBottom"/>
              <a:pathLst>
                <a:path w="21600" h="715745">
                  <a:moveTo>
                    <a:pt x="1080" y="0"/>
                  </a:moveTo>
                  <a:arcTo wR="1080" hR="1080" stAng="16200000" swAng="-5400000"/>
                  <a:lnTo>
                    <a:pt x="0" y="714665"/>
                  </a:lnTo>
                  <a:arcTo wR="1080" hR="1080" stAng="10800000" swAng="-5400000"/>
                  <a:lnTo>
                    <a:pt x="20520" y="715745"/>
                  </a:lnTo>
                  <a:arcTo wR="1080" hR="1080" stAng="5400000" swAng="-5400000"/>
                  <a:lnTo>
                    <a:pt x="21600" y="1080"/>
                  </a:lnTo>
                  <a:arcTo wR="1080" hR="1080" stAng="0" swAng="-5400000"/>
                  <a:close/>
                </a:path>
              </a:pathLst>
            </a:cu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rot="10800000">
              <a:off x="317160" y="3263400"/>
              <a:ext cx="8688240" cy="55080"/>
            </a:xfrm>
            <a:prstGeom prst="roundRect">
              <a:avLst>
                <a:gd name="adj" fmla="val 294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7.png"/><Relationship Id="rId6" Type="http://schemas.openxmlformats.org/officeDocument/2006/relationships/image" Target="../media/image29.png"/><Relationship Id="rId7" Type="http://schemas.openxmlformats.org/officeDocument/2006/relationships/image" Target="../media/image27.png"/><Relationship Id="rId8" Type="http://schemas.openxmlformats.org/officeDocument/2006/relationships/image" Target="../media/image29.png"/><Relationship Id="rId9" Type="http://schemas.openxmlformats.org/officeDocument/2006/relationships/image" Target="../media/image27.png"/><Relationship Id="rId10" Type="http://schemas.openxmlformats.org/officeDocument/2006/relationships/image" Target="../media/image30.png"/><Relationship Id="rId11" Type="http://schemas.openxmlformats.org/officeDocument/2006/relationships/image" Target="../media/image27.png"/><Relationship Id="rId12" Type="http://schemas.openxmlformats.org/officeDocument/2006/relationships/image" Target="../media/image31.png"/><Relationship Id="rId13" Type="http://schemas.openxmlformats.org/officeDocument/2006/relationships/image" Target="../media/image27.png"/><Relationship Id="rId14" Type="http://schemas.openxmlformats.org/officeDocument/2006/relationships/image" Target="../media/image32.png"/><Relationship Id="rId15" Type="http://schemas.openxmlformats.org/officeDocument/2006/relationships/image" Target="../media/image27.png"/><Relationship Id="rId16" Type="http://schemas.openxmlformats.org/officeDocument/2006/relationships/image" Target="../media/image33.png"/><Relationship Id="rId17" Type="http://schemas.openxmlformats.org/officeDocument/2006/relationships/image" Target="../media/image27.png"/><Relationship Id="rId18" Type="http://schemas.openxmlformats.org/officeDocument/2006/relationships/image" Target="../media/image32.png"/><Relationship Id="rId19" Type="http://schemas.openxmlformats.org/officeDocument/2006/relationships/image" Target="../media/image27.png"/><Relationship Id="rId20" Type="http://schemas.openxmlformats.org/officeDocument/2006/relationships/image" Target="../media/image31.png"/><Relationship Id="rId2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slideLayout" Target="../slideLayouts/slideLayout3.xml"/><Relationship Id="rId1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9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198360"/>
            <a:ext cx="77900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EK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9760" y="1117080"/>
            <a:ext cx="8621640" cy="50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Science Environment for Ecological Knowled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coGr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50000"/>
              <a:buFont typeface="ZapfDingba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cological, biodiversity and environmental 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50000"/>
              <a:buFont typeface="ZapfDingba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putational acce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50000"/>
              <a:buFont typeface="ZapfDingba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andardized, open Grid interfaces (OGSA complian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alysis and Modeling Syste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50000"/>
              <a:buFont typeface="ZapfDingba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odeling scientific workflow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mantic Mediation Syste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50000"/>
              <a:buFont typeface="ZapfDingba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mart” data discove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50000"/>
              <a:buFont typeface="ZapfDingba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Knowledge-based data integr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50000"/>
              <a:buFont typeface="ZapfDingba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Knowledge-based analysis integr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nowledge Represen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50000"/>
              <a:buFont typeface="ZapfDingba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ntologies for describing ecolog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2" name="Fire" descr=""/>
          <p:cNvPicPr/>
          <p:nvPr/>
        </p:nvPicPr>
        <p:blipFill>
          <a:blip r:embed="rId1"/>
          <a:stretch/>
        </p:blipFill>
        <p:spPr>
          <a:xfrm>
            <a:off x="6134040" y="4946760"/>
            <a:ext cx="2895840" cy="17874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198360"/>
            <a:ext cx="77900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EEK Analysis and Modeling System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29760" y="1117080"/>
            <a:ext cx="8621640" cy="50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tologies provide domain contex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 directly to data via EML, and to analytical workflows via MoM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 logic engines for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75"/>
              </a:spcBef>
              <a:buClr>
                <a:srgbClr val="ff0000"/>
              </a:buClr>
              <a:buSzPct val="55000"/>
              <a:buFont typeface="ZapfDingbat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covery of data and analytical componen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75"/>
              </a:spcBef>
              <a:buClr>
                <a:srgbClr val="ff0000"/>
              </a:buClr>
              <a:buSzPct val="55000"/>
              <a:buFont typeface="ZapfDingbat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egration of those componen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75"/>
              </a:spcBef>
              <a:buClr>
                <a:srgbClr val="ff0000"/>
              </a:buClr>
              <a:buSzPct val="55000"/>
              <a:buFont typeface="ZapfDingbat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sign tool based on Ptolem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75"/>
              </a:spcBef>
              <a:buClr>
                <a:srgbClr val="ff0000"/>
              </a:buClr>
              <a:buSzPct val="55000"/>
              <a:buFont typeface="ZapfDingbat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rect access to EcoGrid data within design too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75"/>
              </a:spcBef>
              <a:buClr>
                <a:srgbClr val="ff0000"/>
              </a:buClr>
              <a:buSzPct val="55000"/>
              <a:buFont typeface="ZapfDingbat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dividual workflow components execute as OGSA servic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198360"/>
            <a:ext cx="77900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alysis and Modeling syste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581040" y="885960"/>
            <a:ext cx="7589880" cy="4916160"/>
            <a:chOff x="581040" y="885960"/>
            <a:chExt cx="7589880" cy="4916160"/>
          </a:xfrm>
        </p:grpSpPr>
        <p:sp>
          <p:nvSpPr>
            <p:cNvPr id="281" name=""/>
            <p:cNvSpPr/>
            <p:nvPr/>
          </p:nvSpPr>
          <p:spPr>
            <a:xfrm flipV="1">
              <a:off x="2706840" y="2463120"/>
              <a:ext cx="0" cy="116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2" name=""/>
            <p:cNvCxnSpPr>
              <a:stCxn id="283" idx="3"/>
              <a:endCxn id="284" idx="2"/>
            </p:cNvCxnSpPr>
            <p:nvPr/>
          </p:nvCxnSpPr>
          <p:spPr>
            <a:xfrm flipV="1">
              <a:off x="3164040" y="2435760"/>
              <a:ext cx="2575440" cy="54900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5" name=""/>
            <p:cNvSpPr/>
            <p:nvPr/>
          </p:nvSpPr>
          <p:spPr>
            <a:xfrm>
              <a:off x="1198080" y="1982880"/>
              <a:ext cx="1302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912400" y="1982880"/>
              <a:ext cx="1166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490280" y="1982880"/>
              <a:ext cx="1028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930280" y="1982880"/>
              <a:ext cx="1165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266480" y="5137560"/>
              <a:ext cx="1645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255480" y="5137560"/>
              <a:ext cx="1508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049920" y="1845720"/>
              <a:ext cx="75528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Training sample (d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593240" y="1845720"/>
              <a:ext cx="72468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GAR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ule set (e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3" name=""/>
            <p:cNvCxnSpPr>
              <a:stCxn id="294" idx="0"/>
              <a:endCxn id="295" idx="0"/>
            </p:cNvCxnSpPr>
            <p:nvPr/>
          </p:nvCxnSpPr>
          <p:spPr>
            <a:xfrm flipH="1" rot="16200000">
              <a:off x="4964400" y="-495360"/>
              <a:ext cx="46080" cy="4590000"/>
            </a:xfrm>
            <a:prstGeom prst="bentConnector3">
              <a:avLst>
                <a:gd name="adj1" fmla="val -449606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6" name=""/>
            <p:cNvSpPr/>
            <p:nvPr/>
          </p:nvSpPr>
          <p:spPr>
            <a:xfrm>
              <a:off x="4627080" y="1434240"/>
              <a:ext cx="9597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Test sample (d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147760" y="2737440"/>
              <a:ext cx="1066320" cy="55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Integrat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layer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(native range) (c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6410160" y="2257200"/>
              <a:ext cx="0" cy="109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6410160" y="3971520"/>
              <a:ext cx="0" cy="1028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9" name=""/>
            <p:cNvCxnSpPr>
              <a:stCxn id="300" idx="0"/>
              <a:endCxn id="301" idx="1"/>
            </p:cNvCxnSpPr>
            <p:nvPr/>
          </p:nvCxnSpPr>
          <p:spPr>
            <a:xfrm flipH="1" flipV="1" rot="5400000">
              <a:off x="1127160" y="3554640"/>
              <a:ext cx="1303560" cy="145044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02" name=""/>
            <p:cNvSpPr/>
            <p:nvPr/>
          </p:nvSpPr>
          <p:spPr>
            <a:xfrm>
              <a:off x="1060560" y="1228680"/>
              <a:ext cx="6652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060560" y="1228680"/>
              <a:ext cx="0" cy="54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4" name=""/>
            <p:cNvCxnSpPr/>
            <p:nvPr/>
          </p:nvCxnSpPr>
          <p:spPr>
            <a:xfrm>
              <a:off x="5175360" y="5137200"/>
              <a:ext cx="2326680" cy="108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05" name=""/>
            <p:cNvSpPr/>
            <p:nvPr/>
          </p:nvSpPr>
          <p:spPr>
            <a:xfrm>
              <a:off x="1358640" y="1640160"/>
              <a:ext cx="925920" cy="100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iGI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Spec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resence &amp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bsence poin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(native range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(a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682920" y="1776960"/>
              <a:ext cx="740160" cy="870120"/>
              <a:chOff x="682920" y="1776960"/>
              <a:chExt cx="740160" cy="87012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847800" y="1776960"/>
                <a:ext cx="411120" cy="411120"/>
                <a:chOff x="847800" y="1776960"/>
                <a:chExt cx="411120" cy="411120"/>
              </a:xfrm>
            </p:grpSpPr>
            <p:pic>
              <p:nvPicPr>
                <p:cNvPr id="308" name="grid2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847800" y="1776960"/>
                  <a:ext cx="411120" cy="411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012680" y="1900800"/>
                  <a:ext cx="207360" cy="246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10" name="qmark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046880" y="1935720"/>
                  <a:ext cx="187200" cy="190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311" name=""/>
              <p:cNvSpPr/>
              <p:nvPr/>
            </p:nvSpPr>
            <p:spPr>
              <a:xfrm>
                <a:off x="682920" y="2188080"/>
                <a:ext cx="7401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EcoGri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Que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682920" y="4932000"/>
              <a:ext cx="740160" cy="870120"/>
              <a:chOff x="682920" y="4932000"/>
              <a:chExt cx="740160" cy="8701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847800" y="4932000"/>
                <a:ext cx="411120" cy="411120"/>
                <a:chOff x="847800" y="4932000"/>
                <a:chExt cx="411120" cy="411120"/>
              </a:xfrm>
            </p:grpSpPr>
            <p:pic>
              <p:nvPicPr>
                <p:cNvPr id="314" name="grid2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47800" y="4932000"/>
                  <a:ext cx="411120" cy="411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5" name=""/>
                <p:cNvSpPr/>
                <p:nvPr/>
              </p:nvSpPr>
              <p:spPr>
                <a:xfrm>
                  <a:off x="1012680" y="5055840"/>
                  <a:ext cx="207360" cy="246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16" name="qmark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46880" y="5090760"/>
                  <a:ext cx="187200" cy="190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317" name=""/>
              <p:cNvSpPr/>
              <p:nvPr/>
            </p:nvSpPr>
            <p:spPr>
              <a:xfrm>
                <a:off x="682920" y="5343120"/>
                <a:ext cx="7401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EcoGri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Que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2661840" y="4932000"/>
              <a:ext cx="916920" cy="870120"/>
              <a:chOff x="2661840" y="4932000"/>
              <a:chExt cx="916920" cy="870120"/>
            </a:xfrm>
          </p:grpSpPr>
          <p:grpSp>
            <p:nvGrpSpPr>
              <p:cNvPr id="319" name=""/>
              <p:cNvGrpSpPr/>
              <p:nvPr/>
            </p:nvGrpSpPr>
            <p:grpSpPr>
              <a:xfrm>
                <a:off x="2915280" y="4932000"/>
                <a:ext cx="411120" cy="411120"/>
                <a:chOff x="2915280" y="4932000"/>
                <a:chExt cx="411120" cy="411120"/>
              </a:xfrm>
            </p:grpSpPr>
            <p:grpSp>
              <p:nvGrpSpPr>
                <p:cNvPr id="320" name=""/>
                <p:cNvGrpSpPr/>
                <p:nvPr/>
              </p:nvGrpSpPr>
              <p:grpSpPr>
                <a:xfrm>
                  <a:off x="2915280" y="4932000"/>
                  <a:ext cx="411120" cy="411120"/>
                  <a:chOff x="2915280" y="4932000"/>
                  <a:chExt cx="411120" cy="411120"/>
                </a:xfrm>
              </p:grpSpPr>
              <p:pic>
                <p:nvPicPr>
                  <p:cNvPr id="321" name="grid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15280" y="4932000"/>
                    <a:ext cx="4111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22" name=""/>
                  <p:cNvSpPr/>
                  <p:nvPr/>
                </p:nvSpPr>
                <p:spPr>
                  <a:xfrm>
                    <a:off x="2966400" y="4977360"/>
                    <a:ext cx="308160" cy="319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3" name=""/>
                <p:cNvGrpSpPr/>
                <p:nvPr/>
              </p:nvGrpSpPr>
              <p:grpSpPr>
                <a:xfrm>
                  <a:off x="2966400" y="4983120"/>
                  <a:ext cx="308160" cy="308160"/>
                  <a:chOff x="2966400" y="4983120"/>
                  <a:chExt cx="308160" cy="308160"/>
                </a:xfrm>
              </p:grpSpPr>
              <p:sp>
                <p:nvSpPr>
                  <p:cNvPr id="324" name=""/>
                  <p:cNvSpPr/>
                  <p:nvPr/>
                </p:nvSpPr>
                <p:spPr>
                  <a:xfrm>
                    <a:off x="2966400" y="4983120"/>
                    <a:ext cx="308160" cy="308160"/>
                  </a:xfrm>
                  <a:prstGeom prst="flowChartMultidocumen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25" name="grid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66400" y="5034240"/>
                    <a:ext cx="257040" cy="25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sp>
            <p:nvSpPr>
              <p:cNvPr id="326" name=""/>
              <p:cNvSpPr/>
              <p:nvPr/>
            </p:nvSpPr>
            <p:spPr>
              <a:xfrm>
                <a:off x="2661840" y="5343120"/>
                <a:ext cx="916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Lay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Integr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251080" y="3422880"/>
              <a:ext cx="916920" cy="871560"/>
              <a:chOff x="2251080" y="3422880"/>
              <a:chExt cx="916920" cy="8715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2503800" y="3422880"/>
                <a:ext cx="411480" cy="411480"/>
                <a:chOff x="2503800" y="3422880"/>
                <a:chExt cx="411480" cy="41148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2503800" y="3422880"/>
                  <a:ext cx="411480" cy="411480"/>
                  <a:chOff x="2503800" y="3422880"/>
                  <a:chExt cx="411480" cy="411480"/>
                </a:xfrm>
              </p:grpSpPr>
              <p:pic>
                <p:nvPicPr>
                  <p:cNvPr id="330" name="grid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503800" y="3422880"/>
                    <a:ext cx="411480" cy="4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31" name=""/>
                  <p:cNvSpPr/>
                  <p:nvPr/>
                </p:nvSpPr>
                <p:spPr>
                  <a:xfrm>
                    <a:off x="2555280" y="3468240"/>
                    <a:ext cx="308520" cy="320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555280" y="3474000"/>
                  <a:ext cx="308520" cy="308520"/>
                  <a:chOff x="2555280" y="3474000"/>
                  <a:chExt cx="308520" cy="30852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555280" y="3474000"/>
                    <a:ext cx="308520" cy="308520"/>
                  </a:xfrm>
                  <a:prstGeom prst="flowChartMultidocumen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34" name="grid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55280" y="3525480"/>
                    <a:ext cx="25704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sp>
            <p:nvSpPr>
              <p:cNvPr id="335" name=""/>
              <p:cNvSpPr/>
              <p:nvPr/>
            </p:nvSpPr>
            <p:spPr>
              <a:xfrm>
                <a:off x="2251080" y="3835440"/>
                <a:ext cx="916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Lay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Integr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32880" y="1776960"/>
              <a:ext cx="663840" cy="687600"/>
              <a:chOff x="2432880" y="1776960"/>
              <a:chExt cx="663840" cy="687600"/>
            </a:xfrm>
          </p:grpSpPr>
          <p:sp>
            <p:nvSpPr>
              <p:cNvPr id="337" name=""/>
              <p:cNvSpPr/>
              <p:nvPr/>
            </p:nvSpPr>
            <p:spPr>
              <a:xfrm>
                <a:off x="2432880" y="2188080"/>
                <a:ext cx="663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Samp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8" name=""/>
              <p:cNvGrpSpPr/>
              <p:nvPr/>
            </p:nvGrpSpPr>
            <p:grpSpPr>
              <a:xfrm>
                <a:off x="2515320" y="1776960"/>
                <a:ext cx="411480" cy="411120"/>
                <a:chOff x="2515320" y="1776960"/>
                <a:chExt cx="411480" cy="411120"/>
              </a:xfrm>
            </p:grpSpPr>
            <p:pic>
              <p:nvPicPr>
                <p:cNvPr id="339" name="grid2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2515320" y="1776960"/>
                  <a:ext cx="411480" cy="411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0" name=""/>
                <p:cNvSpPr/>
                <p:nvPr/>
              </p:nvSpPr>
              <p:spPr>
                <a:xfrm>
                  <a:off x="2566800" y="1822320"/>
                  <a:ext cx="308520" cy="3196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" name=""/>
              <p:cNvGrpSpPr/>
              <p:nvPr/>
            </p:nvGrpSpPr>
            <p:grpSpPr>
              <a:xfrm>
                <a:off x="2539080" y="1995480"/>
                <a:ext cx="339120" cy="215640"/>
                <a:chOff x="2539080" y="1995480"/>
                <a:chExt cx="339120" cy="21564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2594520" y="2043000"/>
                  <a:ext cx="170280" cy="4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" bIns="1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2539080" y="1995480"/>
                  <a:ext cx="3391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r>
                    <a:rPr b="1" lang="en-US" sz="800" spc="-1" strike="noStrike">
                      <a:solidFill>
                        <a:srgbClr val="000000"/>
                      </a:solidFill>
                      <a:latin typeface="Times New Roman"/>
                    </a:rPr>
                    <a:t>A3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" name=""/>
              <p:cNvGrpSpPr/>
              <p:nvPr/>
            </p:nvGrpSpPr>
            <p:grpSpPr>
              <a:xfrm>
                <a:off x="2640600" y="1926720"/>
                <a:ext cx="339120" cy="215640"/>
                <a:chOff x="2640600" y="1926720"/>
                <a:chExt cx="339120" cy="21564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2696040" y="1974240"/>
                  <a:ext cx="170280" cy="4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" bIns="1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2640600" y="1926720"/>
                  <a:ext cx="3391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r>
                    <a:rPr b="1" lang="en-US" sz="800" spc="-1" strike="noStrike">
                      <a:solidFill>
                        <a:srgbClr val="000000"/>
                      </a:solidFill>
                      <a:latin typeface="Times New Roman"/>
                    </a:rPr>
                    <a:t>A2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2539080" y="1776960"/>
                <a:ext cx="339120" cy="215640"/>
                <a:chOff x="2539080" y="1776960"/>
                <a:chExt cx="339120" cy="21564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2599560" y="1820160"/>
                  <a:ext cx="154080" cy="4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" bIns="1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2539080" y="1776960"/>
                  <a:ext cx="3391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r>
                    <a:rPr b="1" lang="en-US" sz="800" spc="-1" strike="noStrike">
                      <a:solidFill>
                        <a:srgbClr val="000000"/>
                      </a:solidFill>
                      <a:latin typeface="Times New Roman"/>
                    </a:rPr>
                    <a:t>A1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9" name=""/>
            <p:cNvGrpSpPr/>
            <p:nvPr/>
          </p:nvGrpSpPr>
          <p:grpSpPr>
            <a:xfrm>
              <a:off x="3828600" y="1776960"/>
              <a:ext cx="935280" cy="870120"/>
              <a:chOff x="3828600" y="1776960"/>
              <a:chExt cx="935280" cy="870120"/>
            </a:xfrm>
          </p:grpSpPr>
          <p:pic>
            <p:nvPicPr>
              <p:cNvPr id="350" name="calc0a" descr=""/>
              <p:cNvPicPr/>
              <p:nvPr/>
            </p:nvPicPr>
            <p:blipFill>
              <a:blip r:embed="rId10"/>
              <a:stretch/>
            </p:blipFill>
            <p:spPr>
              <a:xfrm>
                <a:off x="4095720" y="1776960"/>
                <a:ext cx="397080" cy="39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1" name=""/>
              <p:cNvSpPr/>
              <p:nvPr/>
            </p:nvSpPr>
            <p:spPr>
              <a:xfrm>
                <a:off x="3828600" y="2188080"/>
                <a:ext cx="9352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Calcul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5520600" y="1776960"/>
              <a:ext cx="485640" cy="687600"/>
              <a:chOff x="5520600" y="1776960"/>
              <a:chExt cx="485640" cy="687600"/>
            </a:xfrm>
          </p:grpSpPr>
          <p:grpSp>
            <p:nvGrpSpPr>
              <p:cNvPr id="353" name=""/>
              <p:cNvGrpSpPr/>
              <p:nvPr/>
            </p:nvGrpSpPr>
            <p:grpSpPr>
              <a:xfrm>
                <a:off x="5532840" y="1776960"/>
                <a:ext cx="410760" cy="411120"/>
                <a:chOff x="5532840" y="1776960"/>
                <a:chExt cx="410760" cy="411120"/>
              </a:xfrm>
            </p:grpSpPr>
            <p:grpSp>
              <p:nvGrpSpPr>
                <p:cNvPr id="354" name=""/>
                <p:cNvGrpSpPr/>
                <p:nvPr/>
              </p:nvGrpSpPr>
              <p:grpSpPr>
                <a:xfrm>
                  <a:off x="5532840" y="1776960"/>
                  <a:ext cx="410760" cy="411120"/>
                  <a:chOff x="5532840" y="1776960"/>
                  <a:chExt cx="410760" cy="411120"/>
                </a:xfrm>
              </p:grpSpPr>
              <p:pic>
                <p:nvPicPr>
                  <p:cNvPr id="355" name="grid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532840" y="1776960"/>
                    <a:ext cx="41076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56" name=""/>
                  <p:cNvSpPr/>
                  <p:nvPr/>
                </p:nvSpPr>
                <p:spPr>
                  <a:xfrm>
                    <a:off x="5583960" y="1822320"/>
                    <a:ext cx="307800" cy="319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357" name="globe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610600" y="1855080"/>
                  <a:ext cx="254520" cy="254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84" name=""/>
              <p:cNvSpPr/>
              <p:nvPr/>
            </p:nvSpPr>
            <p:spPr>
              <a:xfrm>
                <a:off x="5520600" y="2188080"/>
                <a:ext cx="485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Ma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6891480" y="1776960"/>
              <a:ext cx="867960" cy="687600"/>
              <a:chOff x="6891480" y="1776960"/>
              <a:chExt cx="867960" cy="687600"/>
            </a:xfrm>
          </p:grpSpPr>
          <p:grpSp>
            <p:nvGrpSpPr>
              <p:cNvPr id="359" name=""/>
              <p:cNvGrpSpPr/>
              <p:nvPr/>
            </p:nvGrpSpPr>
            <p:grpSpPr>
              <a:xfrm>
                <a:off x="7076160" y="1776960"/>
                <a:ext cx="411120" cy="411120"/>
                <a:chOff x="7076160" y="1776960"/>
                <a:chExt cx="411120" cy="411120"/>
              </a:xfrm>
            </p:grpSpPr>
            <p:grpSp>
              <p:nvGrpSpPr>
                <p:cNvPr id="360" name=""/>
                <p:cNvGrpSpPr/>
                <p:nvPr/>
              </p:nvGrpSpPr>
              <p:grpSpPr>
                <a:xfrm>
                  <a:off x="7076160" y="1776960"/>
                  <a:ext cx="411120" cy="411120"/>
                  <a:chOff x="7076160" y="1776960"/>
                  <a:chExt cx="411120" cy="411120"/>
                </a:xfrm>
              </p:grpSpPr>
              <p:pic>
                <p:nvPicPr>
                  <p:cNvPr id="361" name="grid2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076160" y="1776960"/>
                    <a:ext cx="4111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95" name=""/>
                  <p:cNvSpPr/>
                  <p:nvPr/>
                </p:nvSpPr>
                <p:spPr>
                  <a:xfrm>
                    <a:off x="7127280" y="1822320"/>
                    <a:ext cx="308160" cy="319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362" name="check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7127280" y="1879560"/>
                  <a:ext cx="308160" cy="2397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363" name=""/>
              <p:cNvSpPr/>
              <p:nvPr/>
            </p:nvSpPr>
            <p:spPr>
              <a:xfrm>
                <a:off x="6891480" y="2188080"/>
                <a:ext cx="867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Valid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4" name=""/>
            <p:cNvGrpSpPr/>
            <p:nvPr/>
          </p:nvGrpSpPr>
          <p:grpSpPr>
            <a:xfrm>
              <a:off x="6207480" y="3354840"/>
              <a:ext cx="483840" cy="687600"/>
              <a:chOff x="6207480" y="3354840"/>
              <a:chExt cx="483840" cy="687600"/>
            </a:xfrm>
          </p:grpSpPr>
          <p:grpSp>
            <p:nvGrpSpPr>
              <p:cNvPr id="365" name=""/>
              <p:cNvGrpSpPr/>
              <p:nvPr/>
            </p:nvGrpSpPr>
            <p:grpSpPr>
              <a:xfrm>
                <a:off x="6218640" y="3354840"/>
                <a:ext cx="411120" cy="411120"/>
                <a:chOff x="6218640" y="3354840"/>
                <a:chExt cx="411120" cy="411120"/>
              </a:xfrm>
            </p:grpSpPr>
            <p:grpSp>
              <p:nvGrpSpPr>
                <p:cNvPr id="366" name=""/>
                <p:cNvGrpSpPr/>
                <p:nvPr/>
              </p:nvGrpSpPr>
              <p:grpSpPr>
                <a:xfrm>
                  <a:off x="6218640" y="3354840"/>
                  <a:ext cx="411120" cy="411120"/>
                  <a:chOff x="6218640" y="3354840"/>
                  <a:chExt cx="411120" cy="411120"/>
                </a:xfrm>
              </p:grpSpPr>
              <p:pic>
                <p:nvPicPr>
                  <p:cNvPr id="367" name="grid2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218640" y="3354840"/>
                    <a:ext cx="4111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68" name=""/>
                  <p:cNvSpPr/>
                  <p:nvPr/>
                </p:nvSpPr>
                <p:spPr>
                  <a:xfrm>
                    <a:off x="6269760" y="3400200"/>
                    <a:ext cx="308160" cy="319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369" name="compute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6269760" y="3457440"/>
                  <a:ext cx="308160" cy="269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370" name=""/>
              <p:cNvSpPr/>
              <p:nvPr/>
            </p:nvSpPr>
            <p:spPr>
              <a:xfrm>
                <a:off x="6207480" y="3765960"/>
                <a:ext cx="483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Us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7302960" y="4932000"/>
              <a:ext cx="867960" cy="687600"/>
              <a:chOff x="7302960" y="4932000"/>
              <a:chExt cx="867960" cy="687600"/>
            </a:xfrm>
          </p:grpSpPr>
          <p:grpSp>
            <p:nvGrpSpPr>
              <p:cNvPr id="372" name=""/>
              <p:cNvGrpSpPr/>
              <p:nvPr/>
            </p:nvGrpSpPr>
            <p:grpSpPr>
              <a:xfrm>
                <a:off x="7487640" y="4932000"/>
                <a:ext cx="411120" cy="411120"/>
                <a:chOff x="7487640" y="4932000"/>
                <a:chExt cx="411120" cy="411120"/>
              </a:xfrm>
            </p:grpSpPr>
            <p:grpSp>
              <p:nvGrpSpPr>
                <p:cNvPr id="373" name=""/>
                <p:cNvGrpSpPr/>
                <p:nvPr/>
              </p:nvGrpSpPr>
              <p:grpSpPr>
                <a:xfrm>
                  <a:off x="7487640" y="4932000"/>
                  <a:ext cx="411120" cy="411120"/>
                  <a:chOff x="7487640" y="4932000"/>
                  <a:chExt cx="411120" cy="411120"/>
                </a:xfrm>
              </p:grpSpPr>
              <p:pic>
                <p:nvPicPr>
                  <p:cNvPr id="374" name="grid2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487640" y="4932000"/>
                    <a:ext cx="4111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75" name=""/>
                  <p:cNvSpPr/>
                  <p:nvPr/>
                </p:nvSpPr>
                <p:spPr>
                  <a:xfrm>
                    <a:off x="7538760" y="4977360"/>
                    <a:ext cx="308160" cy="319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376" name="check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538760" y="5034600"/>
                  <a:ext cx="308160" cy="2397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377" name=""/>
              <p:cNvSpPr/>
              <p:nvPr/>
            </p:nvSpPr>
            <p:spPr>
              <a:xfrm>
                <a:off x="7302960" y="5343120"/>
                <a:ext cx="867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Valid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4737240" y="4932000"/>
              <a:ext cx="485640" cy="687600"/>
              <a:chOff x="4737240" y="4932000"/>
              <a:chExt cx="485640" cy="687600"/>
            </a:xfrm>
          </p:grpSpPr>
          <p:grpSp>
            <p:nvGrpSpPr>
              <p:cNvPr id="379" name=""/>
              <p:cNvGrpSpPr/>
              <p:nvPr/>
            </p:nvGrpSpPr>
            <p:grpSpPr>
              <a:xfrm>
                <a:off x="4749840" y="4932000"/>
                <a:ext cx="411120" cy="411120"/>
                <a:chOff x="4749840" y="4932000"/>
                <a:chExt cx="411120" cy="411120"/>
              </a:xfrm>
            </p:grpSpPr>
            <p:grpSp>
              <p:nvGrpSpPr>
                <p:cNvPr id="380" name=""/>
                <p:cNvGrpSpPr/>
                <p:nvPr/>
              </p:nvGrpSpPr>
              <p:grpSpPr>
                <a:xfrm>
                  <a:off x="4749840" y="4932000"/>
                  <a:ext cx="411120" cy="411120"/>
                  <a:chOff x="4749840" y="4932000"/>
                  <a:chExt cx="411120" cy="411120"/>
                </a:xfrm>
              </p:grpSpPr>
              <p:pic>
                <p:nvPicPr>
                  <p:cNvPr id="381" name="grid2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749840" y="4932000"/>
                    <a:ext cx="4111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82" name=""/>
                  <p:cNvSpPr/>
                  <p:nvPr/>
                </p:nvSpPr>
                <p:spPr>
                  <a:xfrm>
                    <a:off x="4800960" y="4977360"/>
                    <a:ext cx="308160" cy="319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383" name="globe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4827960" y="5010120"/>
                  <a:ext cx="254880" cy="254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384" name=""/>
              <p:cNvSpPr/>
              <p:nvPr/>
            </p:nvSpPr>
            <p:spPr>
              <a:xfrm>
                <a:off x="4737240" y="5343120"/>
                <a:ext cx="485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Ma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5" name=""/>
            <p:cNvSpPr/>
            <p:nvPr/>
          </p:nvSpPr>
          <p:spPr>
            <a:xfrm>
              <a:off x="1472400" y="4863240"/>
              <a:ext cx="1137240" cy="70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SR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nvironmental layers (invasion area)  (b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901760" y="2943360"/>
              <a:ext cx="136800" cy="136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7" name=""/>
            <p:cNvCxnSpPr>
              <a:stCxn id="292" idx="2"/>
              <a:endCxn id="382" idx="0"/>
            </p:cNvCxnSpPr>
            <p:nvPr/>
          </p:nvCxnSpPr>
          <p:spPr>
            <a:xfrm flipV="1" rot="10800000">
              <a:off x="4955040" y="2202480"/>
              <a:ext cx="1080" cy="277524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8" name=""/>
            <p:cNvSpPr/>
            <p:nvPr/>
          </p:nvSpPr>
          <p:spPr>
            <a:xfrm>
              <a:off x="3598560" y="4932000"/>
              <a:ext cx="902880" cy="70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Integrat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layer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(invasion area) (c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98680" y="4932000"/>
              <a:ext cx="905760" cy="70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Invas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rea prediction map  (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644600" y="3491640"/>
              <a:ext cx="137160" cy="136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644600" y="3628800"/>
              <a:ext cx="137160" cy="13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644600" y="1914480"/>
              <a:ext cx="137160" cy="136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713360" y="1228680"/>
              <a:ext cx="0" cy="37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266480" y="885960"/>
              <a:ext cx="1234440" cy="70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iGIR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Species presence &amp;absence points (invasion area) (a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067440" y="1708920"/>
              <a:ext cx="754200" cy="70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ative range predic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map (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6" name=""/>
            <p:cNvCxnSpPr>
              <a:stCxn id="363" idx="2"/>
              <a:endCxn id="367" idx="3"/>
            </p:cNvCxnSpPr>
            <p:nvPr/>
          </p:nvCxnSpPr>
          <p:spPr>
            <a:xfrm rot="5400000">
              <a:off x="6392880" y="2671920"/>
              <a:ext cx="1125000" cy="65196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97" name=""/>
            <p:cNvSpPr/>
            <p:nvPr/>
          </p:nvSpPr>
          <p:spPr>
            <a:xfrm flipH="1" flipV="1">
              <a:off x="6684840" y="3902760"/>
              <a:ext cx="822960" cy="1028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776640" y="2599920"/>
              <a:ext cx="8985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Model qualit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arameter (g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81040" y="4109040"/>
              <a:ext cx="999720" cy="70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SR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nvironmental layers (nativ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ange)  (b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40920" y="4245840"/>
              <a:ext cx="8985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Model qualit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arameter (g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7691400" y="6400800"/>
            <a:ext cx="123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lide from D. Penning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1600" y="5979960"/>
            <a:ext cx="882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ientific workflows represent knowledge about the process; AMS captures this knowle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50560" y="198360"/>
            <a:ext cx="77900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ims of EcoGri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ich, Where, How, Who ???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 Data an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e Data from multiple projects/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walks across data stru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 Eco-related Finding Aids f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User: Authenticate and Author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 an infrastructure for “Archivable Collection-building” for SEEK scient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the A&amp;M layer and the SM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50560" y="198360"/>
            <a:ext cx="77900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llenges of EcoGri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&amp; User Diversit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5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datasets &amp; 1500+ scient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5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mes, methods, units,struct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5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mall data sizes but high complexity - meta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Data Organiz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5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odiversity Surve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5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pulation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5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IS, Satellite Images, Weather Data, 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tologies &amp; Taxonom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Discovery: No single place to fi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tropy –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decline of information on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nomy with Centralized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verage Computational Grid 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150560" y="198360"/>
            <a:ext cx="77900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ing serv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cat – syntactic and semantic metadata querying/inserting/updating/deleting, user registration/authentication, data replication, data/metadata versioning, - supports any XML-based meta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anthoria – common-schema mediator (currently 8 sites)  metadata query/insert/update/delete  for any XML schema to underlying metadatabase (SQL, native XM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50560" y="198360"/>
            <a:ext cx="77900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ing System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R – querying arbitrary XML-describable resources (underlying data sources can be any type: RDB, XMLDB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mDB – integrating (using wrapping at the data source)  diverse format climate data. Access through web, common schema identified beforehand – tabular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yperLTER – summary ontology as metadata for images put in as metadata, image extraction /geographicsubsetting/band-level subsetting/ - integration with MODIS images and Hyperspectral images, TM images, airphotos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50560" y="198360"/>
            <a:ext cx="77900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ing System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gBank – 3 databases co-occurrence records, species taxonomic database that is concept-driven, community classification. Distributed vegbank, querying by plots. Querying/insert/update/annotate across three diverse databases that are described using X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RB – access distributed data, syntactic, semantics,user-defined (arbitrary relational) metadata based querying. Annotations for data. Opertions on data. Extraction of metadata. ingest,bulk ingest, delete,upate of data/meta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198360"/>
            <a:ext cx="77900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EK EcoGri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9760" y="1117080"/>
            <a:ext cx="8621640" cy="50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ntegrate diverse data networks from ecology, biodiversity, and environmental science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rid-standardized interfac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tadata-mediated data access (EM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5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uer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5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5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rit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5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5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5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plic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utational acc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5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e-defined analytical servic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5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-the-fly analytical servic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272200" y="2387520"/>
            <a:ext cx="3108240" cy="31021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0560" y="198360"/>
            <a:ext cx="77900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coGrid Serv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9760" y="1117080"/>
            <a:ext cx="8621640" cy="50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5720" indent="-315720">
              <a:lnSpc>
                <a:spcPct val="90000"/>
              </a:lnSpc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Qu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7960" indent="-26280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55000"/>
              <a:buFont typeface="ZapfDingbat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Search metadata and data, return result sets with I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720" indent="-315720">
              <a:lnSpc>
                <a:spcPct val="90000"/>
              </a:lnSpc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7960" indent="-26280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55000"/>
              <a:buFont typeface="ZapfDingbat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Retrieve data objects by I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720" indent="-315720">
              <a:lnSpc>
                <a:spcPct val="90000"/>
              </a:lnSpc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7960" indent="-26280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55000"/>
              <a:buFont typeface="ZapfDingbat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Verify user ident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720" indent="-315720">
              <a:lnSpc>
                <a:spcPct val="90000"/>
              </a:lnSpc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7960" indent="-26280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55000"/>
              <a:buFont typeface="ZapfDingbat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Record allowable intera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720" indent="-315720">
              <a:lnSpc>
                <a:spcPct val="90000"/>
              </a:lnSpc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7960" indent="-26280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55000"/>
              <a:buFont typeface="ZapfDingbat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data objects by I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720" indent="-315720">
              <a:lnSpc>
                <a:spcPct val="90000"/>
              </a:lnSpc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7960" indent="-26280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55000"/>
              <a:buFont typeface="ZapfDingbat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rror objects for backup and effici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720" indent="-315720">
              <a:lnSpc>
                <a:spcPct val="90000"/>
              </a:lnSpc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7960" indent="-26280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55000"/>
              <a:buFont typeface="ZapfDingbat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ecute models and simulations from AMS on various no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452760" y="947880"/>
            <a:ext cx="5465880" cy="5489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454560" y="947880"/>
            <a:ext cx="5465520" cy="54892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198360"/>
            <a:ext cx="77900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coGrid client interact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9760" y="1117080"/>
            <a:ext cx="8621640" cy="50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des of intera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5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-serv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5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lly distribu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5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er-to-pe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coGrid Regis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5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de discove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5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ice discove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ion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5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entralized acc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5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5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ta preserv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7221600" cy="44118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920" y="198000"/>
            <a:ext cx="7794720" cy="5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Building the EcoGri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397160" y="3124080"/>
            <a:ext cx="0" cy="304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748800" y="3684600"/>
            <a:ext cx="287640" cy="890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57280" y="3105000"/>
            <a:ext cx="528480" cy="781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600200" y="3760920"/>
            <a:ext cx="165744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3438000" y="4105440"/>
            <a:ext cx="11160" cy="676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65400" y="2119320"/>
            <a:ext cx="1387440" cy="1319040"/>
          </a:xfrm>
          <a:prstGeom prst="line">
            <a:avLst/>
          </a:prstGeom>
          <a:ln w="507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549440" y="1457280"/>
            <a:ext cx="639720" cy="588960"/>
            <a:chOff x="1549440" y="1457280"/>
            <a:chExt cx="639720" cy="588960"/>
          </a:xfrm>
        </p:grpSpPr>
        <p:sp>
          <p:nvSpPr>
            <p:cNvPr id="111" name=""/>
            <p:cNvSpPr/>
            <p:nvPr/>
          </p:nvSpPr>
          <p:spPr>
            <a:xfrm>
              <a:off x="1549440" y="1457280"/>
              <a:ext cx="639720" cy="588960"/>
            </a:xfrm>
            <a:prstGeom prst="roundRect">
              <a:avLst>
                <a:gd name="adj" fmla="val 269"/>
              </a:avLst>
            </a:prstGeom>
            <a:solidFill>
              <a:srgbClr val="d7dcf1"/>
            </a:solidFill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2040" y="1582200"/>
              <a:ext cx="619560" cy="337320"/>
            </a:xfrm>
            <a:prstGeom prst="rect">
              <a:avLst/>
            </a:prstGeom>
            <a:solidFill>
              <a:srgbClr val="d7dc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c1c1c"/>
                  </a:solidFill>
                  <a:latin typeface="Times New Roman"/>
                  <a:ea typeface="HG Mincho Light J"/>
                </a:rPr>
                <a:t>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1546200" y="2046240"/>
            <a:ext cx="649440" cy="131760"/>
          </a:xfrm>
          <a:prstGeom prst="roundRect">
            <a:avLst>
              <a:gd name="adj" fmla="val 121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429000" y="1924200"/>
            <a:ext cx="1486080" cy="1504800"/>
          </a:xfrm>
          <a:prstGeom prst="line">
            <a:avLst/>
          </a:prstGeom>
          <a:ln w="507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781440" y="2448000"/>
            <a:ext cx="4495680" cy="1324080"/>
          </a:xfrm>
          <a:prstGeom prst="line">
            <a:avLst/>
          </a:prstGeom>
          <a:ln w="507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76720" y="2952720"/>
            <a:ext cx="1390680" cy="647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762000" y="3753000"/>
            <a:ext cx="2181240" cy="1123920"/>
          </a:xfrm>
          <a:prstGeom prst="line">
            <a:avLst/>
          </a:prstGeom>
          <a:ln w="507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945040" y="4932360"/>
            <a:ext cx="640080" cy="588960"/>
            <a:chOff x="5945040" y="4932360"/>
            <a:chExt cx="640080" cy="588960"/>
          </a:xfrm>
        </p:grpSpPr>
        <p:sp>
          <p:nvSpPr>
            <p:cNvPr id="119" name=""/>
            <p:cNvSpPr/>
            <p:nvPr/>
          </p:nvSpPr>
          <p:spPr>
            <a:xfrm>
              <a:off x="5945040" y="4932360"/>
              <a:ext cx="640080" cy="588960"/>
            </a:xfrm>
            <a:prstGeom prst="roundRect">
              <a:avLst>
                <a:gd name="adj" fmla="val 269"/>
              </a:avLst>
            </a:prstGeom>
            <a:solidFill>
              <a:srgbClr val="d7dcf1"/>
            </a:solidFill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955120" y="5057280"/>
              <a:ext cx="619560" cy="337320"/>
            </a:xfrm>
            <a:prstGeom prst="rect">
              <a:avLst/>
            </a:prstGeom>
            <a:solidFill>
              <a:srgbClr val="d7dc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c1c1c"/>
                  </a:solidFill>
                  <a:latin typeface="Times New Roman"/>
                  <a:ea typeface="HG Mincho Light J"/>
                </a:rPr>
                <a:t>LU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5943600" y="4800600"/>
            <a:ext cx="647640" cy="131760"/>
          </a:xfrm>
          <a:prstGeom prst="roundRect">
            <a:avLst>
              <a:gd name="adj" fmla="val 121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343640" y="3514680"/>
            <a:ext cx="648000" cy="131760"/>
          </a:xfrm>
          <a:prstGeom prst="roundRect">
            <a:avLst>
              <a:gd name="adj" fmla="val 121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66200" y="1743120"/>
            <a:ext cx="639720" cy="588960"/>
            <a:chOff x="7666200" y="1743120"/>
            <a:chExt cx="639720" cy="588960"/>
          </a:xfrm>
        </p:grpSpPr>
        <p:sp>
          <p:nvSpPr>
            <p:cNvPr id="124" name=""/>
            <p:cNvSpPr/>
            <p:nvPr/>
          </p:nvSpPr>
          <p:spPr>
            <a:xfrm>
              <a:off x="7666200" y="1743120"/>
              <a:ext cx="639720" cy="588960"/>
            </a:xfrm>
            <a:prstGeom prst="roundRect">
              <a:avLst>
                <a:gd name="adj" fmla="val 269"/>
              </a:avLst>
            </a:prstGeom>
            <a:solidFill>
              <a:srgbClr val="d7dcf1"/>
            </a:solidFill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75920" y="1868040"/>
              <a:ext cx="619560" cy="337320"/>
            </a:xfrm>
            <a:prstGeom prst="rect">
              <a:avLst/>
            </a:prstGeom>
            <a:solidFill>
              <a:srgbClr val="d7dc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c1c1c"/>
                  </a:solidFill>
                  <a:latin typeface="Times New Roman"/>
                  <a:ea typeface="HG Mincho Light J"/>
                </a:rPr>
                <a:t>HB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7664400" y="2332080"/>
            <a:ext cx="647640" cy="131760"/>
          </a:xfrm>
          <a:prstGeom prst="roundRect">
            <a:avLst>
              <a:gd name="adj" fmla="val 121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894200" y="1295280"/>
            <a:ext cx="639720" cy="588960"/>
            <a:chOff x="4894200" y="1295280"/>
            <a:chExt cx="639720" cy="588960"/>
          </a:xfrm>
        </p:grpSpPr>
        <p:sp>
          <p:nvSpPr>
            <p:cNvPr id="128" name=""/>
            <p:cNvSpPr/>
            <p:nvPr/>
          </p:nvSpPr>
          <p:spPr>
            <a:xfrm>
              <a:off x="4894200" y="1295280"/>
              <a:ext cx="639720" cy="588960"/>
            </a:xfrm>
            <a:prstGeom prst="roundRect">
              <a:avLst>
                <a:gd name="adj" fmla="val 269"/>
              </a:avLst>
            </a:prstGeom>
            <a:solidFill>
              <a:srgbClr val="d7dcf1"/>
            </a:solidFill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915800" y="1420200"/>
              <a:ext cx="598320" cy="337320"/>
            </a:xfrm>
            <a:prstGeom prst="rect">
              <a:avLst/>
            </a:prstGeom>
            <a:solidFill>
              <a:srgbClr val="d7dc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c1c1c"/>
                  </a:solidFill>
                  <a:latin typeface="Times New Roman"/>
                  <a:ea typeface="HG Mincho Light J"/>
                </a:rPr>
                <a:t>NT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4892760" y="1884240"/>
            <a:ext cx="647640" cy="131760"/>
          </a:xfrm>
          <a:prstGeom prst="roundRect">
            <a:avLst>
              <a:gd name="adj" fmla="val 121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39640" y="2028960"/>
            <a:ext cx="330480" cy="3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01680" y="6396120"/>
            <a:ext cx="316080" cy="340920"/>
            <a:chOff x="2101680" y="6396120"/>
            <a:chExt cx="316080" cy="340920"/>
          </a:xfrm>
        </p:grpSpPr>
        <p:grpSp>
          <p:nvGrpSpPr>
            <p:cNvPr id="133" name=""/>
            <p:cNvGrpSpPr/>
            <p:nvPr/>
          </p:nvGrpSpPr>
          <p:grpSpPr>
            <a:xfrm>
              <a:off x="2102760" y="6400440"/>
              <a:ext cx="312120" cy="336600"/>
              <a:chOff x="2102760" y="6400440"/>
              <a:chExt cx="312120" cy="336600"/>
            </a:xfrm>
          </p:grpSpPr>
          <p:sp>
            <p:nvSpPr>
              <p:cNvPr id="134" name=""/>
              <p:cNvSpPr/>
              <p:nvPr/>
            </p:nvSpPr>
            <p:spPr>
              <a:xfrm>
                <a:off x="2102760" y="6449040"/>
                <a:ext cx="312120" cy="238680"/>
              </a:xfrm>
              <a:prstGeom prst="roundRect">
                <a:avLst>
                  <a:gd name="adj" fmla="val 269"/>
                </a:avLst>
              </a:prstGeom>
              <a:solidFill>
                <a:srgbClr val="d7dcf1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167920" y="6400440"/>
                <a:ext cx="181800" cy="336600"/>
              </a:xfrm>
              <a:prstGeom prst="rect">
                <a:avLst/>
              </a:prstGeom>
              <a:solidFill>
                <a:srgbClr val="d7d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2101680" y="6396120"/>
              <a:ext cx="316080" cy="52920"/>
            </a:xfrm>
            <a:prstGeom prst="roundRect">
              <a:avLst>
                <a:gd name="adj" fmla="val 1218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615240" y="5718240"/>
            <a:ext cx="127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tacat n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429280" y="6354720"/>
            <a:ext cx="139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gacy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415400" y="5626080"/>
            <a:ext cx="469188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TER Network (24)           Natural History Collections (&gt;&gt; 2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rganization of Biological Field Stations (18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C Natural Reserve System (3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tnership for Interdisciplinary Studies of Coastal Oceans (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ulti-agency Rocky Intertidal Network (6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2280" y="5638680"/>
            <a:ext cx="38768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1930320" y="3714840"/>
            <a:ext cx="1222560" cy="658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763640" y="3813120"/>
            <a:ext cx="250920" cy="646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714680" y="2914560"/>
            <a:ext cx="2761920" cy="857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26400" y="5719680"/>
            <a:ext cx="10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RB n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27480" y="6006960"/>
            <a:ext cx="117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GIR n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03200" y="4444920"/>
            <a:ext cx="776160" cy="774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1023840" y="2368440"/>
            <a:ext cx="776520" cy="774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166680" y="2368440"/>
            <a:ext cx="776160" cy="774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5"/>
          <a:stretch/>
        </p:blipFill>
        <p:spPr>
          <a:xfrm>
            <a:off x="441360" y="1301760"/>
            <a:ext cx="776160" cy="7747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6"/>
          <a:stretch/>
        </p:blipFill>
        <p:spPr>
          <a:xfrm>
            <a:off x="1585800" y="4321080"/>
            <a:ext cx="776520" cy="77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7"/>
          <a:stretch/>
        </p:blipFill>
        <p:spPr>
          <a:xfrm>
            <a:off x="3052800" y="3378240"/>
            <a:ext cx="776160" cy="7747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8"/>
          <a:stretch/>
        </p:blipFill>
        <p:spPr>
          <a:xfrm>
            <a:off x="6377040" y="3244680"/>
            <a:ext cx="776160" cy="7747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9"/>
          <a:stretch/>
        </p:blipFill>
        <p:spPr>
          <a:xfrm>
            <a:off x="3033720" y="4530600"/>
            <a:ext cx="776160" cy="7747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 flipV="1">
            <a:off x="3762360" y="3009600"/>
            <a:ext cx="3610080" cy="762120"/>
          </a:xfrm>
          <a:prstGeom prst="line">
            <a:avLst/>
          </a:prstGeom>
          <a:ln w="507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0"/>
          <a:stretch/>
        </p:blipFill>
        <p:spPr>
          <a:xfrm>
            <a:off x="4414680" y="2549520"/>
            <a:ext cx="776520" cy="774720"/>
          </a:xfrm>
          <a:prstGeom prst="rect">
            <a:avLst/>
          </a:prstGeom>
          <a:ln w="0">
            <a:noFill/>
          </a:ln>
        </p:spPr>
      </p:pic>
      <p:grpSp>
        <p:nvGrpSpPr>
          <p:cNvPr id="156" name=""/>
          <p:cNvGrpSpPr/>
          <p:nvPr/>
        </p:nvGrpSpPr>
        <p:grpSpPr>
          <a:xfrm>
            <a:off x="7345440" y="2925720"/>
            <a:ext cx="639720" cy="588960"/>
            <a:chOff x="7345440" y="2925720"/>
            <a:chExt cx="639720" cy="588960"/>
          </a:xfrm>
        </p:grpSpPr>
        <p:sp>
          <p:nvSpPr>
            <p:cNvPr id="157" name=""/>
            <p:cNvSpPr/>
            <p:nvPr/>
          </p:nvSpPr>
          <p:spPr>
            <a:xfrm>
              <a:off x="7345440" y="2925720"/>
              <a:ext cx="639720" cy="588960"/>
            </a:xfrm>
            <a:prstGeom prst="roundRect">
              <a:avLst>
                <a:gd name="adj" fmla="val 269"/>
              </a:avLst>
            </a:prstGeom>
            <a:solidFill>
              <a:srgbClr val="d7dcf1"/>
            </a:solidFill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356240" y="3050640"/>
              <a:ext cx="619560" cy="337320"/>
            </a:xfrm>
            <a:prstGeom prst="rect">
              <a:avLst/>
            </a:prstGeom>
            <a:solidFill>
              <a:srgbClr val="d7dc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c1c1c"/>
                  </a:solidFill>
                  <a:latin typeface="Times New Roman"/>
                  <a:ea typeface="HG Mincho Light J"/>
                </a:rPr>
                <a:t>VC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9" name="" descr=""/>
          <p:cNvPicPr/>
          <p:nvPr/>
        </p:nvPicPr>
        <p:blipFill>
          <a:blip r:embed="rId11"/>
          <a:stretch/>
        </p:blipFill>
        <p:spPr>
          <a:xfrm>
            <a:off x="220680" y="5767560"/>
            <a:ext cx="371520" cy="8254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2"/>
          <a:stretch/>
        </p:blipFill>
        <p:spPr>
          <a:xfrm>
            <a:off x="2082960" y="5767560"/>
            <a:ext cx="371160" cy="5317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613440" y="6000840"/>
            <a:ext cx="139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gBank n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13800" y="6299280"/>
            <a:ext cx="143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anthoria n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376280" y="3016080"/>
            <a:ext cx="495360" cy="374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3"/>
          <a:stretch/>
        </p:blipFill>
        <p:spPr>
          <a:xfrm>
            <a:off x="1820880" y="2681280"/>
            <a:ext cx="785880" cy="784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4"/>
          <a:stretch/>
        </p:blipFill>
        <p:spPr>
          <a:xfrm>
            <a:off x="985680" y="3387600"/>
            <a:ext cx="776520" cy="7747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198360"/>
            <a:ext cx="77900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mantics for Scienc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29760" y="1117080"/>
            <a:ext cx="8621640" cy="50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tologies provide domain contex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 directly to data via EML, and to analytical workflow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 logic engines for discovery and integr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558720" y="2381400"/>
            <a:ext cx="8080560" cy="4190400"/>
            <a:chOff x="558720" y="2381400"/>
            <a:chExt cx="8080560" cy="4190400"/>
          </a:xfrm>
        </p:grpSpPr>
        <p:sp>
          <p:nvSpPr>
            <p:cNvPr id="169" name=""/>
            <p:cNvSpPr/>
            <p:nvPr/>
          </p:nvSpPr>
          <p:spPr>
            <a:xfrm>
              <a:off x="559800" y="4133880"/>
              <a:ext cx="116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levation (m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8720" y="3143160"/>
              <a:ext cx="176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Vegetation cover typ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886440" y="4133880"/>
              <a:ext cx="17528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, juniper, 2200m, 16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, pinyon, 2320m, 14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, creosote, 1535m, 22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996640" y="2381400"/>
              <a:ext cx="3572280" cy="3961800"/>
              <a:chOff x="2996640" y="2381400"/>
              <a:chExt cx="3572280" cy="3961800"/>
            </a:xfrm>
          </p:grpSpPr>
          <p:grpSp>
            <p:nvGrpSpPr>
              <p:cNvPr id="173" name=""/>
              <p:cNvGrpSpPr/>
              <p:nvPr/>
            </p:nvGrpSpPr>
            <p:grpSpPr>
              <a:xfrm>
                <a:off x="3000240" y="5600160"/>
                <a:ext cx="2839320" cy="743040"/>
                <a:chOff x="3000240" y="5600160"/>
                <a:chExt cx="2839320" cy="74304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3000240" y="5600520"/>
                  <a:ext cx="2839320" cy="742680"/>
                </a:xfrm>
                <a:prstGeom prst="parallelogram">
                  <a:avLst>
                    <a:gd name="adj" fmla="val 95577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flipV="1">
                  <a:off x="3241800" y="5600160"/>
                  <a:ext cx="664200" cy="74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flipV="1">
                  <a:off x="3483360" y="5600160"/>
                  <a:ext cx="664200" cy="74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flipV="1">
                  <a:off x="3724920" y="5600160"/>
                  <a:ext cx="664560" cy="74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flipV="1">
                  <a:off x="3966840" y="5600160"/>
                  <a:ext cx="664200" cy="74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flipV="1">
                  <a:off x="4208400" y="5600160"/>
                  <a:ext cx="664200" cy="74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V="1">
                  <a:off x="4449960" y="5600160"/>
                  <a:ext cx="664560" cy="74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V="1">
                  <a:off x="4691520" y="5600160"/>
                  <a:ext cx="664200" cy="74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flipV="1">
                  <a:off x="4933440" y="5600160"/>
                  <a:ext cx="664200" cy="74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604320" y="5724000"/>
                  <a:ext cx="2113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3483360" y="5848200"/>
                  <a:ext cx="2113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362400" y="5971680"/>
                  <a:ext cx="2114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3241800" y="6095520"/>
                  <a:ext cx="2113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121200" y="6219360"/>
                  <a:ext cx="2113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3060720" y="4733280"/>
                <a:ext cx="2839320" cy="743040"/>
                <a:chOff x="3060720" y="4733280"/>
                <a:chExt cx="2839320" cy="74304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3060720" y="4733640"/>
                  <a:ext cx="2839320" cy="742680"/>
                </a:xfrm>
                <a:prstGeom prst="parallelogram">
                  <a:avLst>
                    <a:gd name="adj" fmla="val 95577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 flipV="1">
                  <a:off x="3302280" y="4733280"/>
                  <a:ext cx="664200" cy="74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 flipV="1">
                  <a:off x="3543840" y="4733280"/>
                  <a:ext cx="664200" cy="74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flipV="1">
                  <a:off x="3785400" y="4733280"/>
                  <a:ext cx="664560" cy="74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 flipV="1">
                  <a:off x="4027320" y="4733280"/>
                  <a:ext cx="664200" cy="74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 flipV="1">
                  <a:off x="4268880" y="4733280"/>
                  <a:ext cx="664200" cy="74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 flipV="1">
                  <a:off x="4510440" y="4733280"/>
                  <a:ext cx="664560" cy="74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flipV="1">
                  <a:off x="4752000" y="4733280"/>
                  <a:ext cx="664200" cy="74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flipV="1">
                  <a:off x="4993920" y="4733280"/>
                  <a:ext cx="664200" cy="74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3664800" y="4857120"/>
                  <a:ext cx="2113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3543840" y="4981320"/>
                  <a:ext cx="2113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3422880" y="5104800"/>
                  <a:ext cx="2114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3302280" y="5228640"/>
                  <a:ext cx="2113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3181680" y="5352480"/>
                  <a:ext cx="2113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3060720" y="3866760"/>
                <a:ext cx="2839320" cy="743040"/>
                <a:chOff x="3060720" y="3866760"/>
                <a:chExt cx="2839320" cy="74304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3060720" y="3867120"/>
                  <a:ext cx="2839320" cy="742680"/>
                </a:xfrm>
                <a:prstGeom prst="parallelogram">
                  <a:avLst>
                    <a:gd name="adj" fmla="val 95577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flipV="1">
                  <a:off x="3302280" y="3866760"/>
                  <a:ext cx="664200" cy="74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V="1">
                  <a:off x="3543840" y="3866760"/>
                  <a:ext cx="664200" cy="74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V="1">
                  <a:off x="3785400" y="3866760"/>
                  <a:ext cx="664560" cy="74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V="1">
                  <a:off x="4027320" y="3866760"/>
                  <a:ext cx="664200" cy="74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V="1">
                  <a:off x="4268880" y="3866760"/>
                  <a:ext cx="664200" cy="74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V="1">
                  <a:off x="4510440" y="3866760"/>
                  <a:ext cx="664560" cy="74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V="1">
                  <a:off x="4752000" y="3866760"/>
                  <a:ext cx="664200" cy="74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flipV="1">
                  <a:off x="4993920" y="3866760"/>
                  <a:ext cx="664200" cy="74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3664800" y="3990600"/>
                  <a:ext cx="2113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3543840" y="4114800"/>
                  <a:ext cx="2113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3422880" y="4238280"/>
                  <a:ext cx="2114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3302280" y="4362120"/>
                  <a:ext cx="2113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3181680" y="4485960"/>
                  <a:ext cx="2113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8" name=""/>
              <p:cNvSpPr/>
              <p:nvPr/>
            </p:nvSpPr>
            <p:spPr>
              <a:xfrm>
                <a:off x="2996640" y="2381400"/>
                <a:ext cx="2242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ample 1, lat, long, presenc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385520" y="2754000"/>
                <a:ext cx="2183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ample 3, lat, long, absenc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966840" y="2628720"/>
                <a:ext cx="0" cy="154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31400" y="3619440"/>
                <a:ext cx="0" cy="433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235480" y="3000240"/>
                <a:ext cx="0" cy="1424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966840" y="4610160"/>
                <a:ext cx="0" cy="433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966840" y="5476680"/>
                <a:ext cx="0" cy="433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631400" y="4610160"/>
                <a:ext cx="0" cy="309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631400" y="5476680"/>
                <a:ext cx="0" cy="309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235480" y="4548240"/>
                <a:ext cx="0" cy="742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235480" y="5414760"/>
                <a:ext cx="0" cy="742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781440" y="3371760"/>
                <a:ext cx="224280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ample 2, lat, long, presenc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558720" y="5352840"/>
              <a:ext cx="229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ean annual temperature (C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2390760" y="5962680"/>
              <a:ext cx="838080" cy="75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238480" y="504828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390760" y="3752640"/>
              <a:ext cx="91440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324800" y="2685960"/>
              <a:ext cx="1009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ccess Fi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399680" y="2381400"/>
              <a:ext cx="91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xcel Fi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314440" y="253368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314440" y="2914560"/>
              <a:ext cx="1524240" cy="609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14640" y="2838240"/>
              <a:ext cx="15264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314440" y="2838240"/>
              <a:ext cx="2057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200640" y="2381400"/>
              <a:ext cx="381240" cy="4038480"/>
            </a:xfrm>
            <a:custGeom>
              <a:avLst/>
              <a:gdLst>
                <a:gd name="textAreaLeft" fmla="*/ 0 w 381240"/>
                <a:gd name="textAreaRight" fmla="*/ 267480 w 381240"/>
                <a:gd name="textAreaTop" fmla="*/ 168120 h 4038480"/>
                <a:gd name="textAreaBottom" fmla="*/ 3870360 h 403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581880" y="4286160"/>
              <a:ext cx="304560" cy="3045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1324080" y="4438440"/>
              <a:ext cx="761760" cy="838080"/>
              <a:chOff x="1324080" y="4438440"/>
              <a:chExt cx="761760" cy="838080"/>
            </a:xfrm>
          </p:grpSpPr>
          <p:pic>
            <p:nvPicPr>
              <p:cNvPr id="243" name="NAmer" descr=""/>
              <p:cNvPicPr/>
              <p:nvPr/>
            </p:nvPicPr>
            <p:blipFill>
              <a:blip r:embed="rId1"/>
              <a:srcRect l="22222" t="52834" r="33333" b="10870"/>
              <a:stretch/>
            </p:blipFill>
            <p:spPr>
              <a:xfrm>
                <a:off x="1324080" y="4438440"/>
                <a:ext cx="761760" cy="83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4" name=""/>
              <p:cNvSpPr/>
              <p:nvPr/>
            </p:nvSpPr>
            <p:spPr>
              <a:xfrm>
                <a:off x="1324080" y="4438440"/>
                <a:ext cx="761760" cy="838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1019160" y="5657760"/>
              <a:ext cx="1371600" cy="914040"/>
              <a:chOff x="1019160" y="5657760"/>
              <a:chExt cx="1371600" cy="914040"/>
            </a:xfrm>
          </p:grpSpPr>
          <p:pic>
            <p:nvPicPr>
              <p:cNvPr id="246" name="americas" descr=""/>
              <p:cNvPicPr/>
              <p:nvPr/>
            </p:nvPicPr>
            <p:blipFill>
              <a:blip r:embed="rId2"/>
              <a:srcRect l="42710" t="27129" r="39585" b="55710"/>
              <a:stretch/>
            </p:blipFill>
            <p:spPr>
              <a:xfrm>
                <a:off x="1095480" y="5657760"/>
                <a:ext cx="1295280" cy="914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7" name=""/>
              <p:cNvSpPr/>
              <p:nvPr/>
            </p:nvSpPr>
            <p:spPr>
              <a:xfrm>
                <a:off x="1019160" y="5657760"/>
                <a:ext cx="914400" cy="164520"/>
              </a:xfrm>
              <a:custGeom>
                <a:avLst/>
                <a:gdLst/>
                <a:ahLst/>
                <a:rect l="l" t="t" r="r" b="b"/>
                <a:pathLst>
                  <a:path w="576" h="104">
                    <a:moveTo>
                      <a:pt x="0" y="96"/>
                    </a:moveTo>
                    <a:cubicBezTo>
                      <a:pt x="8" y="96"/>
                      <a:pt x="16" y="96"/>
                      <a:pt x="48" y="96"/>
                    </a:cubicBezTo>
                    <a:cubicBezTo>
                      <a:pt x="80" y="96"/>
                      <a:pt x="128" y="104"/>
                      <a:pt x="192" y="96"/>
                    </a:cubicBezTo>
                    <a:cubicBezTo>
                      <a:pt x="256" y="88"/>
                      <a:pt x="368" y="64"/>
                      <a:pt x="432" y="48"/>
                    </a:cubicBezTo>
                    <a:cubicBezTo>
                      <a:pt x="496" y="32"/>
                      <a:pt x="536" y="16"/>
                      <a:pt x="5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095480" y="5733360"/>
                <a:ext cx="1219320" cy="469800"/>
              </a:xfrm>
              <a:custGeom>
                <a:avLst/>
                <a:gdLst/>
                <a:ahLst/>
                <a:rect l="l" t="t" r="r" b="b"/>
                <a:pathLst>
                  <a:path w="768" h="296">
                    <a:moveTo>
                      <a:pt x="0" y="192"/>
                    </a:moveTo>
                    <a:cubicBezTo>
                      <a:pt x="88" y="236"/>
                      <a:pt x="176" y="280"/>
                      <a:pt x="240" y="288"/>
                    </a:cubicBezTo>
                    <a:cubicBezTo>
                      <a:pt x="304" y="296"/>
                      <a:pt x="344" y="272"/>
                      <a:pt x="384" y="240"/>
                    </a:cubicBezTo>
                    <a:cubicBezTo>
                      <a:pt x="424" y="208"/>
                      <a:pt x="440" y="128"/>
                      <a:pt x="480" y="96"/>
                    </a:cubicBezTo>
                    <a:cubicBezTo>
                      <a:pt x="520" y="64"/>
                      <a:pt x="576" y="64"/>
                      <a:pt x="624" y="48"/>
                    </a:cubicBezTo>
                    <a:cubicBezTo>
                      <a:pt x="672" y="32"/>
                      <a:pt x="720" y="16"/>
                      <a:pt x="76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629000" y="6038280"/>
                <a:ext cx="685800" cy="456840"/>
              </a:xfrm>
              <a:custGeom>
                <a:avLst/>
                <a:gdLst/>
                <a:ahLst/>
                <a:rect l="l" t="t" r="r" b="b"/>
                <a:pathLst>
                  <a:path w="432" h="288">
                    <a:moveTo>
                      <a:pt x="0" y="288"/>
                    </a:moveTo>
                    <a:cubicBezTo>
                      <a:pt x="92" y="284"/>
                      <a:pt x="184" y="280"/>
                      <a:pt x="240" y="240"/>
                    </a:cubicBezTo>
                    <a:cubicBezTo>
                      <a:pt x="296" y="200"/>
                      <a:pt x="304" y="88"/>
                      <a:pt x="336" y="48"/>
                    </a:cubicBezTo>
                    <a:cubicBezTo>
                      <a:pt x="368" y="8"/>
                      <a:pt x="400" y="4"/>
                      <a:pt x="43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019160" y="5657760"/>
                <a:ext cx="1371600" cy="914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1095480" y="3448080"/>
              <a:ext cx="1218960" cy="697680"/>
              <a:chOff x="1095480" y="3448080"/>
              <a:chExt cx="1218960" cy="69768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1095480" y="3448080"/>
                <a:ext cx="1204920" cy="697680"/>
                <a:chOff x="1095480" y="3448080"/>
                <a:chExt cx="1204920" cy="697680"/>
              </a:xfrm>
            </p:grpSpPr>
            <p:pic>
              <p:nvPicPr>
                <p:cNvPr id="253" name="NAmer" descr=""/>
                <p:cNvPicPr/>
                <p:nvPr/>
              </p:nvPicPr>
              <p:blipFill>
                <a:blip r:embed="rId3"/>
                <a:srcRect l="0" t="42283" r="0" b="16239"/>
                <a:stretch/>
              </p:blipFill>
              <p:spPr>
                <a:xfrm>
                  <a:off x="1095480" y="3448080"/>
                  <a:ext cx="1204920" cy="672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4" name=""/>
                <p:cNvSpPr/>
                <p:nvPr/>
              </p:nvSpPr>
              <p:spPr>
                <a:xfrm>
                  <a:off x="1279440" y="3448080"/>
                  <a:ext cx="152640" cy="342360"/>
                </a:xfrm>
                <a:custGeom>
                  <a:avLst/>
                  <a:gdLst/>
                  <a:ahLst/>
                  <a:rect l="l" t="t" r="r" b="b"/>
                  <a:pathLst>
                    <a:path w="96" h="248">
                      <a:moveTo>
                        <a:pt x="48" y="32"/>
                      </a:moveTo>
                      <a:cubicBezTo>
                        <a:pt x="40" y="40"/>
                        <a:pt x="56" y="56"/>
                        <a:pt x="48" y="80"/>
                      </a:cubicBezTo>
                      <a:cubicBezTo>
                        <a:pt x="40" y="104"/>
                        <a:pt x="0" y="152"/>
                        <a:pt x="0" y="176"/>
                      </a:cubicBezTo>
                      <a:cubicBezTo>
                        <a:pt x="0" y="200"/>
                        <a:pt x="32" y="248"/>
                        <a:pt x="48" y="224"/>
                      </a:cubicBezTo>
                      <a:cubicBezTo>
                        <a:pt x="64" y="200"/>
                        <a:pt x="96" y="64"/>
                        <a:pt x="96" y="32"/>
                      </a:cubicBezTo>
                      <a:cubicBezTo>
                        <a:pt x="96" y="0"/>
                        <a:pt x="56" y="24"/>
                        <a:pt x="48" y="3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1355760" y="3676320"/>
                  <a:ext cx="317520" cy="240840"/>
                </a:xfrm>
                <a:custGeom>
                  <a:avLst/>
                  <a:gdLst/>
                  <a:ahLst/>
                  <a:rect l="l" t="t" r="r" b="b"/>
                  <a:pathLst>
                    <a:path w="200" h="152">
                      <a:moveTo>
                        <a:pt x="0" y="48"/>
                      </a:moveTo>
                      <a:cubicBezTo>
                        <a:pt x="0" y="32"/>
                        <a:pt x="24" y="0"/>
                        <a:pt x="48" y="0"/>
                      </a:cubicBezTo>
                      <a:cubicBezTo>
                        <a:pt x="72" y="0"/>
                        <a:pt x="120" y="32"/>
                        <a:pt x="144" y="48"/>
                      </a:cubicBezTo>
                      <a:cubicBezTo>
                        <a:pt x="168" y="64"/>
                        <a:pt x="184" y="80"/>
                        <a:pt x="192" y="96"/>
                      </a:cubicBezTo>
                      <a:cubicBezTo>
                        <a:pt x="200" y="112"/>
                        <a:pt x="200" y="136"/>
                        <a:pt x="192" y="144"/>
                      </a:cubicBezTo>
                      <a:cubicBezTo>
                        <a:pt x="184" y="152"/>
                        <a:pt x="160" y="152"/>
                        <a:pt x="144" y="144"/>
                      </a:cubicBezTo>
                      <a:cubicBezTo>
                        <a:pt x="128" y="136"/>
                        <a:pt x="112" y="104"/>
                        <a:pt x="96" y="96"/>
                      </a:cubicBezTo>
                      <a:cubicBezTo>
                        <a:pt x="80" y="88"/>
                        <a:pt x="64" y="104"/>
                        <a:pt x="48" y="96"/>
                      </a:cubicBezTo>
                      <a:cubicBezTo>
                        <a:pt x="32" y="88"/>
                        <a:pt x="0" y="64"/>
                        <a:pt x="0" y="48"/>
                      </a:cubicBezTo>
                      <a:close/>
                    </a:path>
                  </a:pathLst>
                </a:custGeom>
                <a:solidFill>
                  <a:srgbClr val="b2b2b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1432080" y="3816000"/>
                  <a:ext cx="304560" cy="266400"/>
                </a:xfrm>
                <a:custGeom>
                  <a:avLst/>
                  <a:gdLst/>
                  <a:ahLst/>
                  <a:rect l="l" t="t" r="r" b="b"/>
                  <a:pathLst>
                    <a:path w="192" h="168">
                      <a:moveTo>
                        <a:pt x="0" y="8"/>
                      </a:moveTo>
                      <a:cubicBezTo>
                        <a:pt x="12" y="4"/>
                        <a:pt x="24" y="0"/>
                        <a:pt x="48" y="8"/>
                      </a:cubicBezTo>
                      <a:cubicBezTo>
                        <a:pt x="72" y="16"/>
                        <a:pt x="120" y="32"/>
                        <a:pt x="144" y="56"/>
                      </a:cubicBezTo>
                      <a:cubicBezTo>
                        <a:pt x="168" y="80"/>
                        <a:pt x="192" y="136"/>
                        <a:pt x="192" y="152"/>
                      </a:cubicBezTo>
                      <a:cubicBezTo>
                        <a:pt x="192" y="168"/>
                        <a:pt x="160" y="152"/>
                        <a:pt x="144" y="152"/>
                      </a:cubicBezTo>
                      <a:cubicBezTo>
                        <a:pt x="128" y="152"/>
                        <a:pt x="120" y="168"/>
                        <a:pt x="96" y="152"/>
                      </a:cubicBezTo>
                      <a:cubicBezTo>
                        <a:pt x="72" y="136"/>
                        <a:pt x="36" y="96"/>
                        <a:pt x="0" y="56"/>
                      </a:cubicBezTo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1355760" y="3448080"/>
                  <a:ext cx="406440" cy="329760"/>
                </a:xfrm>
                <a:custGeom>
                  <a:avLst/>
                  <a:gdLst/>
                  <a:ahLst/>
                  <a:rect l="l" t="t" r="r" b="b"/>
                  <a:pathLst>
                    <a:path w="256" h="208">
                      <a:moveTo>
                        <a:pt x="48" y="0"/>
                      </a:moveTo>
                      <a:cubicBezTo>
                        <a:pt x="52" y="12"/>
                        <a:pt x="56" y="24"/>
                        <a:pt x="48" y="48"/>
                      </a:cubicBezTo>
                      <a:cubicBezTo>
                        <a:pt x="40" y="72"/>
                        <a:pt x="0" y="120"/>
                        <a:pt x="0" y="144"/>
                      </a:cubicBezTo>
                      <a:cubicBezTo>
                        <a:pt x="0" y="168"/>
                        <a:pt x="24" y="184"/>
                        <a:pt x="48" y="192"/>
                      </a:cubicBezTo>
                      <a:cubicBezTo>
                        <a:pt x="72" y="200"/>
                        <a:pt x="112" y="192"/>
                        <a:pt x="144" y="192"/>
                      </a:cubicBezTo>
                      <a:cubicBezTo>
                        <a:pt x="176" y="192"/>
                        <a:pt x="224" y="208"/>
                        <a:pt x="240" y="192"/>
                      </a:cubicBezTo>
                      <a:cubicBezTo>
                        <a:pt x="256" y="176"/>
                        <a:pt x="248" y="120"/>
                        <a:pt x="240" y="96"/>
                      </a:cubicBezTo>
                      <a:cubicBezTo>
                        <a:pt x="232" y="72"/>
                        <a:pt x="216" y="64"/>
                        <a:pt x="192" y="48"/>
                      </a:cubicBezTo>
                      <a:cubicBezTo>
                        <a:pt x="168" y="32"/>
                        <a:pt x="120" y="0"/>
                        <a:pt x="96" y="0"/>
                      </a:cubicBezTo>
                      <a:cubicBezTo>
                        <a:pt x="72" y="0"/>
                        <a:pt x="60" y="24"/>
                        <a:pt x="48" y="48"/>
                      </a:cubicBezTo>
                    </a:path>
                  </a:pathLst>
                </a:custGeom>
                <a:blipFill rotWithShape="0">
                  <a:blip r:embed="rId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84360" y="3448080"/>
                  <a:ext cx="393480" cy="532800"/>
                </a:xfrm>
                <a:custGeom>
                  <a:avLst/>
                  <a:gdLst/>
                  <a:ahLst/>
                  <a:rect l="l" t="t" r="r" b="b"/>
                  <a:pathLst>
                    <a:path w="248" h="336">
                      <a:moveTo>
                        <a:pt x="96" y="336"/>
                      </a:moveTo>
                      <a:cubicBezTo>
                        <a:pt x="80" y="324"/>
                        <a:pt x="64" y="312"/>
                        <a:pt x="48" y="288"/>
                      </a:cubicBezTo>
                      <a:cubicBezTo>
                        <a:pt x="32" y="264"/>
                        <a:pt x="0" y="208"/>
                        <a:pt x="0" y="192"/>
                      </a:cubicBezTo>
                      <a:cubicBezTo>
                        <a:pt x="0" y="176"/>
                        <a:pt x="32" y="200"/>
                        <a:pt x="48" y="192"/>
                      </a:cubicBezTo>
                      <a:cubicBezTo>
                        <a:pt x="64" y="184"/>
                        <a:pt x="88" y="160"/>
                        <a:pt x="96" y="144"/>
                      </a:cubicBezTo>
                      <a:cubicBezTo>
                        <a:pt x="104" y="128"/>
                        <a:pt x="104" y="112"/>
                        <a:pt x="96" y="96"/>
                      </a:cubicBezTo>
                      <a:cubicBezTo>
                        <a:pt x="88" y="80"/>
                        <a:pt x="48" y="64"/>
                        <a:pt x="48" y="48"/>
                      </a:cubicBezTo>
                      <a:cubicBezTo>
                        <a:pt x="48" y="32"/>
                        <a:pt x="72" y="0"/>
                        <a:pt x="96" y="0"/>
                      </a:cubicBezTo>
                      <a:cubicBezTo>
                        <a:pt x="120" y="0"/>
                        <a:pt x="168" y="32"/>
                        <a:pt x="192" y="48"/>
                      </a:cubicBezTo>
                      <a:cubicBezTo>
                        <a:pt x="216" y="64"/>
                        <a:pt x="232" y="72"/>
                        <a:pt x="240" y="96"/>
                      </a:cubicBezTo>
                      <a:cubicBezTo>
                        <a:pt x="248" y="120"/>
                        <a:pt x="248" y="168"/>
                        <a:pt x="240" y="192"/>
                      </a:cubicBezTo>
                      <a:cubicBezTo>
                        <a:pt x="232" y="216"/>
                        <a:pt x="208" y="224"/>
                        <a:pt x="192" y="240"/>
                      </a:cubicBezTo>
                      <a:cubicBezTo>
                        <a:pt x="176" y="256"/>
                        <a:pt x="168" y="280"/>
                        <a:pt x="144" y="288"/>
                      </a:cubicBezTo>
                      <a:cubicBezTo>
                        <a:pt x="120" y="296"/>
                        <a:pt x="84" y="292"/>
                        <a:pt x="48" y="288"/>
                      </a:cubicBezTo>
                    </a:path>
                  </a:pathLst>
                </a:cu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812960" y="3739680"/>
                  <a:ext cx="228600" cy="177480"/>
                </a:xfrm>
                <a:custGeom>
                  <a:avLst/>
                  <a:gdLst/>
                  <a:ahLst/>
                  <a:rect l="l" t="t" r="r" b="b"/>
                  <a:pathLst>
                    <a:path w="144" h="112">
                      <a:moveTo>
                        <a:pt x="0" y="104"/>
                      </a:moveTo>
                      <a:cubicBezTo>
                        <a:pt x="16" y="108"/>
                        <a:pt x="32" y="112"/>
                        <a:pt x="48" y="104"/>
                      </a:cubicBezTo>
                      <a:cubicBezTo>
                        <a:pt x="64" y="96"/>
                        <a:pt x="88" y="56"/>
                        <a:pt x="96" y="56"/>
                      </a:cubicBezTo>
                      <a:cubicBezTo>
                        <a:pt x="104" y="56"/>
                        <a:pt x="96" y="104"/>
                        <a:pt x="96" y="104"/>
                      </a:cubicBezTo>
                      <a:cubicBezTo>
                        <a:pt x="96" y="104"/>
                        <a:pt x="88" y="72"/>
                        <a:pt x="96" y="56"/>
                      </a:cubicBezTo>
                      <a:cubicBezTo>
                        <a:pt x="104" y="40"/>
                        <a:pt x="144" y="16"/>
                        <a:pt x="144" y="8"/>
                      </a:cubicBezTo>
                      <a:cubicBezTo>
                        <a:pt x="144" y="0"/>
                        <a:pt x="120" y="0"/>
                        <a:pt x="96" y="8"/>
                      </a:cubicBezTo>
                      <a:cubicBezTo>
                        <a:pt x="72" y="16"/>
                        <a:pt x="8" y="48"/>
                        <a:pt x="0" y="56"/>
                      </a:cubicBez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1952640" y="3498480"/>
                  <a:ext cx="165240" cy="279000"/>
                </a:xfrm>
                <a:custGeom>
                  <a:avLst/>
                  <a:gdLst/>
                  <a:ahLst/>
                  <a:rect l="l" t="t" r="r" b="b"/>
                  <a:pathLst>
                    <a:path w="104" h="176">
                      <a:moveTo>
                        <a:pt x="56" y="160"/>
                      </a:moveTo>
                      <a:cubicBezTo>
                        <a:pt x="48" y="168"/>
                        <a:pt x="16" y="176"/>
                        <a:pt x="8" y="160"/>
                      </a:cubicBezTo>
                      <a:cubicBezTo>
                        <a:pt x="0" y="144"/>
                        <a:pt x="0" y="88"/>
                        <a:pt x="8" y="64"/>
                      </a:cubicBezTo>
                      <a:cubicBezTo>
                        <a:pt x="16" y="40"/>
                        <a:pt x="40" y="24"/>
                        <a:pt x="56" y="16"/>
                      </a:cubicBezTo>
                      <a:cubicBezTo>
                        <a:pt x="72" y="8"/>
                        <a:pt x="104" y="0"/>
                        <a:pt x="104" y="16"/>
                      </a:cubicBezTo>
                      <a:cubicBezTo>
                        <a:pt x="104" y="32"/>
                        <a:pt x="64" y="88"/>
                        <a:pt x="56" y="112"/>
                      </a:cubicBezTo>
                      <a:cubicBezTo>
                        <a:pt x="48" y="136"/>
                        <a:pt x="64" y="152"/>
                        <a:pt x="56" y="160"/>
                      </a:cubicBezTo>
                      <a:close/>
                    </a:path>
                  </a:pathLst>
                </a:custGeom>
                <a:solidFill>
                  <a:srgbClr val="b2b2b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1558800" y="4044600"/>
                  <a:ext cx="203400" cy="101160"/>
                </a:xfrm>
                <a:custGeom>
                  <a:avLst/>
                  <a:gdLst/>
                  <a:ahLst/>
                  <a:rect l="l" t="t" r="r" b="b"/>
                  <a:pathLst>
                    <a:path w="128" h="64">
                      <a:moveTo>
                        <a:pt x="16" y="8"/>
                      </a:moveTo>
                      <a:cubicBezTo>
                        <a:pt x="0" y="16"/>
                        <a:pt x="0" y="48"/>
                        <a:pt x="16" y="56"/>
                      </a:cubicBezTo>
                      <a:cubicBezTo>
                        <a:pt x="32" y="64"/>
                        <a:pt x="96" y="64"/>
                        <a:pt x="112" y="56"/>
                      </a:cubicBezTo>
                      <a:cubicBezTo>
                        <a:pt x="128" y="48"/>
                        <a:pt x="128" y="16"/>
                        <a:pt x="112" y="8"/>
                      </a:cubicBezTo>
                      <a:cubicBezTo>
                        <a:pt x="96" y="0"/>
                        <a:pt x="32" y="0"/>
                        <a:pt x="16" y="8"/>
                      </a:cubicBezTo>
                      <a:close/>
                    </a:path>
                  </a:pathLst>
                </a:custGeom>
                <a:blipFill rotWithShape="0">
                  <a:blip r:embed="rId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2" name=""/>
              <p:cNvSpPr/>
              <p:nvPr/>
            </p:nvSpPr>
            <p:spPr>
              <a:xfrm>
                <a:off x="1095480" y="3448080"/>
                <a:ext cx="1218960" cy="685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6868080" y="3687840"/>
              <a:ext cx="142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tegrated data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198360"/>
            <a:ext cx="77900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cological ontologi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29760" y="1117080"/>
            <a:ext cx="8621640" cy="50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was measured (e.g., biomas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of measurement (e.g., Energ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ext of measurement (e.g.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sychotria limonensi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it was measured (e.g., dry weigh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146160" y="3316320"/>
            <a:ext cx="8802720" cy="29257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329760" y="1117080"/>
            <a:ext cx="8621640" cy="50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bel data with semantic typ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bel inputs and outputs of analytical components with semantic typ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 reasoning engines to generate transformation step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5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ware analytical constrain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 reasoning engine to discover relevant compon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403280" y="2712960"/>
            <a:ext cx="6145200" cy="206064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2"/>
          <p:cNvSpPr>
            <a:spLocks noGrp="1"/>
          </p:cNvSpPr>
          <p:nvPr>
            <p:ph type="title"/>
          </p:nvPr>
        </p:nvSpPr>
        <p:spPr>
          <a:xfrm>
            <a:off x="1150560" y="198360"/>
            <a:ext cx="77900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mantic Type Label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1438920" y="2082960"/>
            <a:ext cx="57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279600" y="20829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Ont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915160" y="2082960"/>
            <a:ext cx="209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Workflow 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181320" y="2571840"/>
            <a:ext cx="2400480" cy="131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198360"/>
            <a:ext cx="77900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workflow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75" name="Multi-data-pipeline-2" descr=""/>
          <p:cNvPicPr/>
          <p:nvPr/>
        </p:nvPicPr>
        <p:blipFill>
          <a:blip r:embed="rId1"/>
          <a:stretch/>
        </p:blipFill>
        <p:spPr>
          <a:xfrm>
            <a:off x="685800" y="1150920"/>
            <a:ext cx="7772400" cy="499428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-155880" y="5977080"/>
            <a:ext cx="940392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ahoma"/>
              </a:rPr>
              <a:t>EML provides semi-automated data bindi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cientific workflows represent knowledge about the process; AMS captures this knowledg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tt Jones</cp:lastModifiedBy>
  <dcterms:modified xsi:type="dcterms:W3CDTF">2003-10-22T15:05:52Z</dcterms:modified>
  <cp:revision>65</cp:revision>
  <dc:subject/>
  <dc:title>Ecological Metadata Language (EML)</dc:title>
</cp:coreProperties>
</file>