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10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Arial"/>
            </a:endParaRPr>
          </a:p>
        </p:txBody>
      </p:sp>
      <p:sp>
        <p:nvSpPr>
          <p:cNvPr id="103"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Arial"/>
            </a:endParaRPr>
          </a:p>
        </p:txBody>
      </p:sp>
      <p:sp>
        <p:nvSpPr>
          <p:cNvPr id="10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move the slide</a:t>
            </a:r>
            <a:endParaRPr b="0" lang="en-US" sz="4400" spc="-1" strike="noStrike">
              <a:solidFill>
                <a:srgbClr val="ffcc66"/>
              </a:solidFill>
              <a:latin typeface="Times New Roman"/>
            </a:endParaRPr>
          </a:p>
        </p:txBody>
      </p:sp>
      <p:sp>
        <p:nvSpPr>
          <p:cNvPr id="10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6"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Arial"/>
            </a:endParaRPr>
          </a:p>
        </p:txBody>
      </p:sp>
      <p:sp>
        <p:nvSpPr>
          <p:cNvPr id="107"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795F65-ACD8-42E7-9FE2-1E622F2A1BA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stands for Metadata Catalo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verall goal of KNB project is to create the Knowledge Network for Biocomplexity.  This is a network of scientists, sharing and integrating data to create and test theory in ecology and its sister fields.  This network not only is composed of the computer infrastructure (of which metacat is a part) but also the people, institutions and ideas that make up the ecological commun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is one of the three main software components of the KNB.  The other software components that we are developing include the aforementioned xml metadata standard and a desktop data manager called morpho, which can interface with metac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is network database storage system which stores any well-formed XML document(Schema-independ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nge of ecological data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utonomy refers to the fact that most ecological researchers are independent of any major oversight institution.  Even when researchers are under an umbrella of some institution, the institutions are not colaborative…that is they don’t subscribe to any single set of governing ru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nother characteristic of ecological research sites is that they are very spatially disperse.  They also have varying degress of conectivity to the outside world.  Some research sites may have a 56 K modem for a data connection, other may have a T3 line, still others may have no data conne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ith so many different researchers and no data collection or storage standard, the biggest problem that metacat attempts to solve is that of data heterogeneity.  Heterogeneous data makes it nearly impossible for any re-use or synthesis of data set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is essentially, a front end to an rdbms which facilitates the storage, searching and retrieval of XML docu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can store any well-formed xml docu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also can store any data file (text or binary) into server file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a document is in the database, it can be queried with Xpath type string matching expres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input and output is done through the servlet in XML.  The xml can be automatically transformed using an XSLT stylesheet if the user or client requires a different output form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also contains a built in document based replication scheme which allows metacats in different locations to share documents and provide a persistent data collection across multiple si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many users accessing metacat, keeping tabs on who can access what becomes important.  Metacat allows user and document level access control and authentication. Authentication is performed via a plugin to an existing authentication mechanism such as LDAP.  Document access control is performed by metacat and is controlled by the document ow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most ecological researchers and sites do not have the money to spend on additional software, we have kept metacat free of any commercial software licences.  Metacat itself and all of the tools it uses are GPLed and freely available and distributable.  The one exception to this is the backend database.  If a site chooses to use a commercial RDBMS (like Oracle or MS SQLServer) they must provide a license, however, Metacat has been tested with several free database systems including MySQL and PostgreSQ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B86055-60FC-4F97-BD03-0E674C14B7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9EA254-A535-48C9-8E2F-9E4191895B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802902-6416-44EE-AAC7-8232EA203C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D8181D-BCBB-43BB-8381-84B50BF228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346764D-34E5-4E4E-A141-C2AF29B8B36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345558-E6C1-492C-94E1-989ED8E10E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985739-DF93-4CDD-BCDE-771870B18E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F44B68-AAA5-4E2E-9F09-984EB4F051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4A7135-2179-47EF-91D3-AC401836AC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46E371-4A6E-40C4-9BA7-FA0EF49441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92AE21-74A2-4D5D-83EE-A9E37410E2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D12896-698F-4E73-AA0C-354D5E117D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A9FC9D-045F-4A98-B024-8DD1ABB53C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ACBC2F-C61C-44D6-AC5E-B221A0A668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335475-2638-4B14-9A20-83ED4EAF26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05A2FB0-E52C-4733-A956-F25FDB872E3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A8F7B70-F0F2-4EE9-9733-A724786E55F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CD95D1-9093-435C-8C97-0605E5B836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130B56-D2CB-4AA4-A63D-1E9350BC09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4E34CB-265E-4FBE-B5C3-A526659245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9D5E02-568A-4685-B824-62467A13E4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86BD0F-D1D0-42AB-9A88-0A35274CFD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FAF9A4-EC48-4DAA-B796-E72AD11E57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42D81F-5499-475E-AF67-4E218220EC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grpSp>
        <p:nvGrpSpPr>
          <p:cNvPr id="0" name=""/>
          <p:cNvGrpSpPr/>
          <p:nvPr/>
        </p:nvGrpSpPr>
        <p:grpSpPr>
          <a:xfrm>
            <a:off x="-9360" y="-20520"/>
            <a:ext cx="9153360" cy="6878520"/>
            <a:chOff x="-9360" y="-20520"/>
            <a:chExt cx="9153360" cy="6878520"/>
          </a:xfrm>
        </p:grpSpPr>
        <p:sp>
          <p:nvSpPr>
            <p:cNvPr id="1"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Arial"/>
              </a:endParaRPr>
            </a:p>
          </p:txBody>
        </p:sp>
        <p:sp>
          <p:nvSpPr>
            <p:cNvPr id="3"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4"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6"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7"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8"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9"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1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1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1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6B5F7C-0567-4245-90E5-BFD0DC4A342A}"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grpSp>
        <p:nvGrpSpPr>
          <p:cNvPr id="51" name=""/>
          <p:cNvGrpSpPr/>
          <p:nvPr/>
        </p:nvGrpSpPr>
        <p:grpSpPr>
          <a:xfrm>
            <a:off x="-9360" y="-20520"/>
            <a:ext cx="9153360" cy="6878520"/>
            <a:chOff x="-9360" y="-20520"/>
            <a:chExt cx="9153360" cy="6878520"/>
          </a:xfrm>
        </p:grpSpPr>
        <p:sp>
          <p:nvSpPr>
            <p:cNvPr id="52"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3"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Arial"/>
              </a:endParaRPr>
            </a:p>
          </p:txBody>
        </p:sp>
        <p:sp>
          <p:nvSpPr>
            <p:cNvPr id="54"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5"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6"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7"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8"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9"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60"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1" name="PlaceHolder 1"/>
          <p:cNvSpPr>
            <a:spLocks noGrp="1"/>
          </p:cNvSpPr>
          <p:nvPr>
            <p:ph type="title"/>
          </p:nvPr>
        </p:nvSpPr>
        <p:spPr>
          <a:xfrm>
            <a:off x="685800" y="2057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6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6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6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151833-4CC9-4AD3-A987-1E96ADA06C39}"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etacat (</a:t>
            </a:r>
            <a:r>
              <a:rPr b="0" i="1" lang="en-US" sz="4400" spc="-1" strike="noStrike">
                <a:solidFill>
                  <a:srgbClr val="ffcc66"/>
                </a:solidFill>
                <a:latin typeface="Times New Roman"/>
              </a:rPr>
              <a:t>Meta</a:t>
            </a:r>
            <a:r>
              <a:rPr b="0" lang="en-US" sz="4400" spc="-1" strike="noStrike">
                <a:solidFill>
                  <a:srgbClr val="ffcc66"/>
                </a:solidFill>
                <a:latin typeface="Times New Roman"/>
              </a:rPr>
              <a:t>data </a:t>
            </a:r>
            <a:r>
              <a:rPr b="0" i="1" lang="en-US" sz="4400" spc="-1" strike="noStrike">
                <a:solidFill>
                  <a:srgbClr val="ffcc66"/>
                </a:solidFill>
                <a:latin typeface="Times New Roman"/>
              </a:rPr>
              <a:t>Cat</a:t>
            </a:r>
            <a:r>
              <a:rPr b="0" lang="en-US" sz="4400" spc="-1" strike="noStrike">
                <a:solidFill>
                  <a:srgbClr val="ffcc66"/>
                </a:solidFill>
                <a:latin typeface="Times New Roman"/>
              </a:rPr>
              <a:t>alog)</a:t>
            </a:r>
            <a:endParaRPr b="0" lang="en-US" sz="4400" spc="-1" strike="noStrike">
              <a:solidFill>
                <a:srgbClr val="ffcc66"/>
              </a:solidFill>
              <a:latin typeface="Times New Roman"/>
            </a:endParaRPr>
          </a:p>
        </p:txBody>
      </p:sp>
      <p:sp>
        <p:nvSpPr>
          <p:cNvPr id="1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ey component of the Knowledge Network for Biocomplexity (KNB) Project</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chema-Independent XML Database System</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ddresses the three challenges of ecological  data management</a:t>
            </a:r>
            <a:endParaRPr b="0" lang="en-US" sz="28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ostly independent researchers with their own database systems (</a:t>
            </a:r>
            <a:r>
              <a:rPr b="1" lang="en-US" sz="2400" spc="-1" strike="noStrike">
                <a:solidFill>
                  <a:srgbClr val="ffffff"/>
                </a:solidFill>
                <a:latin typeface="Times New Roman"/>
              </a:rPr>
              <a:t>autonomy</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cated in all parts of the country and world (</a:t>
            </a:r>
            <a:r>
              <a:rPr b="1" lang="en-US" sz="2400" spc="-1" strike="noStrike">
                <a:solidFill>
                  <a:srgbClr val="ffffff"/>
                </a:solidFill>
                <a:latin typeface="Times New Roman"/>
              </a:rPr>
              <a:t>dispersion</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calized data collection and storage protocols (</a:t>
            </a:r>
            <a:r>
              <a:rPr b="1" lang="en-US" sz="2400" spc="-1" strike="noStrike">
                <a:solidFill>
                  <a:srgbClr val="ffffff"/>
                </a:solidFill>
                <a:latin typeface="Times New Roman"/>
              </a:rPr>
              <a:t>heterogeneity</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etacat Key Features</a:t>
            </a:r>
            <a:endParaRPr b="0" lang="en-US" sz="4400" spc="-1" strike="noStrike">
              <a:solidFill>
                <a:srgbClr val="ffcc66"/>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8000"/>
          </a:bodyPr>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ores any well-formed XML document in DB</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ores any data file into file system</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Java servlet front-end to any JDBC/SQL92 Compliant RDBMS (PostgreSQL, Oracle, MS SQLServer, …)</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XPath type queries of stored XML documents</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XML input and output</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utomatic XSL transformations of stored XML</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uilt in replication scheme</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ocument and user level access control</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ll open source, off-the-shelf tool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11T15:12:53Z</dcterms:created>
  <dc:creator>Chad Berkley</dc:creator>
  <dc:description/>
  <dc:language>en-US</dc:language>
  <cp:lastModifiedBy>Jing Tao</cp:lastModifiedBy>
  <dcterms:modified xsi:type="dcterms:W3CDTF">2004-12-10T22:39:35Z</dcterms:modified>
  <cp:revision>74</cp:revision>
  <dc:subject/>
  <dc:title>Metacat: a Schema-Independent XML Database System</dc:title>
</cp:coreProperties>
</file>