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04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99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297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04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99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98360"/>
            <a:ext cx="77900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504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9960" y="111708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97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504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9960" y="3761640"/>
            <a:ext cx="277596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50560" y="198360"/>
            <a:ext cx="779004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7680" y="376164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680" y="1117080"/>
            <a:ext cx="420732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760" y="3761640"/>
            <a:ext cx="8621640" cy="24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0" y="853920"/>
            <a:ext cx="8226360" cy="3204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74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74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74"/>
              </a:spcBef>
              <a:buClr>
                <a:srgbClr val="ffcf01"/>
              </a:buClr>
              <a:buSzPct val="55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74"/>
              </a:spcBef>
              <a:buClr>
                <a:srgbClr val="ffcf01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5400" cy="1049400"/>
            <a:chOff x="0" y="2438280"/>
            <a:chExt cx="9005400" cy="1049400"/>
          </a:xfrm>
        </p:grpSpPr>
        <p:grpSp>
          <p:nvGrpSpPr>
            <p:cNvPr id="40" name=""/>
            <p:cNvGrpSpPr/>
            <p:nvPr/>
          </p:nvGrpSpPr>
          <p:grpSpPr>
            <a:xfrm>
              <a:off x="290160" y="2545920"/>
              <a:ext cx="707400" cy="470520"/>
              <a:chOff x="290160" y="2545920"/>
              <a:chExt cx="707400" cy="470520"/>
            </a:xfrm>
          </p:grpSpPr>
          <p:sp>
            <p:nvSpPr>
              <p:cNvPr id="41" name=""/>
              <p:cNvSpPr/>
              <p:nvPr/>
            </p:nvSpPr>
            <p:spPr>
              <a:xfrm>
                <a:off x="290160" y="2545920"/>
                <a:ext cx="436680" cy="470520"/>
              </a:xfrm>
              <a:custGeom>
                <a:avLst/>
                <a:gdLst>
                  <a:gd name="textAreaLeft" fmla="*/ 360 w 436680"/>
                  <a:gd name="textAreaRight" fmla="*/ 436320 w 43668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3272">
                    <a:moveTo>
                      <a:pt x="78" y="0"/>
                    </a:moveTo>
                    <a:arcTo wR="78" hR="78" stAng="16200000" swAng="-5400000"/>
                    <a:lnTo>
                      <a:pt x="0" y="23194"/>
                    </a:lnTo>
                    <a:arcTo wR="78" hR="78" stAng="10800000" swAng="-5400000"/>
                    <a:lnTo>
                      <a:pt x="21522" y="23272"/>
                    </a:lnTo>
                    <a:arcTo wR="78" hR="78" stAng="5400000" swAng="-5400000"/>
                    <a:lnTo>
                      <a:pt x="21600" y="78"/>
                    </a:lnTo>
                    <a:arcTo wR="78" hR="78" stAng="0" swAng="-5400000"/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69960" y="2545920"/>
                <a:ext cx="327600" cy="470520"/>
              </a:xfrm>
              <a:custGeom>
                <a:avLst/>
                <a:gdLst>
                  <a:gd name="textAreaLeft" fmla="*/ 360 w 327600"/>
                  <a:gd name="textAreaRight" fmla="*/ 327240 w 32760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31013">
                    <a:moveTo>
                      <a:pt x="104" y="0"/>
                    </a:moveTo>
                    <a:arcTo wR="104" hR="104" stAng="16200000" swAng="-5400000"/>
                    <a:lnTo>
                      <a:pt x="0" y="30909"/>
                    </a:lnTo>
                    <a:arcTo wR="104" hR="104" stAng="10800000" swAng="-5400000"/>
                    <a:lnTo>
                      <a:pt x="21496" y="31013"/>
                    </a:lnTo>
                    <a:arcTo wR="104" hR="104" stAng="5400000" swAng="-5400000"/>
                    <a:lnTo>
                      <a:pt x="21600" y="104"/>
                    </a:lnTo>
                    <a:arcTo wR="104" hR="104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000" y="2967480"/>
              <a:ext cx="734400" cy="470520"/>
              <a:chOff x="414000" y="2967480"/>
              <a:chExt cx="734400" cy="470520"/>
            </a:xfrm>
          </p:grpSpPr>
          <p:sp>
            <p:nvSpPr>
              <p:cNvPr id="44" name=""/>
              <p:cNvSpPr/>
              <p:nvPr/>
            </p:nvSpPr>
            <p:spPr>
              <a:xfrm>
                <a:off x="414000" y="2967480"/>
                <a:ext cx="420120" cy="470520"/>
              </a:xfrm>
              <a:custGeom>
                <a:avLst/>
                <a:gdLst>
                  <a:gd name="textAreaLeft" fmla="*/ 360 w 420120"/>
                  <a:gd name="textAreaRight" fmla="*/ 419760 w 42012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4189">
                    <a:moveTo>
                      <a:pt x="81" y="0"/>
                    </a:moveTo>
                    <a:arcTo wR="81" hR="81" stAng="16200000" swAng="-5400000"/>
                    <a:lnTo>
                      <a:pt x="0" y="24108"/>
                    </a:lnTo>
                    <a:arcTo wR="81" hR="81" stAng="10800000" swAng="-5400000"/>
                    <a:lnTo>
                      <a:pt x="21519" y="24189"/>
                    </a:lnTo>
                    <a:arcTo wR="81" hR="81" stAng="5400000" swAng="-5400000"/>
                    <a:lnTo>
                      <a:pt x="21600" y="81"/>
                    </a:lnTo>
                    <a:arcTo wR="81" hR="81" stAng="0" swAng="-5400000"/>
                    <a:close/>
                  </a:path>
                </a:pathLst>
              </a:cu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0480" y="2967480"/>
                <a:ext cx="367920" cy="470520"/>
              </a:xfrm>
              <a:custGeom>
                <a:avLst/>
                <a:gdLst>
                  <a:gd name="textAreaLeft" fmla="*/ 360 w 367920"/>
                  <a:gd name="textAreaRight" fmla="*/ 367560 w 367920"/>
                  <a:gd name="textAreaTop" fmla="*/ 360 h 470520"/>
                  <a:gd name="textAreaBottom" fmla="*/ 470160 h 470520"/>
                </a:gdLst>
                <a:ahLst/>
                <a:rect l="textAreaLeft" t="textAreaTop" r="textAreaRight" b="textAreaBottom"/>
                <a:pathLst>
                  <a:path w="21600" h="27618">
                    <a:moveTo>
                      <a:pt x="93" y="0"/>
                    </a:moveTo>
                    <a:arcTo wR="93" hR="93" stAng="16200000" swAng="-5400000"/>
                    <a:lnTo>
                      <a:pt x="0" y="27525"/>
                    </a:lnTo>
                    <a:arcTo wR="93" hR="93" stAng="10800000" swAng="-5400000"/>
                    <a:lnTo>
                      <a:pt x="21507" y="27618"/>
                    </a:lnTo>
                    <a:arcTo wR="93" hR="93" stAng="5400000" swAng="-5400000"/>
                    <a:lnTo>
                      <a:pt x="21600" y="93"/>
                    </a:lnTo>
                    <a:arcTo wR="93" hR="9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2960"/>
              <a:ext cx="560160" cy="421200"/>
            </a:xfrm>
            <a:prstGeom prst="roundRect">
              <a:avLst>
                <a:gd name="adj" fmla="val 375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4680" y="2438280"/>
              <a:ext cx="31320" cy="1049400"/>
            </a:xfrm>
            <a:custGeom>
              <a:avLst/>
              <a:gdLst>
                <a:gd name="textAreaLeft" fmla="*/ 360 w 31320"/>
                <a:gd name="textAreaRight" fmla="*/ 30960 w 31320"/>
                <a:gd name="textAreaTop" fmla="*/ 360 h 1049400"/>
                <a:gd name="textAreaBottom" fmla="*/ 1049040 h 1049400"/>
              </a:gdLst>
              <a:ahLst/>
              <a:rect l="textAreaLeft" t="textAreaTop" r="textAreaRight" b="textAreaBottom"/>
              <a:pathLst>
                <a:path w="21600" h="715745">
                  <a:moveTo>
                    <a:pt x="1080" y="0"/>
                  </a:moveTo>
                  <a:arcTo wR="1080" hR="1080" stAng="16200000" swAng="-5400000"/>
                  <a:lnTo>
                    <a:pt x="0" y="714665"/>
                  </a:lnTo>
                  <a:arcTo wR="1080" hR="1080" stAng="10800000" swAng="-5400000"/>
                  <a:lnTo>
                    <a:pt x="20520" y="715745"/>
                  </a:lnTo>
                  <a:arcTo wR="1080" hR="1080" stAng="5400000" swAng="-5400000"/>
                  <a:lnTo>
                    <a:pt x="21600" y="1080"/>
                  </a:lnTo>
                  <a:arcTo wR="1080" hR="1080" stAng="0" swAng="-5400000"/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317160" y="3263400"/>
              <a:ext cx="8688240" cy="55080"/>
            </a:xfrm>
            <a:prstGeom prst="roundRect">
              <a:avLst>
                <a:gd name="adj" fmla="val 2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8.png"/><Relationship Id="rId13" Type="http://schemas.openxmlformats.org/officeDocument/2006/relationships/image" Target="../media/image3.png"/><Relationship Id="rId14" Type="http://schemas.openxmlformats.org/officeDocument/2006/relationships/image" Target="../media/image9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1480" cy="59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EEK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0120" y="1117080"/>
            <a:ext cx="86234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6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grate diverse data networks from ecology, biodiversity, and environmental sci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etacat, DiGIR, SRB, Xanthoria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ML is the core for data docu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pen programming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ecogrid-block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800100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558760" y="2895480"/>
            <a:ext cx="837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0960" y="1447920"/>
            <a:ext cx="14241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Find Index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6640" y="1600200"/>
            <a:ext cx="840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Index Inter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750600" y="1793880"/>
            <a:ext cx="927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10360" y="1143000"/>
            <a:ext cx="1215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00920" y="213372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3200" y="228600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5480" y="243828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8120" y="259092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0400" y="274320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62680" y="289548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952880" y="16002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28800" y="16002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5240" y="2514600"/>
            <a:ext cx="837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ear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8560" y="3124080"/>
            <a:ext cx="284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d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11480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952880" y="2819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5720" y="2590920"/>
            <a:ext cx="746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4840" y="2133720"/>
            <a:ext cx="145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ind Query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uthentication and Author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B uses simple LDAP system with referr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s existing DB (e.g. LTER personnel D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ally scalable in terms of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id Security Infrastructure (G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e based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certificates allows transfer of ri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-centralized administration (I.e., multiple CA’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spcBef>
                <a:spcPts val="675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easily transition to GS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ative Range prediction workflow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691400" y="6400800"/>
            <a:ext cx="123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lide from D. Penn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5080" y="1203480"/>
            <a:ext cx="7614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N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un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971800" y="312372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6" idx="3"/>
            <a:endCxn id="147" idx="2"/>
          </p:cNvCxnSpPr>
          <p:nvPr/>
        </p:nvCxnSpPr>
        <p:spPr>
          <a:xfrm flipV="1">
            <a:off x="3479760" y="3093480"/>
            <a:ext cx="2861280" cy="610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295280" y="25909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59092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2590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259092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438280"/>
            <a:ext cx="838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ining sample (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8040" y="2438280"/>
            <a:ext cx="724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ule set (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5" idx="0"/>
            <a:endCxn id="156" idx="0"/>
          </p:cNvCxnSpPr>
          <p:nvPr/>
        </p:nvCxnSpPr>
        <p:spPr>
          <a:xfrm flipH="1" rot="16200000">
            <a:off x="5479920" y="-163080"/>
            <a:ext cx="51480" cy="5099760"/>
          </a:xfrm>
          <a:prstGeom prst="bentConnector3">
            <a:avLst>
              <a:gd name="adj1" fmla="val -4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5105520" y="1981080"/>
            <a:ext cx="1066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sample (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0920" y="3429000"/>
            <a:ext cx="10663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egr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y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native range) 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4419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086600" y="2895480"/>
            <a:ext cx="0" cy="15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6040" y="2209680"/>
            <a:ext cx="925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ence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sence po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64280" y="2362320"/>
            <a:ext cx="740160" cy="916200"/>
            <a:chOff x="764280" y="2362320"/>
            <a:chExt cx="740160" cy="916200"/>
          </a:xfrm>
        </p:grpSpPr>
        <p:grpSp>
          <p:nvGrpSpPr>
            <p:cNvPr id="162" name=""/>
            <p:cNvGrpSpPr/>
            <p:nvPr/>
          </p:nvGrpSpPr>
          <p:grpSpPr>
            <a:xfrm>
              <a:off x="906480" y="2362320"/>
              <a:ext cx="457200" cy="457200"/>
              <a:chOff x="906480" y="2362320"/>
              <a:chExt cx="457200" cy="457200"/>
            </a:xfrm>
          </p:grpSpPr>
          <p:pic>
            <p:nvPicPr>
              <p:cNvPr id="163" name="grid2" descr=""/>
              <p:cNvPicPr/>
              <p:nvPr/>
            </p:nvPicPr>
            <p:blipFill>
              <a:blip r:embed="rId1"/>
              <a:stretch/>
            </p:blipFill>
            <p:spPr>
              <a:xfrm>
                <a:off x="906480" y="236232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1089720" y="2499840"/>
                <a:ext cx="23076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5" name="qmark" descr=""/>
              <p:cNvPicPr/>
              <p:nvPr/>
            </p:nvPicPr>
            <p:blipFill>
              <a:blip r:embed="rId2"/>
              <a:stretch/>
            </p:blipFill>
            <p:spPr>
              <a:xfrm>
                <a:off x="1127880" y="2539080"/>
                <a:ext cx="20844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" name=""/>
            <p:cNvSpPr/>
            <p:nvPr/>
          </p:nvSpPr>
          <p:spPr>
            <a:xfrm>
              <a:off x="764280" y="2819520"/>
              <a:ext cx="74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c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64280" y="4191120"/>
            <a:ext cx="740160" cy="916200"/>
            <a:chOff x="764280" y="4191120"/>
            <a:chExt cx="740160" cy="916200"/>
          </a:xfrm>
        </p:grpSpPr>
        <p:grpSp>
          <p:nvGrpSpPr>
            <p:cNvPr id="168" name=""/>
            <p:cNvGrpSpPr/>
            <p:nvPr/>
          </p:nvGrpSpPr>
          <p:grpSpPr>
            <a:xfrm>
              <a:off x="906480" y="4191120"/>
              <a:ext cx="457200" cy="457200"/>
              <a:chOff x="906480" y="4191120"/>
              <a:chExt cx="457200" cy="457200"/>
            </a:xfrm>
          </p:grpSpPr>
          <p:pic>
            <p:nvPicPr>
              <p:cNvPr id="169" name="grid2" descr=""/>
              <p:cNvPicPr/>
              <p:nvPr/>
            </p:nvPicPr>
            <p:blipFill>
              <a:blip r:embed="rId3"/>
              <a:stretch/>
            </p:blipFill>
            <p:spPr>
              <a:xfrm>
                <a:off x="906480" y="419112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1089720" y="4328640"/>
                <a:ext cx="23076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1" name="qmark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7880" y="4367880"/>
                <a:ext cx="20844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"/>
            <p:cNvSpPr/>
            <p:nvPr/>
          </p:nvSpPr>
          <p:spPr>
            <a:xfrm>
              <a:off x="764280" y="4648320"/>
              <a:ext cx="74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c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16400" y="4191120"/>
            <a:ext cx="916920" cy="916200"/>
            <a:chOff x="2516400" y="4191120"/>
            <a:chExt cx="916920" cy="916200"/>
          </a:xfrm>
        </p:grpSpPr>
        <p:grpSp>
          <p:nvGrpSpPr>
            <p:cNvPr id="174" name=""/>
            <p:cNvGrpSpPr/>
            <p:nvPr/>
          </p:nvGrpSpPr>
          <p:grpSpPr>
            <a:xfrm>
              <a:off x="2746440" y="4191120"/>
              <a:ext cx="457200" cy="457200"/>
              <a:chOff x="2746440" y="4191120"/>
              <a:chExt cx="457200" cy="4572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746440" y="4191120"/>
                <a:ext cx="457200" cy="457200"/>
                <a:chOff x="2746440" y="4191120"/>
                <a:chExt cx="457200" cy="457200"/>
              </a:xfrm>
            </p:grpSpPr>
            <p:pic>
              <p:nvPicPr>
                <p:cNvPr id="176" name="grid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46440" y="4191120"/>
                  <a:ext cx="4572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2803320" y="4241520"/>
                  <a:ext cx="342720" cy="35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803320" y="4248000"/>
                <a:ext cx="342720" cy="342720"/>
                <a:chOff x="2803320" y="4248000"/>
                <a:chExt cx="342720" cy="342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803320" y="4248000"/>
                  <a:ext cx="342720" cy="342720"/>
                </a:xfrm>
                <a:prstGeom prst="flowChartMultidocumen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0" name="gri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03320" y="4304880"/>
                  <a:ext cx="28584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2516400" y="4648320"/>
              <a:ext cx="91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68320" y="2362320"/>
            <a:ext cx="663840" cy="733680"/>
            <a:chOff x="2668320" y="2362320"/>
            <a:chExt cx="663840" cy="733680"/>
          </a:xfrm>
        </p:grpSpPr>
        <p:sp>
          <p:nvSpPr>
            <p:cNvPr id="183" name=""/>
            <p:cNvSpPr/>
            <p:nvPr/>
          </p:nvSpPr>
          <p:spPr>
            <a:xfrm>
              <a:off x="2668320" y="28195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m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759040" y="2362320"/>
              <a:ext cx="457200" cy="457200"/>
              <a:chOff x="2759040" y="2362320"/>
              <a:chExt cx="457200" cy="457200"/>
            </a:xfrm>
          </p:grpSpPr>
          <p:pic>
            <p:nvPicPr>
              <p:cNvPr id="185" name="grid2" descr=""/>
              <p:cNvPicPr/>
              <p:nvPr/>
            </p:nvPicPr>
            <p:blipFill>
              <a:blip r:embed="rId7"/>
              <a:stretch/>
            </p:blipFill>
            <p:spPr>
              <a:xfrm>
                <a:off x="2759040" y="236232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2815920" y="2412720"/>
                <a:ext cx="342720" cy="3556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785320" y="2605320"/>
              <a:ext cx="339120" cy="215640"/>
              <a:chOff x="2785320" y="2605320"/>
              <a:chExt cx="339120" cy="215640"/>
            </a:xfrm>
          </p:grpSpPr>
          <p:sp>
            <p:nvSpPr>
              <p:cNvPr id="188" name=""/>
              <p:cNvSpPr/>
              <p:nvPr/>
            </p:nvSpPr>
            <p:spPr>
              <a:xfrm>
                <a:off x="2846880" y="2657880"/>
                <a:ext cx="18900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85320" y="2605320"/>
                <a:ext cx="33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8000" y="2529000"/>
              <a:ext cx="339120" cy="215640"/>
              <a:chOff x="2898000" y="2529000"/>
              <a:chExt cx="339120" cy="2156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59560" y="2581920"/>
                <a:ext cx="18900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98000" y="2529000"/>
                <a:ext cx="33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785320" y="2362320"/>
              <a:ext cx="339120" cy="215640"/>
              <a:chOff x="2785320" y="2362320"/>
              <a:chExt cx="339120" cy="21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852640" y="2410200"/>
                <a:ext cx="17100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85320" y="2362320"/>
                <a:ext cx="33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A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268520" y="2362320"/>
            <a:ext cx="935280" cy="916200"/>
            <a:chOff x="4268520" y="2362320"/>
            <a:chExt cx="935280" cy="916200"/>
          </a:xfrm>
        </p:grpSpPr>
        <p:pic>
          <p:nvPicPr>
            <p:cNvPr id="196" name="calc0a" descr=""/>
            <p:cNvPicPr/>
            <p:nvPr/>
          </p:nvPicPr>
          <p:blipFill>
            <a:blip r:embed="rId8"/>
            <a:stretch/>
          </p:blipFill>
          <p:spPr>
            <a:xfrm>
              <a:off x="4514760" y="2362320"/>
              <a:ext cx="4413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68520" y="2819520"/>
              <a:ext cx="93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097680" y="2362320"/>
            <a:ext cx="485640" cy="733680"/>
            <a:chOff x="6097680" y="2362320"/>
            <a:chExt cx="485640" cy="733680"/>
          </a:xfrm>
        </p:grpSpPr>
        <p:grpSp>
          <p:nvGrpSpPr>
            <p:cNvPr id="199" name=""/>
            <p:cNvGrpSpPr/>
            <p:nvPr/>
          </p:nvGrpSpPr>
          <p:grpSpPr>
            <a:xfrm>
              <a:off x="6111720" y="2362320"/>
              <a:ext cx="457200" cy="457200"/>
              <a:chOff x="6111720" y="2362320"/>
              <a:chExt cx="457200" cy="45720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6111720" y="2362320"/>
                <a:ext cx="457200" cy="457200"/>
                <a:chOff x="6111720" y="2362320"/>
                <a:chExt cx="457200" cy="457200"/>
              </a:xfrm>
            </p:grpSpPr>
            <p:pic>
              <p:nvPicPr>
                <p:cNvPr id="201" name="grid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11720" y="2362320"/>
                  <a:ext cx="4572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" name=""/>
                <p:cNvSpPr/>
                <p:nvPr/>
              </p:nvSpPr>
              <p:spPr>
                <a:xfrm>
                  <a:off x="6168600" y="2412720"/>
                  <a:ext cx="342720" cy="35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3" name="globe" descr=""/>
              <p:cNvPicPr/>
              <p:nvPr/>
            </p:nvPicPr>
            <p:blipFill>
              <a:blip r:embed="rId10"/>
              <a:stretch/>
            </p:blipFill>
            <p:spPr>
              <a:xfrm>
                <a:off x="6198480" y="2449080"/>
                <a:ext cx="283320" cy="28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"/>
            <p:cNvSpPr/>
            <p:nvPr/>
          </p:nvSpPr>
          <p:spPr>
            <a:xfrm>
              <a:off x="6097680" y="28195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840" y="2362320"/>
            <a:ext cx="867960" cy="733680"/>
            <a:chOff x="7620840" y="2362320"/>
            <a:chExt cx="867960" cy="733680"/>
          </a:xfrm>
        </p:grpSpPr>
        <p:grpSp>
          <p:nvGrpSpPr>
            <p:cNvPr id="205" name=""/>
            <p:cNvGrpSpPr/>
            <p:nvPr/>
          </p:nvGrpSpPr>
          <p:grpSpPr>
            <a:xfrm>
              <a:off x="7826400" y="2362320"/>
              <a:ext cx="456840" cy="457200"/>
              <a:chOff x="7826400" y="2362320"/>
              <a:chExt cx="456840" cy="457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7826400" y="2362320"/>
                <a:ext cx="456840" cy="457200"/>
                <a:chOff x="7826400" y="2362320"/>
                <a:chExt cx="456840" cy="457200"/>
              </a:xfrm>
            </p:grpSpPr>
            <p:pic>
              <p:nvPicPr>
                <p:cNvPr id="207" name="grid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826400" y="2362320"/>
                  <a:ext cx="4568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>
                  <a:off x="7883280" y="2412720"/>
                  <a:ext cx="342360" cy="35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8" name="check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83280" y="2476440"/>
                <a:ext cx="342360" cy="26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9" name=""/>
            <p:cNvSpPr/>
            <p:nvPr/>
          </p:nvSpPr>
          <p:spPr>
            <a:xfrm>
              <a:off x="7620840" y="2819520"/>
              <a:ext cx="86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813080" y="4191120"/>
            <a:ext cx="483840" cy="733680"/>
            <a:chOff x="7813080" y="4191120"/>
            <a:chExt cx="483840" cy="733680"/>
          </a:xfrm>
        </p:grpSpPr>
        <p:grpSp>
          <p:nvGrpSpPr>
            <p:cNvPr id="211" name=""/>
            <p:cNvGrpSpPr/>
            <p:nvPr/>
          </p:nvGrpSpPr>
          <p:grpSpPr>
            <a:xfrm>
              <a:off x="7826040" y="4191120"/>
              <a:ext cx="456840" cy="457200"/>
              <a:chOff x="7826040" y="4191120"/>
              <a:chExt cx="456840" cy="4572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7826040" y="4191120"/>
                <a:ext cx="456840" cy="457200"/>
                <a:chOff x="7826040" y="4191120"/>
                <a:chExt cx="456840" cy="457200"/>
              </a:xfrm>
            </p:grpSpPr>
            <p:pic>
              <p:nvPicPr>
                <p:cNvPr id="213" name="grid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26040" y="4191120"/>
                  <a:ext cx="4568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>
                  <a:off x="7882920" y="4241520"/>
                  <a:ext cx="342360" cy="35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5" name="compute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82920" y="4305240"/>
                <a:ext cx="342360" cy="299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6" name=""/>
            <p:cNvSpPr/>
            <p:nvPr/>
          </p:nvSpPr>
          <p:spPr>
            <a:xfrm>
              <a:off x="7813080" y="4648320"/>
              <a:ext cx="48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7" name=""/>
          <p:cNvCxnSpPr>
            <a:stCxn id="209" idx="2"/>
            <a:endCxn id="213" idx="0"/>
          </p:cNvCxnSpPr>
          <p:nvPr/>
        </p:nvCxnSpPr>
        <p:spPr>
          <a:xfrm flipV="1" rot="10800000">
            <a:off x="8054280" y="3093840"/>
            <a:ext cx="1080" cy="1097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44520" y="3276720"/>
            <a:ext cx="898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 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ameter (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2286000"/>
            <a:ext cx="838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ative range pred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p (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41972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4114800"/>
            <a:ext cx="959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layers 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1600200"/>
            <a:ext cx="14479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4280" y="1371600"/>
            <a:ext cx="740160" cy="916200"/>
            <a:chOff x="764280" y="1371600"/>
            <a:chExt cx="740160" cy="916200"/>
          </a:xfrm>
        </p:grpSpPr>
        <p:grpSp>
          <p:nvGrpSpPr>
            <p:cNvPr id="224" name=""/>
            <p:cNvGrpSpPr/>
            <p:nvPr/>
          </p:nvGrpSpPr>
          <p:grpSpPr>
            <a:xfrm>
              <a:off x="906480" y="1371600"/>
              <a:ext cx="457200" cy="457200"/>
              <a:chOff x="906480" y="1371600"/>
              <a:chExt cx="457200" cy="457200"/>
            </a:xfrm>
          </p:grpSpPr>
          <p:pic>
            <p:nvPicPr>
              <p:cNvPr id="225" name="grid2" descr=""/>
              <p:cNvPicPr/>
              <p:nvPr/>
            </p:nvPicPr>
            <p:blipFill>
              <a:blip r:embed="rId15"/>
              <a:stretch/>
            </p:blipFill>
            <p:spPr>
              <a:xfrm>
                <a:off x="906480" y="137160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1089720" y="1509120"/>
                <a:ext cx="23076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7" name="qmark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27880" y="1548360"/>
                <a:ext cx="20844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8" name=""/>
            <p:cNvSpPr/>
            <p:nvPr/>
          </p:nvSpPr>
          <p:spPr>
            <a:xfrm>
              <a:off x="764280" y="1828800"/>
              <a:ext cx="74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c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564880" y="4191120"/>
            <a:ext cx="740160" cy="733680"/>
            <a:chOff x="5564880" y="4191120"/>
            <a:chExt cx="740160" cy="733680"/>
          </a:xfrm>
        </p:grpSpPr>
        <p:grpSp>
          <p:nvGrpSpPr>
            <p:cNvPr id="230" name=""/>
            <p:cNvGrpSpPr/>
            <p:nvPr/>
          </p:nvGrpSpPr>
          <p:grpSpPr>
            <a:xfrm>
              <a:off x="5707080" y="4191120"/>
              <a:ext cx="457200" cy="457200"/>
              <a:chOff x="5707080" y="4191120"/>
              <a:chExt cx="457200" cy="457200"/>
            </a:xfrm>
          </p:grpSpPr>
          <p:pic>
            <p:nvPicPr>
              <p:cNvPr id="231" name="grid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07080" y="419112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5890320" y="4328640"/>
                <a:ext cx="230760" cy="27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qmark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28480" y="4367880"/>
                <a:ext cx="208440" cy="21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4" name=""/>
            <p:cNvSpPr/>
            <p:nvPr/>
          </p:nvSpPr>
          <p:spPr>
            <a:xfrm>
              <a:off x="5564880" y="4648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co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402960" y="4175280"/>
            <a:ext cx="590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ch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324120" y="4419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-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common WSDL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service regi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for Metacat, DiGIR, SRB, Xanthoria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-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GSI-compliant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75"/>
              </a:spcBef>
              <a:buClr>
                <a:srgbClr val="3333cc"/>
              </a:buClr>
              <a:buSzPct val="50000"/>
              <a:buFont typeface="ZapfDingbat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dd methods to current WS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d Registry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im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11  -- Design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18  -- WSDL, Registry instance operational, query + read, RSIDS schema and examp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il 2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9  Wrapper implementations + test client(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16 (SEEK Technical WG meeting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2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30 -- Hard deadline for implementation of Eco-GRID alpha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Query Messag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430920" y="1246320"/>
            <a:ext cx="83952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egq:query queryId="test.1.1" system="test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egq="ecogrid://ecoinformatics.org/ecogrid-query-1.0.0alpha1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namespace prefix="eml" space="eml://ecoinformatics.org/eml-2.0.0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Soils metadata query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AN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ndition operator="LIKE" concept="eml:title"&gt;%soil%&lt;/condi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ndition operator="LIKE" concept="eml:title"&gt;%dirt%&lt;/condi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ndition operator="LIK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pt="eml:surName"&gt;%Jones%&lt;/condi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ndition operator="LIK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cept="eml:surName"&gt;%Vieglais%&lt;/condi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AN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egq:quer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sult respon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0440" y="1022400"/>
            <a:ext cx="86083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s:resultset resultsetId="foo.1.1" system="http://knb.ecoinformatics.org/knb/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rs='ecogrid://ecoinformatics.org/ecogrid-resultset-1.0.0alpha1'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sultsetMeta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ndTime&gt;2003-05-02T16:45:50-09:00&lt;/send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cordCount&gt;86&lt;/recordCou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sultsetMetadat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cords startRecord="1" endRecord="1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mlns:eml='eml://ecoinformatics.org/eml-2.0.0'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cord number="1" identifier="bar.1.23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eml:eml packageId="bar.1.23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itle&gt;Soil data from West Valley, 1983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rea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dividualName&gt;&lt;surName&gt;Jones&lt;/surName&gt;&lt;/individual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rea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rea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individualName&gt;&lt;surName&gt;Smith&lt;/surName&gt;&lt;/individualNa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rea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keywordS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keyword&gt;aves&lt;/key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keyword&gt;ornithology&lt;/key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keyword&gt;biodiversity&lt;/key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keywordS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eml:e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c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cord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s:results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client inter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4576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ms of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, Where, How, Who ??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Data a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e Data from multiple projects/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walks across data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Eco-related Finding Aids f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User: Authenticate and Author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 an infrastructure for “Archivable Collection-building” for SEEK scient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the A&amp;M layer and the SM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 of EcoGri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&amp; User Divers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datasets &amp; 1500+ scient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mes, methods, units,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data sizes but high complexity -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ata Orga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odiversity Surve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pulation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S, Satellite Images, Weather Data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ologies &amp; Taxonom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Discovery: No single place to fi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tropy 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decline of information on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nomy with Centraliz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Computational Grid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cat – syntactic and semantic metadata querying/inserting/updating/deleting, user registration/authentication, data replication, data/metadata versioning, - supports any XML-based meta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anthoria – common-schema mediator (currently 8 sites)  metadata query/insert/update/delete  for any XML schema to underlying metadatabase (SQL, native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7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yst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R – querying arbitrary XML-describable resources (underlying data sources can be any type: RDB, XMLDB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DB – integrating (using wrapping at the data source)  diverse format climate data. Access through web, common schema identified beforehand – tabular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erLTER – summary ontology as metadata for images put in as metadata, image extraction /geographicsubsetting/band-level subsetting/ - integration with MODIS images and Hyperspectral images, TM images, airphoto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Syst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gBank – 3 databases co-occurrence records, species taxonomic database that is concept-driven, community classification. Distributed vegbank, querying by plots. Querying/insert/update/annotate across three diverse databases that are described using 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B – access distributed data, syntactic, semantics,user-defined (arbitrary relational) metadata based querying. Annotations for data. Opertions on data. Extraction of metadata. ingest,bulk ingest, delete,upate of data/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Serv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9760" y="1117080"/>
            <a:ext cx="862164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arch metadata and data, return result sets with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trieve data objects by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Verify user ident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Record allowable inter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data objects by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rror objects for backup and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720" indent="-31572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7960" indent="-2628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models and simulations from AMS on various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98360"/>
            <a:ext cx="77900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coGrid Search Interac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9760" y="3580920"/>
            <a:ext cx="862164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2560" indent="-322560">
              <a:lnSpc>
                <a:spcPct val="90000"/>
              </a:lnSpc>
              <a:spcBef>
                <a:spcPts val="774"/>
              </a:spcBef>
              <a:buClr>
                <a:srgbClr val="3333cc"/>
              </a:buClr>
              <a:buSzPct val="60000"/>
              <a:buFont typeface="ZapfDingbat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defined interfaces (e.g., WSD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ized messaging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discovery of implementing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ion/Indexing across nodes for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heterogeneous data objects via metadata descri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2720" indent="-26820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ZapfDingbat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ghtweight to implement for various systems like DiGIR and Metac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50600" y="1793880"/>
            <a:ext cx="927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0360" y="114300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0920" y="213372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3200" y="228600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5480" y="243828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8120" y="259092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10400" y="274320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62680" y="2895480"/>
            <a:ext cx="1858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952880" y="16002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16002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2209680"/>
            <a:ext cx="4952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28720" y="1600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4640" y="14479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ind Query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91960" y="243828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earch (recur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t Jones</cp:lastModifiedBy>
  <dcterms:modified xsi:type="dcterms:W3CDTF">2003-09-23T07:40:56Z</dcterms:modified>
  <cp:revision>63</cp:revision>
  <dc:subject/>
  <dc:title>Ecological Metadata Language (EML)</dc:title>
</cp:coreProperties>
</file>