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B757-4304-4579-AE1D-6C568BED5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790F-79E7-416B-A127-FE52B31C9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F4DB-990C-45EF-A86F-6AD17F967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6A99-ADA8-4E6A-BC90-7A6698C00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59DA6-A1A5-4034-BEE8-89499BE0D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A8512-FF79-4B98-AB4F-CA9AD8404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505CD-5273-48F6-854F-FDA16D037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6C1B2-53F6-46FF-BA22-34D966615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25E21-FE2C-41D2-A73A-3AEBEED40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7BB84-F857-4F78-9F46-AB2EBE472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95F73-7F6B-4EC4-9990-51B417E98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110B-FAC8-4F4D-9E37-676334CE4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8E00E-CC0E-4E6C-8EA3-978C75007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75ED5-874F-4019-90D6-30DEC2709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E10FB-B594-4618-B9B2-23A981763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066A0-7195-453E-92FC-634C5BF1D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31EB7-85FF-4D66-82EE-710E6B9B0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7EFE-62D5-4E12-B922-A9CC6F265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EAAD-0592-4ACD-9F1F-95BEBE06C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B1C2-36D3-4E71-BEED-4B2AC5C3F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D8BB-EE48-4C18-A522-7C42C7DA6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0E43-E3A8-474B-9C3A-7D329574E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6DE9-A653-4FC7-A4F0-6B95CC09C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CF6B-92E9-4067-8546-9E2B04B5E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A9FF8-1D40-4EDE-B740-D8AB04F74B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49593-68C7-4BFA-A5CE-7D88A2669A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3680" y="179280"/>
            <a:ext cx="825516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DSC Storage Resource Broker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&amp; Meta-data Catalog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87480" y="1212840"/>
            <a:ext cx="8980200" cy="4865760"/>
            <a:chOff x="87480" y="1212840"/>
            <a:chExt cx="8980200" cy="4865760"/>
          </a:xfrm>
        </p:grpSpPr>
        <p:sp>
          <p:nvSpPr>
            <p:cNvPr id="91" name=""/>
            <p:cNvSpPr/>
            <p:nvPr/>
          </p:nvSpPr>
          <p:spPr>
            <a:xfrm flipV="1">
              <a:off x="457200" y="4495680"/>
              <a:ext cx="163440" cy="959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1143000" y="4435560"/>
              <a:ext cx="114480" cy="285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1079640" y="3354480"/>
              <a:ext cx="226800" cy="303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114640" y="3181320"/>
              <a:ext cx="5295960" cy="179064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4300560" y="3276720"/>
              <a:ext cx="988920" cy="546480"/>
              <a:chOff x="4300560" y="3276720"/>
              <a:chExt cx="988920" cy="546480"/>
            </a:xfrm>
          </p:grpSpPr>
          <p:sp>
            <p:nvSpPr>
              <p:cNvPr id="96" name=""/>
              <p:cNvSpPr/>
              <p:nvPr/>
            </p:nvSpPr>
            <p:spPr>
              <a:xfrm>
                <a:off x="4300560" y="3276720"/>
                <a:ext cx="988920" cy="46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417560" y="3335400"/>
                <a:ext cx="7916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Times New Roman"/>
                  </a:rPr>
                  <a:t>SRB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 flipH="1">
              <a:off x="2144520" y="4038480"/>
              <a:ext cx="52448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4956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2284200" y="4038480"/>
              <a:ext cx="1451520" cy="853920"/>
              <a:chOff x="2284200" y="4038480"/>
              <a:chExt cx="1451520" cy="853920"/>
            </a:xfrm>
          </p:grpSpPr>
          <p:sp>
            <p:nvSpPr>
              <p:cNvPr id="101" name=""/>
              <p:cNvSpPr/>
              <p:nvPr/>
            </p:nvSpPr>
            <p:spPr>
              <a:xfrm>
                <a:off x="2530440" y="4038480"/>
                <a:ext cx="77328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284200" y="4038480"/>
                <a:ext cx="145152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Archiv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HPSS, ADSM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Tree, DMF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6049080" y="4019400"/>
              <a:ext cx="1268640" cy="857160"/>
              <a:chOff x="6049080" y="4019400"/>
              <a:chExt cx="1268640" cy="857160"/>
            </a:xfrm>
          </p:grpSpPr>
          <p:sp>
            <p:nvSpPr>
              <p:cNvPr id="104" name=""/>
              <p:cNvSpPr/>
              <p:nvPr/>
            </p:nvSpPr>
            <p:spPr>
              <a:xfrm>
                <a:off x="6323040" y="4019400"/>
                <a:ext cx="660240" cy="34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049080" y="4022640"/>
                <a:ext cx="126864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Databas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DB2, Oracle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ybas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6" name=""/>
            <p:cNvSpPr/>
            <p:nvPr/>
          </p:nvSpPr>
          <p:spPr>
            <a:xfrm>
              <a:off x="601992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4595760" y="4038480"/>
              <a:ext cx="1351080" cy="853920"/>
              <a:chOff x="4595760" y="4038480"/>
              <a:chExt cx="1351080" cy="853920"/>
            </a:xfrm>
          </p:grpSpPr>
          <p:sp>
            <p:nvSpPr>
              <p:cNvPr id="108" name=""/>
              <p:cNvSpPr/>
              <p:nvPr/>
            </p:nvSpPr>
            <p:spPr>
              <a:xfrm>
                <a:off x="4962600" y="4041720"/>
                <a:ext cx="760320" cy="30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95760" y="4038480"/>
                <a:ext cx="135108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File System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, NT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Mac OSX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4022640" y="1212840"/>
              <a:ext cx="1490760" cy="663480"/>
            </a:xfrm>
            <a:prstGeom prst="roundRect">
              <a:avLst>
                <a:gd name="adj" fmla="val 24361"/>
              </a:avLst>
            </a:prstGeom>
            <a:solidFill>
              <a:srgbClr val="22e84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127400" y="1371600"/>
              <a:ext cx="1274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3124080" y="5432400"/>
              <a:ext cx="560520" cy="636480"/>
              <a:chOff x="3124080" y="5432400"/>
              <a:chExt cx="560520" cy="636480"/>
            </a:xfrm>
          </p:grpSpPr>
          <p:sp>
            <p:nvSpPr>
              <p:cNvPr id="113" name=""/>
              <p:cNvSpPr/>
              <p:nvPr/>
            </p:nvSpPr>
            <p:spPr>
              <a:xfrm>
                <a:off x="3132000" y="543888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3" y="0"/>
                    </a:move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0" y="352"/>
                    </a:lnTo>
                    <a:lnTo>
                      <a:pt x="2" y="356"/>
                    </a:lnTo>
                    <a:lnTo>
                      <a:pt x="8" y="362"/>
                    </a:lnTo>
                    <a:lnTo>
                      <a:pt x="12" y="366"/>
                    </a:lnTo>
                    <a:lnTo>
                      <a:pt x="22" y="369"/>
                    </a:lnTo>
                    <a:lnTo>
                      <a:pt x="29" y="373"/>
                    </a:lnTo>
                    <a:lnTo>
                      <a:pt x="39" y="377"/>
                    </a:lnTo>
                    <a:lnTo>
                      <a:pt x="50" y="381"/>
                    </a:lnTo>
                    <a:lnTo>
                      <a:pt x="64" y="385"/>
                    </a:lnTo>
                    <a:lnTo>
                      <a:pt x="77" y="388"/>
                    </a:lnTo>
                    <a:lnTo>
                      <a:pt x="106" y="392"/>
                    </a:lnTo>
                    <a:lnTo>
                      <a:pt x="139" y="396"/>
                    </a:lnTo>
                    <a:lnTo>
                      <a:pt x="173" y="396"/>
                    </a:lnTo>
                    <a:lnTo>
                      <a:pt x="208" y="396"/>
                    </a:lnTo>
                    <a:lnTo>
                      <a:pt x="240" y="392"/>
                    </a:lnTo>
                    <a:lnTo>
                      <a:pt x="271" y="388"/>
                    </a:lnTo>
                    <a:lnTo>
                      <a:pt x="282" y="385"/>
                    </a:lnTo>
                    <a:lnTo>
                      <a:pt x="296" y="381"/>
                    </a:lnTo>
                    <a:lnTo>
                      <a:pt x="307" y="377"/>
                    </a:lnTo>
                    <a:lnTo>
                      <a:pt x="317" y="373"/>
                    </a:lnTo>
                    <a:lnTo>
                      <a:pt x="326" y="369"/>
                    </a:lnTo>
                    <a:lnTo>
                      <a:pt x="332" y="366"/>
                    </a:lnTo>
                    <a:lnTo>
                      <a:pt x="338" y="362"/>
                    </a:lnTo>
                    <a:lnTo>
                      <a:pt x="344" y="356"/>
                    </a:lnTo>
                    <a:lnTo>
                      <a:pt x="346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132000" y="5438880"/>
                <a:ext cx="552600" cy="158760"/>
              </a:xfrm>
              <a:custGeom>
                <a:avLst/>
                <a:gdLst/>
                <a:ahLst/>
                <a:rect l="l" t="t" r="r" b="b"/>
                <a:pathLst>
                  <a:path w="348" h="100">
                    <a:moveTo>
                      <a:pt x="0" y="50"/>
                    </a:moveTo>
                    <a:lnTo>
                      <a:pt x="0" y="55"/>
                    </a:lnTo>
                    <a:lnTo>
                      <a:pt x="2" y="61"/>
                    </a:lnTo>
                    <a:lnTo>
                      <a:pt x="8" y="65"/>
                    </a:lnTo>
                    <a:lnTo>
                      <a:pt x="12" y="71"/>
                    </a:lnTo>
                    <a:lnTo>
                      <a:pt x="22" y="75"/>
                    </a:lnTo>
                    <a:lnTo>
                      <a:pt x="29" y="78"/>
                    </a:lnTo>
                    <a:lnTo>
                      <a:pt x="39" y="82"/>
                    </a:lnTo>
                    <a:lnTo>
                      <a:pt x="50" y="86"/>
                    </a:lnTo>
                    <a:lnTo>
                      <a:pt x="64" y="88"/>
                    </a:lnTo>
                    <a:lnTo>
                      <a:pt x="77" y="92"/>
                    </a:lnTo>
                    <a:lnTo>
                      <a:pt x="106" y="96"/>
                    </a:lnTo>
                    <a:lnTo>
                      <a:pt x="139" y="98"/>
                    </a:lnTo>
                    <a:lnTo>
                      <a:pt x="173" y="99"/>
                    </a:lnTo>
                    <a:lnTo>
                      <a:pt x="208" y="98"/>
                    </a:lnTo>
                    <a:lnTo>
                      <a:pt x="240" y="96"/>
                    </a:lnTo>
                    <a:lnTo>
                      <a:pt x="271" y="92"/>
                    </a:lnTo>
                    <a:lnTo>
                      <a:pt x="282" y="88"/>
                    </a:lnTo>
                    <a:lnTo>
                      <a:pt x="296" y="86"/>
                    </a:lnTo>
                    <a:lnTo>
                      <a:pt x="307" y="82"/>
                    </a:lnTo>
                    <a:lnTo>
                      <a:pt x="317" y="78"/>
                    </a:lnTo>
                    <a:lnTo>
                      <a:pt x="326" y="75"/>
                    </a:lnTo>
                    <a:lnTo>
                      <a:pt x="332" y="71"/>
                    </a:lnTo>
                    <a:lnTo>
                      <a:pt x="338" y="65"/>
                    </a:lnTo>
                    <a:lnTo>
                      <a:pt x="344" y="61"/>
                    </a:lnTo>
                    <a:lnTo>
                      <a:pt x="346" y="55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124080" y="5432400"/>
                <a:ext cx="555840" cy="630360"/>
              </a:xfrm>
              <a:custGeom>
                <a:avLst/>
                <a:gdLst/>
                <a:ahLst/>
                <a:rect l="l" t="t" r="r" b="b"/>
                <a:pathLst>
                  <a:path w="350" h="397">
                    <a:moveTo>
                      <a:pt x="174" y="0"/>
                    </a:moveTo>
                    <a:lnTo>
                      <a:pt x="138" y="2"/>
                    </a:lnTo>
                    <a:lnTo>
                      <a:pt x="107" y="4"/>
                    </a:lnTo>
                    <a:lnTo>
                      <a:pt x="78" y="8"/>
                    </a:lnTo>
                    <a:lnTo>
                      <a:pt x="65" y="12"/>
                    </a:lnTo>
                    <a:lnTo>
                      <a:pt x="52" y="15"/>
                    </a:lnTo>
                    <a:lnTo>
                      <a:pt x="40" y="19"/>
                    </a:lnTo>
                    <a:lnTo>
                      <a:pt x="30" y="23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9" y="37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7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9" y="362"/>
                    </a:lnTo>
                    <a:lnTo>
                      <a:pt x="13" y="366"/>
                    </a:lnTo>
                    <a:lnTo>
                      <a:pt x="23" y="370"/>
                    </a:lnTo>
                    <a:lnTo>
                      <a:pt x="30" y="373"/>
                    </a:lnTo>
                    <a:lnTo>
                      <a:pt x="40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8" y="387"/>
                    </a:lnTo>
                    <a:lnTo>
                      <a:pt x="107" y="392"/>
                    </a:lnTo>
                    <a:lnTo>
                      <a:pt x="138" y="396"/>
                    </a:lnTo>
                    <a:lnTo>
                      <a:pt x="174" y="396"/>
                    </a:lnTo>
                    <a:lnTo>
                      <a:pt x="209" y="396"/>
                    </a:lnTo>
                    <a:lnTo>
                      <a:pt x="241" y="392"/>
                    </a:lnTo>
                    <a:lnTo>
                      <a:pt x="272" y="387"/>
                    </a:lnTo>
                    <a:lnTo>
                      <a:pt x="283" y="385"/>
                    </a:lnTo>
                    <a:lnTo>
                      <a:pt x="297" y="381"/>
                    </a:lnTo>
                    <a:lnTo>
                      <a:pt x="308" y="377"/>
                    </a:lnTo>
                    <a:lnTo>
                      <a:pt x="318" y="373"/>
                    </a:lnTo>
                    <a:lnTo>
                      <a:pt x="328" y="370"/>
                    </a:lnTo>
                    <a:lnTo>
                      <a:pt x="333" y="366"/>
                    </a:lnTo>
                    <a:lnTo>
                      <a:pt x="339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9" y="347"/>
                    </a:lnTo>
                    <a:lnTo>
                      <a:pt x="349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39" y="37"/>
                    </a:lnTo>
                    <a:lnTo>
                      <a:pt x="333" y="31"/>
                    </a:lnTo>
                    <a:lnTo>
                      <a:pt x="328" y="27"/>
                    </a:lnTo>
                    <a:lnTo>
                      <a:pt x="318" y="23"/>
                    </a:lnTo>
                    <a:lnTo>
                      <a:pt x="308" y="19"/>
                    </a:lnTo>
                    <a:lnTo>
                      <a:pt x="297" y="15"/>
                    </a:lnTo>
                    <a:lnTo>
                      <a:pt x="283" y="12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9" y="2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124080" y="5511960"/>
                <a:ext cx="555840" cy="80640"/>
              </a:xfrm>
              <a:custGeom>
                <a:avLst/>
                <a:gdLst/>
                <a:ahLst/>
                <a:rect l="l" t="t" r="r" b="b"/>
                <a:pathLst>
                  <a:path w="350" h="51">
                    <a:moveTo>
                      <a:pt x="0" y="0"/>
                    </a:moveTo>
                    <a:lnTo>
                      <a:pt x="2" y="6"/>
                    </a:lnTo>
                    <a:lnTo>
                      <a:pt x="4" y="11"/>
                    </a:lnTo>
                    <a:lnTo>
                      <a:pt x="9" y="15"/>
                    </a:lnTo>
                    <a:lnTo>
                      <a:pt x="13" y="21"/>
                    </a:lnTo>
                    <a:lnTo>
                      <a:pt x="23" y="25"/>
                    </a:lnTo>
                    <a:lnTo>
                      <a:pt x="30" y="29"/>
                    </a:lnTo>
                    <a:lnTo>
                      <a:pt x="40" y="31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8" y="42"/>
                    </a:lnTo>
                    <a:lnTo>
                      <a:pt x="107" y="46"/>
                    </a:lnTo>
                    <a:lnTo>
                      <a:pt x="138" y="48"/>
                    </a:lnTo>
                    <a:lnTo>
                      <a:pt x="174" y="50"/>
                    </a:lnTo>
                    <a:lnTo>
                      <a:pt x="209" y="48"/>
                    </a:lnTo>
                    <a:lnTo>
                      <a:pt x="241" y="46"/>
                    </a:lnTo>
                    <a:lnTo>
                      <a:pt x="272" y="42"/>
                    </a:lnTo>
                    <a:lnTo>
                      <a:pt x="283" y="38"/>
                    </a:lnTo>
                    <a:lnTo>
                      <a:pt x="297" y="36"/>
                    </a:lnTo>
                    <a:lnTo>
                      <a:pt x="308" y="31"/>
                    </a:lnTo>
                    <a:lnTo>
                      <a:pt x="318" y="29"/>
                    </a:lnTo>
                    <a:lnTo>
                      <a:pt x="328" y="25"/>
                    </a:lnTo>
                    <a:lnTo>
                      <a:pt x="333" y="21"/>
                    </a:lnTo>
                    <a:lnTo>
                      <a:pt x="339" y="15"/>
                    </a:lnTo>
                    <a:lnTo>
                      <a:pt x="345" y="11"/>
                    </a:lnTo>
                    <a:lnTo>
                      <a:pt x="347" y="6"/>
                    </a:lnTo>
                    <a:lnTo>
                      <a:pt x="349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5005440" y="5419800"/>
              <a:ext cx="557280" cy="635040"/>
              <a:chOff x="5005440" y="5419800"/>
              <a:chExt cx="557280" cy="635040"/>
            </a:xfrm>
          </p:grpSpPr>
          <p:sp>
            <p:nvSpPr>
              <p:cNvPr id="118" name=""/>
              <p:cNvSpPr/>
              <p:nvPr/>
            </p:nvSpPr>
            <p:spPr>
              <a:xfrm>
                <a:off x="5010120" y="5425920"/>
                <a:ext cx="552600" cy="628920"/>
              </a:xfrm>
              <a:custGeom>
                <a:avLst/>
                <a:gdLst/>
                <a:ahLst/>
                <a:rect l="l" t="t" r="r" b="b"/>
                <a:pathLst>
                  <a:path w="348" h="396">
                    <a:moveTo>
                      <a:pt x="175" y="0"/>
                    </a:move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2" y="351"/>
                    </a:lnTo>
                    <a:lnTo>
                      <a:pt x="4" y="356"/>
                    </a:lnTo>
                    <a:lnTo>
                      <a:pt x="8" y="360"/>
                    </a:lnTo>
                    <a:lnTo>
                      <a:pt x="14" y="364"/>
                    </a:lnTo>
                    <a:lnTo>
                      <a:pt x="23" y="368"/>
                    </a:lnTo>
                    <a:lnTo>
                      <a:pt x="31" y="372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6" y="383"/>
                    </a:lnTo>
                    <a:lnTo>
                      <a:pt x="77" y="387"/>
                    </a:lnTo>
                    <a:lnTo>
                      <a:pt x="108" y="391"/>
                    </a:lnTo>
                    <a:lnTo>
                      <a:pt x="140" y="395"/>
                    </a:lnTo>
                    <a:lnTo>
                      <a:pt x="175" y="395"/>
                    </a:lnTo>
                    <a:lnTo>
                      <a:pt x="209" y="395"/>
                    </a:lnTo>
                    <a:lnTo>
                      <a:pt x="242" y="391"/>
                    </a:lnTo>
                    <a:lnTo>
                      <a:pt x="273" y="387"/>
                    </a:lnTo>
                    <a:lnTo>
                      <a:pt x="284" y="383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2"/>
                    </a:lnTo>
                    <a:lnTo>
                      <a:pt x="328" y="368"/>
                    </a:lnTo>
                    <a:lnTo>
                      <a:pt x="334" y="364"/>
                    </a:lnTo>
                    <a:lnTo>
                      <a:pt x="340" y="360"/>
                    </a:lnTo>
                    <a:lnTo>
                      <a:pt x="345" y="356"/>
                    </a:lnTo>
                    <a:lnTo>
                      <a:pt x="347" y="351"/>
                    </a:lnTo>
                    <a:lnTo>
                      <a:pt x="347" y="345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010120" y="5425920"/>
                <a:ext cx="552600" cy="157320"/>
              </a:xfrm>
              <a:custGeom>
                <a:avLst/>
                <a:gdLst/>
                <a:ahLst/>
                <a:rect l="l" t="t" r="r" b="b"/>
                <a:pathLst>
                  <a:path w="348" h="99">
                    <a:moveTo>
                      <a:pt x="0" y="50"/>
                    </a:moveTo>
                    <a:lnTo>
                      <a:pt x="2" y="54"/>
                    </a:lnTo>
                    <a:lnTo>
                      <a:pt x="4" y="60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3"/>
                    </a:lnTo>
                    <a:lnTo>
                      <a:pt x="31" y="77"/>
                    </a:lnTo>
                    <a:lnTo>
                      <a:pt x="41" y="81"/>
                    </a:lnTo>
                    <a:lnTo>
                      <a:pt x="52" y="85"/>
                    </a:lnTo>
                    <a:lnTo>
                      <a:pt x="66" y="88"/>
                    </a:lnTo>
                    <a:lnTo>
                      <a:pt x="77" y="90"/>
                    </a:lnTo>
                    <a:lnTo>
                      <a:pt x="108" y="94"/>
                    </a:lnTo>
                    <a:lnTo>
                      <a:pt x="140" y="98"/>
                    </a:lnTo>
                    <a:lnTo>
                      <a:pt x="175" y="98"/>
                    </a:lnTo>
                    <a:lnTo>
                      <a:pt x="209" y="98"/>
                    </a:lnTo>
                    <a:lnTo>
                      <a:pt x="242" y="94"/>
                    </a:lnTo>
                    <a:lnTo>
                      <a:pt x="273" y="90"/>
                    </a:lnTo>
                    <a:lnTo>
                      <a:pt x="284" y="88"/>
                    </a:lnTo>
                    <a:lnTo>
                      <a:pt x="296" y="85"/>
                    </a:lnTo>
                    <a:lnTo>
                      <a:pt x="309" y="81"/>
                    </a:lnTo>
                    <a:lnTo>
                      <a:pt x="319" y="77"/>
                    </a:lnTo>
                    <a:lnTo>
                      <a:pt x="328" y="73"/>
                    </a:lnTo>
                    <a:lnTo>
                      <a:pt x="334" y="69"/>
                    </a:lnTo>
                    <a:lnTo>
                      <a:pt x="340" y="63"/>
                    </a:lnTo>
                    <a:lnTo>
                      <a:pt x="345" y="60"/>
                    </a:lnTo>
                    <a:lnTo>
                      <a:pt x="347" y="54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005440" y="5419800"/>
                <a:ext cx="550800" cy="628560"/>
              </a:xfrm>
              <a:custGeom>
                <a:avLst/>
                <a:gdLst/>
                <a:ahLst/>
                <a:rect l="l" t="t" r="r" b="b"/>
                <a:pathLst>
                  <a:path w="347" h="396">
                    <a:moveTo>
                      <a:pt x="174" y="0"/>
                    </a:moveTo>
                    <a:lnTo>
                      <a:pt x="139" y="0"/>
                    </a:lnTo>
                    <a:lnTo>
                      <a:pt x="107" y="4"/>
                    </a:lnTo>
                    <a:lnTo>
                      <a:pt x="76" y="8"/>
                    </a:lnTo>
                    <a:lnTo>
                      <a:pt x="63" y="10"/>
                    </a:lnTo>
                    <a:lnTo>
                      <a:pt x="51" y="14"/>
                    </a:lnTo>
                    <a:lnTo>
                      <a:pt x="40" y="18"/>
                    </a:lnTo>
                    <a:lnTo>
                      <a:pt x="30" y="22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7" y="35"/>
                    </a:lnTo>
                    <a:lnTo>
                      <a:pt x="3" y="39"/>
                    </a:lnTo>
                    <a:lnTo>
                      <a:pt x="1" y="45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1" y="351"/>
                    </a:lnTo>
                    <a:lnTo>
                      <a:pt x="3" y="356"/>
                    </a:lnTo>
                    <a:lnTo>
                      <a:pt x="7" y="360"/>
                    </a:lnTo>
                    <a:lnTo>
                      <a:pt x="13" y="364"/>
                    </a:lnTo>
                    <a:lnTo>
                      <a:pt x="23" y="368"/>
                    </a:lnTo>
                    <a:lnTo>
                      <a:pt x="30" y="372"/>
                    </a:lnTo>
                    <a:lnTo>
                      <a:pt x="40" y="376"/>
                    </a:lnTo>
                    <a:lnTo>
                      <a:pt x="51" y="381"/>
                    </a:lnTo>
                    <a:lnTo>
                      <a:pt x="63" y="383"/>
                    </a:lnTo>
                    <a:lnTo>
                      <a:pt x="76" y="387"/>
                    </a:lnTo>
                    <a:lnTo>
                      <a:pt x="107" y="391"/>
                    </a:lnTo>
                    <a:lnTo>
                      <a:pt x="139" y="395"/>
                    </a:lnTo>
                    <a:lnTo>
                      <a:pt x="174" y="395"/>
                    </a:lnTo>
                    <a:lnTo>
                      <a:pt x="208" y="395"/>
                    </a:lnTo>
                    <a:lnTo>
                      <a:pt x="241" y="391"/>
                    </a:lnTo>
                    <a:lnTo>
                      <a:pt x="272" y="387"/>
                    </a:lnTo>
                    <a:lnTo>
                      <a:pt x="283" y="383"/>
                    </a:lnTo>
                    <a:lnTo>
                      <a:pt x="295" y="381"/>
                    </a:lnTo>
                    <a:lnTo>
                      <a:pt x="308" y="376"/>
                    </a:lnTo>
                    <a:lnTo>
                      <a:pt x="318" y="372"/>
                    </a:lnTo>
                    <a:lnTo>
                      <a:pt x="325" y="368"/>
                    </a:lnTo>
                    <a:lnTo>
                      <a:pt x="333" y="364"/>
                    </a:lnTo>
                    <a:lnTo>
                      <a:pt x="339" y="360"/>
                    </a:lnTo>
                    <a:lnTo>
                      <a:pt x="345" y="356"/>
                    </a:lnTo>
                    <a:lnTo>
                      <a:pt x="346" y="351"/>
                    </a:lnTo>
                    <a:lnTo>
                      <a:pt x="346" y="345"/>
                    </a:lnTo>
                    <a:lnTo>
                      <a:pt x="346" y="50"/>
                    </a:lnTo>
                    <a:lnTo>
                      <a:pt x="346" y="45"/>
                    </a:lnTo>
                    <a:lnTo>
                      <a:pt x="345" y="39"/>
                    </a:lnTo>
                    <a:lnTo>
                      <a:pt x="339" y="35"/>
                    </a:lnTo>
                    <a:lnTo>
                      <a:pt x="333" y="31"/>
                    </a:lnTo>
                    <a:lnTo>
                      <a:pt x="325" y="27"/>
                    </a:lnTo>
                    <a:lnTo>
                      <a:pt x="318" y="22"/>
                    </a:lnTo>
                    <a:lnTo>
                      <a:pt x="308" y="18"/>
                    </a:lnTo>
                    <a:lnTo>
                      <a:pt x="295" y="14"/>
                    </a:lnTo>
                    <a:lnTo>
                      <a:pt x="283" y="10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8" y="0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005440" y="5499000"/>
                <a:ext cx="550800" cy="77760"/>
              </a:xfrm>
              <a:custGeom>
                <a:avLst/>
                <a:gdLst/>
                <a:ahLst/>
                <a:rect l="l" t="t" r="r" b="b"/>
                <a:pathLst>
                  <a:path w="347" h="49">
                    <a:moveTo>
                      <a:pt x="0" y="0"/>
                    </a:moveTo>
                    <a:lnTo>
                      <a:pt x="1" y="4"/>
                    </a:lnTo>
                    <a:lnTo>
                      <a:pt x="3" y="10"/>
                    </a:lnTo>
                    <a:lnTo>
                      <a:pt x="7" y="14"/>
                    </a:lnTo>
                    <a:lnTo>
                      <a:pt x="13" y="19"/>
                    </a:lnTo>
                    <a:lnTo>
                      <a:pt x="23" y="23"/>
                    </a:lnTo>
                    <a:lnTo>
                      <a:pt x="30" y="27"/>
                    </a:lnTo>
                    <a:lnTo>
                      <a:pt x="40" y="31"/>
                    </a:lnTo>
                    <a:lnTo>
                      <a:pt x="51" y="35"/>
                    </a:lnTo>
                    <a:lnTo>
                      <a:pt x="63" y="37"/>
                    </a:lnTo>
                    <a:lnTo>
                      <a:pt x="76" y="40"/>
                    </a:lnTo>
                    <a:lnTo>
                      <a:pt x="107" y="44"/>
                    </a:lnTo>
                    <a:lnTo>
                      <a:pt x="139" y="48"/>
                    </a:lnTo>
                    <a:lnTo>
                      <a:pt x="174" y="48"/>
                    </a:lnTo>
                    <a:lnTo>
                      <a:pt x="208" y="48"/>
                    </a:lnTo>
                    <a:lnTo>
                      <a:pt x="241" y="44"/>
                    </a:lnTo>
                    <a:lnTo>
                      <a:pt x="272" y="40"/>
                    </a:lnTo>
                    <a:lnTo>
                      <a:pt x="283" y="37"/>
                    </a:lnTo>
                    <a:lnTo>
                      <a:pt x="295" y="35"/>
                    </a:lnTo>
                    <a:lnTo>
                      <a:pt x="308" y="31"/>
                    </a:lnTo>
                    <a:lnTo>
                      <a:pt x="318" y="27"/>
                    </a:lnTo>
                    <a:lnTo>
                      <a:pt x="325" y="23"/>
                    </a:lnTo>
                    <a:lnTo>
                      <a:pt x="333" y="19"/>
                    </a:lnTo>
                    <a:lnTo>
                      <a:pt x="339" y="14"/>
                    </a:lnTo>
                    <a:lnTo>
                      <a:pt x="345" y="10"/>
                    </a:lnTo>
                    <a:lnTo>
                      <a:pt x="346" y="4"/>
                    </a:lnTo>
                    <a:lnTo>
                      <a:pt x="346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2209680" y="5451480"/>
              <a:ext cx="586080" cy="581040"/>
              <a:chOff x="2209680" y="5451480"/>
              <a:chExt cx="586080" cy="581040"/>
            </a:xfrm>
          </p:grpSpPr>
          <p:sp>
            <p:nvSpPr>
              <p:cNvPr id="123" name=""/>
              <p:cNvSpPr/>
              <p:nvPr/>
            </p:nvSpPr>
            <p:spPr>
              <a:xfrm>
                <a:off x="2216160" y="5456160"/>
                <a:ext cx="579600" cy="576360"/>
              </a:xfrm>
              <a:custGeom>
                <a:avLst/>
                <a:gdLst/>
                <a:ahLst/>
                <a:rect l="l" t="t" r="r" b="b"/>
                <a:pathLst>
                  <a:path w="365" h="363">
                    <a:moveTo>
                      <a:pt x="316" y="303"/>
                    </a:moveTo>
                    <a:lnTo>
                      <a:pt x="336" y="274"/>
                    </a:lnTo>
                    <a:lnTo>
                      <a:pt x="351" y="245"/>
                    </a:lnTo>
                    <a:lnTo>
                      <a:pt x="361" y="217"/>
                    </a:lnTo>
                    <a:lnTo>
                      <a:pt x="364" y="198"/>
                    </a:lnTo>
                    <a:lnTo>
                      <a:pt x="364" y="180"/>
                    </a:lnTo>
                    <a:lnTo>
                      <a:pt x="362" y="163"/>
                    </a:lnTo>
                    <a:lnTo>
                      <a:pt x="361" y="146"/>
                    </a:lnTo>
                    <a:lnTo>
                      <a:pt x="357" y="129"/>
                    </a:lnTo>
                    <a:lnTo>
                      <a:pt x="349" y="110"/>
                    </a:lnTo>
                    <a:lnTo>
                      <a:pt x="334" y="81"/>
                    </a:lnTo>
                    <a:lnTo>
                      <a:pt x="311" y="52"/>
                    </a:lnTo>
                    <a:lnTo>
                      <a:pt x="286" y="29"/>
                    </a:lnTo>
                    <a:lnTo>
                      <a:pt x="253" y="10"/>
                    </a:lnTo>
                    <a:lnTo>
                      <a:pt x="219" y="6"/>
                    </a:lnTo>
                    <a:lnTo>
                      <a:pt x="180" y="0"/>
                    </a:lnTo>
                    <a:lnTo>
                      <a:pt x="146" y="6"/>
                    </a:lnTo>
                    <a:lnTo>
                      <a:pt x="111" y="10"/>
                    </a:lnTo>
                    <a:lnTo>
                      <a:pt x="81" y="29"/>
                    </a:lnTo>
                    <a:lnTo>
                      <a:pt x="54" y="52"/>
                    </a:lnTo>
                    <a:lnTo>
                      <a:pt x="31" y="81"/>
                    </a:lnTo>
                    <a:lnTo>
                      <a:pt x="14" y="110"/>
                    </a:lnTo>
                    <a:lnTo>
                      <a:pt x="8" y="129"/>
                    </a:lnTo>
                    <a:lnTo>
                      <a:pt x="4" y="146"/>
                    </a:lnTo>
                    <a:lnTo>
                      <a:pt x="2" y="163"/>
                    </a:lnTo>
                    <a:lnTo>
                      <a:pt x="0" y="180"/>
                    </a:lnTo>
                    <a:lnTo>
                      <a:pt x="2" y="198"/>
                    </a:lnTo>
                    <a:lnTo>
                      <a:pt x="4" y="217"/>
                    </a:lnTo>
                    <a:lnTo>
                      <a:pt x="8" y="234"/>
                    </a:lnTo>
                    <a:lnTo>
                      <a:pt x="14" y="251"/>
                    </a:lnTo>
                    <a:lnTo>
                      <a:pt x="31" y="280"/>
                    </a:lnTo>
                    <a:lnTo>
                      <a:pt x="54" y="311"/>
                    </a:lnTo>
                    <a:lnTo>
                      <a:pt x="81" y="333"/>
                    </a:lnTo>
                    <a:lnTo>
                      <a:pt x="109" y="351"/>
                    </a:lnTo>
                    <a:lnTo>
                      <a:pt x="144" y="356"/>
                    </a:lnTo>
                    <a:lnTo>
                      <a:pt x="180" y="362"/>
                    </a:lnTo>
                    <a:lnTo>
                      <a:pt x="355" y="362"/>
                    </a:lnTo>
                    <a:lnTo>
                      <a:pt x="355" y="303"/>
                    </a:lnTo>
                    <a:lnTo>
                      <a:pt x="316" y="303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09680" y="5451480"/>
                <a:ext cx="581040" cy="574560"/>
              </a:xfrm>
              <a:custGeom>
                <a:avLst/>
                <a:gdLst/>
                <a:ahLst/>
                <a:rect l="l" t="t" r="r" b="b"/>
                <a:pathLst>
                  <a:path w="366" h="362">
                    <a:moveTo>
                      <a:pt x="317" y="302"/>
                    </a:moveTo>
                    <a:lnTo>
                      <a:pt x="336" y="273"/>
                    </a:lnTo>
                    <a:lnTo>
                      <a:pt x="351" y="245"/>
                    </a:lnTo>
                    <a:lnTo>
                      <a:pt x="361" y="216"/>
                    </a:lnTo>
                    <a:lnTo>
                      <a:pt x="365" y="197"/>
                    </a:lnTo>
                    <a:lnTo>
                      <a:pt x="365" y="180"/>
                    </a:lnTo>
                    <a:lnTo>
                      <a:pt x="363" y="162"/>
                    </a:lnTo>
                    <a:lnTo>
                      <a:pt x="361" y="145"/>
                    </a:lnTo>
                    <a:lnTo>
                      <a:pt x="357" y="128"/>
                    </a:lnTo>
                    <a:lnTo>
                      <a:pt x="349" y="109"/>
                    </a:lnTo>
                    <a:lnTo>
                      <a:pt x="332" y="80"/>
                    </a:lnTo>
                    <a:lnTo>
                      <a:pt x="311" y="51"/>
                    </a:lnTo>
                    <a:lnTo>
                      <a:pt x="284" y="28"/>
                    </a:lnTo>
                    <a:lnTo>
                      <a:pt x="253" y="9"/>
                    </a:lnTo>
                    <a:lnTo>
                      <a:pt x="219" y="5"/>
                    </a:lnTo>
                    <a:lnTo>
                      <a:pt x="180" y="0"/>
                    </a:lnTo>
                    <a:lnTo>
                      <a:pt x="146" y="5"/>
                    </a:lnTo>
                    <a:lnTo>
                      <a:pt x="111" y="9"/>
                    </a:lnTo>
                    <a:lnTo>
                      <a:pt x="81" y="28"/>
                    </a:lnTo>
                    <a:lnTo>
                      <a:pt x="54" y="51"/>
                    </a:lnTo>
                    <a:lnTo>
                      <a:pt x="31" y="80"/>
                    </a:lnTo>
                    <a:lnTo>
                      <a:pt x="14" y="109"/>
                    </a:lnTo>
                    <a:lnTo>
                      <a:pt x="8" y="128"/>
                    </a:lnTo>
                    <a:lnTo>
                      <a:pt x="4" y="145"/>
                    </a:lnTo>
                    <a:lnTo>
                      <a:pt x="2" y="162"/>
                    </a:lnTo>
                    <a:lnTo>
                      <a:pt x="0" y="180"/>
                    </a:lnTo>
                    <a:lnTo>
                      <a:pt x="2" y="197"/>
                    </a:lnTo>
                    <a:lnTo>
                      <a:pt x="4" y="216"/>
                    </a:lnTo>
                    <a:lnTo>
                      <a:pt x="8" y="233"/>
                    </a:lnTo>
                    <a:lnTo>
                      <a:pt x="14" y="250"/>
                    </a:lnTo>
                    <a:lnTo>
                      <a:pt x="31" y="279"/>
                    </a:lnTo>
                    <a:lnTo>
                      <a:pt x="54" y="308"/>
                    </a:lnTo>
                    <a:lnTo>
                      <a:pt x="81" y="333"/>
                    </a:lnTo>
                    <a:lnTo>
                      <a:pt x="110" y="350"/>
                    </a:lnTo>
                    <a:lnTo>
                      <a:pt x="144" y="356"/>
                    </a:lnTo>
                    <a:lnTo>
                      <a:pt x="180" y="361"/>
                    </a:lnTo>
                    <a:lnTo>
                      <a:pt x="355" y="361"/>
                    </a:lnTo>
                    <a:lnTo>
                      <a:pt x="355" y="302"/>
                    </a:lnTo>
                    <a:lnTo>
                      <a:pt x="317" y="302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6448320" y="5442120"/>
              <a:ext cx="561960" cy="636480"/>
              <a:chOff x="6448320" y="5442120"/>
              <a:chExt cx="561960" cy="636480"/>
            </a:xfrm>
          </p:grpSpPr>
          <p:sp>
            <p:nvSpPr>
              <p:cNvPr id="126" name=""/>
              <p:cNvSpPr/>
              <p:nvPr/>
            </p:nvSpPr>
            <p:spPr>
              <a:xfrm>
                <a:off x="6454800" y="5451480"/>
                <a:ext cx="555480" cy="627120"/>
              </a:xfrm>
              <a:custGeom>
                <a:avLst/>
                <a:gdLst/>
                <a:ahLst/>
                <a:rect l="l" t="t" r="r" b="b"/>
                <a:pathLst>
                  <a:path w="350" h="395">
                    <a:moveTo>
                      <a:pt x="175" y="0"/>
                    </a:move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  <a:lnTo>
                      <a:pt x="0" y="344"/>
                    </a:lnTo>
                    <a:lnTo>
                      <a:pt x="2" y="350"/>
                    </a:lnTo>
                    <a:lnTo>
                      <a:pt x="4" y="354"/>
                    </a:lnTo>
                    <a:lnTo>
                      <a:pt x="8" y="359"/>
                    </a:lnTo>
                    <a:lnTo>
                      <a:pt x="14" y="363"/>
                    </a:lnTo>
                    <a:lnTo>
                      <a:pt x="23" y="367"/>
                    </a:lnTo>
                    <a:lnTo>
                      <a:pt x="31" y="371"/>
                    </a:lnTo>
                    <a:lnTo>
                      <a:pt x="40" y="375"/>
                    </a:lnTo>
                    <a:lnTo>
                      <a:pt x="52" y="379"/>
                    </a:lnTo>
                    <a:lnTo>
                      <a:pt x="65" y="382"/>
                    </a:lnTo>
                    <a:lnTo>
                      <a:pt x="77" y="386"/>
                    </a:lnTo>
                    <a:lnTo>
                      <a:pt x="107" y="390"/>
                    </a:lnTo>
                    <a:lnTo>
                      <a:pt x="140" y="394"/>
                    </a:lnTo>
                    <a:lnTo>
                      <a:pt x="175" y="394"/>
                    </a:lnTo>
                    <a:lnTo>
                      <a:pt x="209" y="394"/>
                    </a:lnTo>
                    <a:lnTo>
                      <a:pt x="242" y="390"/>
                    </a:lnTo>
                    <a:lnTo>
                      <a:pt x="270" y="386"/>
                    </a:lnTo>
                    <a:lnTo>
                      <a:pt x="284" y="382"/>
                    </a:lnTo>
                    <a:lnTo>
                      <a:pt x="295" y="379"/>
                    </a:lnTo>
                    <a:lnTo>
                      <a:pt x="309" y="375"/>
                    </a:lnTo>
                    <a:lnTo>
                      <a:pt x="318" y="371"/>
                    </a:lnTo>
                    <a:lnTo>
                      <a:pt x="328" y="367"/>
                    </a:lnTo>
                    <a:lnTo>
                      <a:pt x="334" y="363"/>
                    </a:lnTo>
                    <a:lnTo>
                      <a:pt x="339" y="359"/>
                    </a:lnTo>
                    <a:lnTo>
                      <a:pt x="345" y="354"/>
                    </a:lnTo>
                    <a:lnTo>
                      <a:pt x="347" y="350"/>
                    </a:lnTo>
                    <a:lnTo>
                      <a:pt x="349" y="344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454800" y="5451480"/>
                <a:ext cx="555480" cy="155520"/>
              </a:xfrm>
              <a:custGeom>
                <a:avLst/>
                <a:gdLst/>
                <a:ahLst/>
                <a:rect l="l" t="t" r="r" b="b"/>
                <a:pathLst>
                  <a:path w="350" h="98">
                    <a:moveTo>
                      <a:pt x="0" y="49"/>
                    </a:moveTo>
                    <a:lnTo>
                      <a:pt x="2" y="53"/>
                    </a:lnTo>
                    <a:lnTo>
                      <a:pt x="4" y="59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2"/>
                    </a:lnTo>
                    <a:lnTo>
                      <a:pt x="31" y="76"/>
                    </a:lnTo>
                    <a:lnTo>
                      <a:pt x="40" y="80"/>
                    </a:lnTo>
                    <a:lnTo>
                      <a:pt x="52" y="84"/>
                    </a:lnTo>
                    <a:lnTo>
                      <a:pt x="65" y="86"/>
                    </a:lnTo>
                    <a:lnTo>
                      <a:pt x="77" y="90"/>
                    </a:lnTo>
                    <a:lnTo>
                      <a:pt x="107" y="93"/>
                    </a:lnTo>
                    <a:lnTo>
                      <a:pt x="140" y="97"/>
                    </a:lnTo>
                    <a:lnTo>
                      <a:pt x="175" y="97"/>
                    </a:lnTo>
                    <a:lnTo>
                      <a:pt x="209" y="97"/>
                    </a:lnTo>
                    <a:lnTo>
                      <a:pt x="242" y="93"/>
                    </a:lnTo>
                    <a:lnTo>
                      <a:pt x="270" y="90"/>
                    </a:lnTo>
                    <a:lnTo>
                      <a:pt x="284" y="86"/>
                    </a:lnTo>
                    <a:lnTo>
                      <a:pt x="295" y="84"/>
                    </a:lnTo>
                    <a:lnTo>
                      <a:pt x="309" y="80"/>
                    </a:lnTo>
                    <a:lnTo>
                      <a:pt x="318" y="76"/>
                    </a:lnTo>
                    <a:lnTo>
                      <a:pt x="328" y="72"/>
                    </a:lnTo>
                    <a:lnTo>
                      <a:pt x="334" y="69"/>
                    </a:lnTo>
                    <a:lnTo>
                      <a:pt x="339" y="63"/>
                    </a:lnTo>
                    <a:lnTo>
                      <a:pt x="345" y="59"/>
                    </a:lnTo>
                    <a:lnTo>
                      <a:pt x="347" y="53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448320" y="544212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5" y="0"/>
                    </a:moveTo>
                    <a:lnTo>
                      <a:pt x="140" y="2"/>
                    </a:lnTo>
                    <a:lnTo>
                      <a:pt x="108" y="6"/>
                    </a:lnTo>
                    <a:lnTo>
                      <a:pt x="77" y="9"/>
                    </a:lnTo>
                    <a:lnTo>
                      <a:pt x="65" y="11"/>
                    </a:lnTo>
                    <a:lnTo>
                      <a:pt x="52" y="15"/>
                    </a:lnTo>
                    <a:lnTo>
                      <a:pt x="41" y="19"/>
                    </a:lnTo>
                    <a:lnTo>
                      <a:pt x="31" y="23"/>
                    </a:lnTo>
                    <a:lnTo>
                      <a:pt x="23" y="29"/>
                    </a:lnTo>
                    <a:lnTo>
                      <a:pt x="14" y="32"/>
                    </a:lnTo>
                    <a:lnTo>
                      <a:pt x="8" y="36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8" y="362"/>
                    </a:lnTo>
                    <a:lnTo>
                      <a:pt x="14" y="365"/>
                    </a:lnTo>
                    <a:lnTo>
                      <a:pt x="23" y="369"/>
                    </a:lnTo>
                    <a:lnTo>
                      <a:pt x="31" y="373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7" y="388"/>
                    </a:lnTo>
                    <a:lnTo>
                      <a:pt x="108" y="392"/>
                    </a:lnTo>
                    <a:lnTo>
                      <a:pt x="140" y="396"/>
                    </a:lnTo>
                    <a:lnTo>
                      <a:pt x="175" y="396"/>
                    </a:lnTo>
                    <a:lnTo>
                      <a:pt x="209" y="396"/>
                    </a:lnTo>
                    <a:lnTo>
                      <a:pt x="242" y="392"/>
                    </a:lnTo>
                    <a:lnTo>
                      <a:pt x="271" y="388"/>
                    </a:lnTo>
                    <a:lnTo>
                      <a:pt x="284" y="385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3"/>
                    </a:lnTo>
                    <a:lnTo>
                      <a:pt x="328" y="369"/>
                    </a:lnTo>
                    <a:lnTo>
                      <a:pt x="334" y="365"/>
                    </a:lnTo>
                    <a:lnTo>
                      <a:pt x="340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40" y="36"/>
                    </a:lnTo>
                    <a:lnTo>
                      <a:pt x="334" y="32"/>
                    </a:lnTo>
                    <a:lnTo>
                      <a:pt x="328" y="29"/>
                    </a:lnTo>
                    <a:lnTo>
                      <a:pt x="319" y="23"/>
                    </a:lnTo>
                    <a:lnTo>
                      <a:pt x="309" y="19"/>
                    </a:lnTo>
                    <a:lnTo>
                      <a:pt x="296" y="15"/>
                    </a:lnTo>
                    <a:lnTo>
                      <a:pt x="284" y="11"/>
                    </a:lnTo>
                    <a:lnTo>
                      <a:pt x="271" y="9"/>
                    </a:lnTo>
                    <a:lnTo>
                      <a:pt x="242" y="6"/>
                    </a:lnTo>
                    <a:lnTo>
                      <a:pt x="209" y="2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448320" y="5521320"/>
                <a:ext cx="552600" cy="79560"/>
              </a:xfrm>
              <a:custGeom>
                <a:avLst/>
                <a:gdLst/>
                <a:ahLst/>
                <a:rect l="l" t="t" r="r" b="b"/>
                <a:pathLst>
                  <a:path w="348" h="50">
                    <a:moveTo>
                      <a:pt x="0" y="0"/>
                    </a:moveTo>
                    <a:lnTo>
                      <a:pt x="2" y="5"/>
                    </a:lnTo>
                    <a:lnTo>
                      <a:pt x="4" y="11"/>
                    </a:lnTo>
                    <a:lnTo>
                      <a:pt x="8" y="15"/>
                    </a:lnTo>
                    <a:lnTo>
                      <a:pt x="14" y="21"/>
                    </a:lnTo>
                    <a:lnTo>
                      <a:pt x="23" y="25"/>
                    </a:lnTo>
                    <a:lnTo>
                      <a:pt x="31" y="28"/>
                    </a:lnTo>
                    <a:lnTo>
                      <a:pt x="41" y="32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7" y="42"/>
                    </a:lnTo>
                    <a:lnTo>
                      <a:pt x="108" y="46"/>
                    </a:lnTo>
                    <a:lnTo>
                      <a:pt x="140" y="47"/>
                    </a:lnTo>
                    <a:lnTo>
                      <a:pt x="175" y="49"/>
                    </a:lnTo>
                    <a:lnTo>
                      <a:pt x="209" y="47"/>
                    </a:lnTo>
                    <a:lnTo>
                      <a:pt x="242" y="46"/>
                    </a:lnTo>
                    <a:lnTo>
                      <a:pt x="271" y="42"/>
                    </a:lnTo>
                    <a:lnTo>
                      <a:pt x="284" y="38"/>
                    </a:lnTo>
                    <a:lnTo>
                      <a:pt x="296" y="36"/>
                    </a:lnTo>
                    <a:lnTo>
                      <a:pt x="309" y="32"/>
                    </a:lnTo>
                    <a:lnTo>
                      <a:pt x="319" y="28"/>
                    </a:lnTo>
                    <a:lnTo>
                      <a:pt x="328" y="25"/>
                    </a:lnTo>
                    <a:lnTo>
                      <a:pt x="334" y="21"/>
                    </a:lnTo>
                    <a:lnTo>
                      <a:pt x="340" y="15"/>
                    </a:lnTo>
                    <a:lnTo>
                      <a:pt x="345" y="11"/>
                    </a:lnTo>
                    <a:lnTo>
                      <a:pt x="347" y="5"/>
                    </a:lnTo>
                    <a:lnTo>
                      <a:pt x="347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2114640" y="2419200"/>
              <a:ext cx="5292720" cy="78768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2038320" y="2514600"/>
              <a:ext cx="1239120" cy="552240"/>
              <a:chOff x="2038320" y="2514600"/>
              <a:chExt cx="1239120" cy="552240"/>
            </a:xfrm>
          </p:grpSpPr>
          <p:sp>
            <p:nvSpPr>
              <p:cNvPr id="132" name=""/>
              <p:cNvSpPr/>
              <p:nvPr/>
            </p:nvSpPr>
            <p:spPr>
              <a:xfrm>
                <a:off x="2038320" y="2514600"/>
                <a:ext cx="82548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304360" y="2517840"/>
                <a:ext cx="97308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C, C++,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Linux I/O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3429000" y="2514600"/>
              <a:ext cx="903240" cy="552240"/>
              <a:chOff x="3429000" y="2514600"/>
              <a:chExt cx="903240" cy="552240"/>
            </a:xfrm>
          </p:grpSpPr>
          <p:sp>
            <p:nvSpPr>
              <p:cNvPr id="135" name=""/>
              <p:cNvSpPr/>
              <p:nvPr/>
            </p:nvSpPr>
            <p:spPr>
              <a:xfrm>
                <a:off x="3429000" y="2514600"/>
                <a:ext cx="90324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47880" y="2517840"/>
                <a:ext cx="52812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hell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34290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50200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39408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30064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70716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36520" y="5334120"/>
              <a:ext cx="1674720" cy="6825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79320" y="4703760"/>
              <a:ext cx="1371600" cy="5684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060920" y="4724280"/>
              <a:ext cx="64836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ublin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623000" y="2500200"/>
              <a:ext cx="1382760" cy="719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43520" y="2209680"/>
              <a:ext cx="8510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esource,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93720" y="2759040"/>
              <a:ext cx="0" cy="830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60560" y="2803680"/>
              <a:ext cx="990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15360" y="2819520"/>
              <a:ext cx="67572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efin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82040" y="5365800"/>
              <a:ext cx="119628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Applica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Meta-dat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373040" y="4038480"/>
              <a:ext cx="7718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792920" y="35416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Remot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Proxi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400880" y="4038480"/>
              <a:ext cx="3920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70000" y="2157480"/>
              <a:ext cx="111600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405560" y="4741920"/>
              <a:ext cx="1611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545240" y="4816440"/>
              <a:ext cx="1298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DataCutt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8191440" y="4484520"/>
              <a:ext cx="163440" cy="2858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693920" y="2584440"/>
              <a:ext cx="123012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Third-part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cop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 flipV="1">
              <a:off x="8191440" y="3212640"/>
              <a:ext cx="163440" cy="3272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3434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79284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21160" y="2516040"/>
              <a:ext cx="11397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Java, 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Browse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794280" y="2606760"/>
              <a:ext cx="638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We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57388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650200" y="2516040"/>
              <a:ext cx="11109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olo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edicat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7480" y="35812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724280" y="1906560"/>
              <a:ext cx="0" cy="531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75480" y="3914640"/>
              <a:ext cx="779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MCA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8098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811320" y="4344840"/>
              <a:ext cx="740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HR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Pu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990720" y="3067200"/>
            <a:ext cx="740556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data: Ecogrid SRB put service for data allows users to create (upload) files into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metadata:  Putting metadata through Ecogrid SRB Put service means to add metadata data for existing a SRB data object (fil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28600" y="914400"/>
            <a:ext cx="4952880" cy="2666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3520" y="4038480"/>
            <a:ext cx="4952880" cy="2438640"/>
          </a:xfrm>
          <a:prstGeom prst="ellipse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05520" y="2438280"/>
            <a:ext cx="4038480" cy="251460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828800" y="12952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0" y="4267080"/>
            <a:ext cx="13716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477120" y="2666880"/>
            <a:ext cx="129528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14400" y="2362320"/>
            <a:ext cx="137160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743200" y="26668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00200" y="5562720"/>
            <a:ext cx="1371600" cy="6094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962520" y="5334120"/>
            <a:ext cx="114300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172200" y="4038480"/>
            <a:ext cx="1295280" cy="60984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3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666880" y="35812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181480" y="2438280"/>
            <a:ext cx="45720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495680" y="3809520"/>
            <a:ext cx="53352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52680" y="1523880"/>
            <a:ext cx="3124440" cy="11430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67080" y="2971800"/>
            <a:ext cx="2133720" cy="763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343400" y="3124080"/>
            <a:ext cx="1905120" cy="838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01240" y="193680"/>
            <a:ext cx="807732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Peer to peer Federated MCAT (3.0 +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cogrid Level I Servic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90920" y="2362320"/>
            <a:ext cx="3565440" cy="2820960"/>
          </a:xfrm>
          <a:custGeom>
            <a:avLst/>
            <a:gdLst/>
            <a:ahLst/>
            <a:rect l="l" t="t" r="r" b="b"/>
            <a:pathLst>
              <a:path w="2246" h="1777">
                <a:moveTo>
                  <a:pt x="180" y="526"/>
                </a:moveTo>
                <a:cubicBezTo>
                  <a:pt x="232" y="474"/>
                  <a:pt x="246" y="391"/>
                  <a:pt x="287" y="329"/>
                </a:cubicBezTo>
                <a:cubicBezTo>
                  <a:pt x="297" y="296"/>
                  <a:pt x="320" y="278"/>
                  <a:pt x="345" y="255"/>
                </a:cubicBezTo>
                <a:cubicBezTo>
                  <a:pt x="438" y="258"/>
                  <a:pt x="532" y="256"/>
                  <a:pt x="625" y="263"/>
                </a:cubicBezTo>
                <a:cubicBezTo>
                  <a:pt x="644" y="264"/>
                  <a:pt x="670" y="297"/>
                  <a:pt x="690" y="304"/>
                </a:cubicBezTo>
                <a:cubicBezTo>
                  <a:pt x="710" y="302"/>
                  <a:pt x="768" y="303"/>
                  <a:pt x="797" y="288"/>
                </a:cubicBezTo>
                <a:cubicBezTo>
                  <a:pt x="858" y="257"/>
                  <a:pt x="787" y="282"/>
                  <a:pt x="847" y="263"/>
                </a:cubicBezTo>
                <a:cubicBezTo>
                  <a:pt x="882" y="226"/>
                  <a:pt x="839" y="267"/>
                  <a:pt x="896" y="230"/>
                </a:cubicBezTo>
                <a:cubicBezTo>
                  <a:pt x="919" y="215"/>
                  <a:pt x="936" y="190"/>
                  <a:pt x="962" y="181"/>
                </a:cubicBezTo>
                <a:cubicBezTo>
                  <a:pt x="1024" y="159"/>
                  <a:pt x="1083" y="125"/>
                  <a:pt x="1143" y="98"/>
                </a:cubicBezTo>
                <a:cubicBezTo>
                  <a:pt x="1171" y="85"/>
                  <a:pt x="1211" y="74"/>
                  <a:pt x="1242" y="65"/>
                </a:cubicBezTo>
                <a:cubicBezTo>
                  <a:pt x="1264" y="59"/>
                  <a:pt x="1308" y="49"/>
                  <a:pt x="1308" y="49"/>
                </a:cubicBezTo>
                <a:cubicBezTo>
                  <a:pt x="1361" y="22"/>
                  <a:pt x="1404" y="7"/>
                  <a:pt x="1464" y="0"/>
                </a:cubicBezTo>
                <a:cubicBezTo>
                  <a:pt x="1563" y="5"/>
                  <a:pt x="1625" y="10"/>
                  <a:pt x="1711" y="41"/>
                </a:cubicBezTo>
                <a:cubicBezTo>
                  <a:pt x="1754" y="72"/>
                  <a:pt x="1798" y="102"/>
                  <a:pt x="1842" y="131"/>
                </a:cubicBezTo>
                <a:cubicBezTo>
                  <a:pt x="1884" y="212"/>
                  <a:pt x="1972" y="251"/>
                  <a:pt x="2056" y="279"/>
                </a:cubicBezTo>
                <a:cubicBezTo>
                  <a:pt x="2095" y="337"/>
                  <a:pt x="2164" y="342"/>
                  <a:pt x="2221" y="378"/>
                </a:cubicBezTo>
                <a:cubicBezTo>
                  <a:pt x="2226" y="394"/>
                  <a:pt x="2232" y="411"/>
                  <a:pt x="2237" y="427"/>
                </a:cubicBezTo>
                <a:cubicBezTo>
                  <a:pt x="2246" y="454"/>
                  <a:pt x="2230" y="483"/>
                  <a:pt x="2221" y="510"/>
                </a:cubicBezTo>
                <a:cubicBezTo>
                  <a:pt x="2207" y="551"/>
                  <a:pt x="2162" y="581"/>
                  <a:pt x="2139" y="617"/>
                </a:cubicBezTo>
                <a:cubicBezTo>
                  <a:pt x="2113" y="659"/>
                  <a:pt x="2110" y="671"/>
                  <a:pt x="2098" y="707"/>
                </a:cubicBezTo>
                <a:cubicBezTo>
                  <a:pt x="2105" y="757"/>
                  <a:pt x="2100" y="810"/>
                  <a:pt x="2122" y="855"/>
                </a:cubicBezTo>
                <a:cubicBezTo>
                  <a:pt x="2149" y="910"/>
                  <a:pt x="2181" y="935"/>
                  <a:pt x="2196" y="995"/>
                </a:cubicBezTo>
                <a:cubicBezTo>
                  <a:pt x="2193" y="1031"/>
                  <a:pt x="2190" y="1066"/>
                  <a:pt x="2188" y="1102"/>
                </a:cubicBezTo>
                <a:cubicBezTo>
                  <a:pt x="2185" y="1168"/>
                  <a:pt x="2184" y="1234"/>
                  <a:pt x="2180" y="1300"/>
                </a:cubicBezTo>
                <a:cubicBezTo>
                  <a:pt x="2175" y="1375"/>
                  <a:pt x="2123" y="1432"/>
                  <a:pt x="2081" y="1489"/>
                </a:cubicBezTo>
                <a:cubicBezTo>
                  <a:pt x="2053" y="1527"/>
                  <a:pt x="2024" y="1555"/>
                  <a:pt x="1991" y="1588"/>
                </a:cubicBezTo>
                <a:cubicBezTo>
                  <a:pt x="1969" y="1610"/>
                  <a:pt x="1969" y="1640"/>
                  <a:pt x="1933" y="1653"/>
                </a:cubicBezTo>
                <a:cubicBezTo>
                  <a:pt x="1814" y="1696"/>
                  <a:pt x="1688" y="1693"/>
                  <a:pt x="1563" y="1703"/>
                </a:cubicBezTo>
                <a:cubicBezTo>
                  <a:pt x="1549" y="1741"/>
                  <a:pt x="1565" y="1763"/>
                  <a:pt x="1522" y="1777"/>
                </a:cubicBezTo>
                <a:cubicBezTo>
                  <a:pt x="1418" y="1774"/>
                  <a:pt x="1313" y="1777"/>
                  <a:pt x="1209" y="1769"/>
                </a:cubicBezTo>
                <a:cubicBezTo>
                  <a:pt x="1185" y="1767"/>
                  <a:pt x="1127" y="1736"/>
                  <a:pt x="1094" y="1728"/>
                </a:cubicBezTo>
                <a:cubicBezTo>
                  <a:pt x="1027" y="1683"/>
                  <a:pt x="993" y="1609"/>
                  <a:pt x="913" y="1579"/>
                </a:cubicBezTo>
                <a:cubicBezTo>
                  <a:pt x="889" y="1556"/>
                  <a:pt x="853" y="1546"/>
                  <a:pt x="830" y="1522"/>
                </a:cubicBezTo>
                <a:cubicBezTo>
                  <a:pt x="825" y="1516"/>
                  <a:pt x="818" y="1511"/>
                  <a:pt x="814" y="1505"/>
                </a:cubicBezTo>
                <a:cubicBezTo>
                  <a:pt x="807" y="1495"/>
                  <a:pt x="805" y="1482"/>
                  <a:pt x="797" y="1472"/>
                </a:cubicBezTo>
                <a:cubicBezTo>
                  <a:pt x="749" y="1413"/>
                  <a:pt x="683" y="1351"/>
                  <a:pt x="608" y="1333"/>
                </a:cubicBezTo>
                <a:cubicBezTo>
                  <a:pt x="535" y="1342"/>
                  <a:pt x="486" y="1352"/>
                  <a:pt x="419" y="1365"/>
                </a:cubicBezTo>
                <a:cubicBezTo>
                  <a:pt x="373" y="1360"/>
                  <a:pt x="316" y="1361"/>
                  <a:pt x="271" y="1341"/>
                </a:cubicBezTo>
                <a:cubicBezTo>
                  <a:pt x="221" y="1319"/>
                  <a:pt x="197" y="1290"/>
                  <a:pt x="164" y="1250"/>
                </a:cubicBezTo>
                <a:cubicBezTo>
                  <a:pt x="136" y="1217"/>
                  <a:pt x="80" y="1191"/>
                  <a:pt x="57" y="1160"/>
                </a:cubicBezTo>
                <a:cubicBezTo>
                  <a:pt x="27" y="1121"/>
                  <a:pt x="41" y="1137"/>
                  <a:pt x="16" y="1110"/>
                </a:cubicBezTo>
                <a:cubicBezTo>
                  <a:pt x="0" y="1067"/>
                  <a:pt x="2" y="1030"/>
                  <a:pt x="40" y="1003"/>
                </a:cubicBezTo>
                <a:cubicBezTo>
                  <a:pt x="56" y="960"/>
                  <a:pt x="74" y="922"/>
                  <a:pt x="106" y="888"/>
                </a:cubicBezTo>
                <a:cubicBezTo>
                  <a:pt x="126" y="830"/>
                  <a:pt x="114" y="854"/>
                  <a:pt x="139" y="814"/>
                </a:cubicBezTo>
                <a:cubicBezTo>
                  <a:pt x="151" y="764"/>
                  <a:pt x="160" y="708"/>
                  <a:pt x="189" y="666"/>
                </a:cubicBezTo>
                <a:cubicBezTo>
                  <a:pt x="198" y="628"/>
                  <a:pt x="229" y="592"/>
                  <a:pt x="205" y="551"/>
                </a:cubicBezTo>
                <a:cubicBezTo>
                  <a:pt x="175" y="498"/>
                  <a:pt x="180" y="579"/>
                  <a:pt x="180" y="526"/>
                </a:cubicBezTo>
                <a:close/>
              </a:path>
            </a:pathLst>
          </a:cu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100160" y="1517760"/>
            <a:ext cx="1185840" cy="1149120"/>
            <a:chOff x="1100160" y="1517760"/>
            <a:chExt cx="1185840" cy="1149120"/>
          </a:xfrm>
        </p:grpSpPr>
        <p:sp>
          <p:nvSpPr>
            <p:cNvPr id="192" name=""/>
            <p:cNvSpPr/>
            <p:nvPr/>
          </p:nvSpPr>
          <p:spPr>
            <a:xfrm>
              <a:off x="1100160" y="1517760"/>
              <a:ext cx="1185840" cy="1149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343160" y="202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Metaca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493560" y="1805040"/>
            <a:ext cx="492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850160" y="838080"/>
            <a:ext cx="1089000" cy="20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++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yth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Web servic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86200" y="3505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723960" cy="30456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47760" y="3327480"/>
            <a:ext cx="81756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581280" y="137160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971800" y="57913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410080" y="60199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086600" y="358128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5754600" y="2184480"/>
            <a:ext cx="558720" cy="55872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6313320" y="1058760"/>
            <a:ext cx="1165320" cy="1173240"/>
            <a:chOff x="6313320" y="1058760"/>
            <a:chExt cx="1165320" cy="1173240"/>
          </a:xfrm>
        </p:grpSpPr>
        <p:sp>
          <p:nvSpPr>
            <p:cNvPr id="205" name=""/>
            <p:cNvSpPr/>
            <p:nvPr/>
          </p:nvSpPr>
          <p:spPr>
            <a:xfrm>
              <a:off x="6313320" y="1058760"/>
              <a:ext cx="1165320" cy="11732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581880" y="16653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SR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1185840" y="4952880"/>
            <a:ext cx="947880" cy="685800"/>
            <a:chOff x="1185840" y="4952880"/>
            <a:chExt cx="947880" cy="685800"/>
          </a:xfrm>
        </p:grpSpPr>
        <p:sp>
          <p:nvSpPr>
            <p:cNvPr id="208" name=""/>
            <p:cNvSpPr/>
            <p:nvPr/>
          </p:nvSpPr>
          <p:spPr>
            <a:xfrm>
              <a:off x="1371600" y="4952880"/>
              <a:ext cx="76212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185840" y="526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DiGI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6783480" y="5105520"/>
            <a:ext cx="1065240" cy="685800"/>
            <a:chOff x="6783480" y="5105520"/>
            <a:chExt cx="1065240" cy="685800"/>
          </a:xfrm>
        </p:grpSpPr>
        <p:sp>
          <p:nvSpPr>
            <p:cNvPr id="211" name=""/>
            <p:cNvSpPr/>
            <p:nvPr/>
          </p:nvSpPr>
          <p:spPr>
            <a:xfrm>
              <a:off x="7010280" y="5105520"/>
              <a:ext cx="83844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783480" y="5502240"/>
              <a:ext cx="914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Xanthori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5892840" y="4762440"/>
            <a:ext cx="1077840" cy="5698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2057040" y="4343400"/>
            <a:ext cx="762120" cy="6094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984480" y="1749600"/>
            <a:ext cx="0" cy="9410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138720" y="376236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 flipV="1">
            <a:off x="5381640" y="5081400"/>
            <a:ext cx="249120" cy="849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3370320" y="4716360"/>
            <a:ext cx="299880" cy="9921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113520" y="2428920"/>
            <a:ext cx="7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400040" y="3505320"/>
            <a:ext cx="10112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274760" y="3602160"/>
            <a:ext cx="1231920" cy="3175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1357200" y="3103200"/>
            <a:ext cx="1330560" cy="2221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579680" y="292248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719360" y="335124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787400" y="3586320"/>
            <a:ext cx="51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u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33320" y="3809880"/>
            <a:ext cx="1816200" cy="31932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301760" y="405756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h*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01760" y="6440400"/>
            <a:ext cx="3270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* Auth Service will be implemented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30760" y="182088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65520" y="17924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178160" y="17780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83280" y="3527280"/>
            <a:ext cx="984240" cy="11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124680" y="38736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6138720" y="3984120"/>
            <a:ext cx="914400" cy="181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60240" y="569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Query Service implementation for SRB system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84080" y="2792520"/>
            <a:ext cx="74059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for SRB data source is based on search on metadata data which includ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stem metadata  (create date, owner, size, etc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 meta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6761160" y="3921120"/>
            <a:ext cx="2077920" cy="133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981840" y="4157640"/>
            <a:ext cx="162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789200" y="2651040"/>
            <a:ext cx="360684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low of SRB Quer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3020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013120" y="2771640"/>
            <a:ext cx="313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55920" y="1736640"/>
            <a:ext cx="15541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Query docu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987560" y="3344760"/>
            <a:ext cx="32511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ekXMLQueryDocSRBPars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15160" y="1197000"/>
            <a:ext cx="2093760" cy="2071800"/>
          </a:xfrm>
          <a:prstGeom prst="can">
            <a:avLst>
              <a:gd name="adj" fmla="val 2500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993000" y="1974960"/>
            <a:ext cx="16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MC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962000" y="3943440"/>
            <a:ext cx="32515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mit SRB Que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5473800" y="3292560"/>
            <a:ext cx="1071360" cy="1474560"/>
            <a:chOff x="5473800" y="3292560"/>
            <a:chExt cx="1071360" cy="1474560"/>
          </a:xfrm>
        </p:grpSpPr>
        <p:sp>
          <p:nvSpPr>
            <p:cNvPr id="249" name=""/>
            <p:cNvSpPr/>
            <p:nvPr/>
          </p:nvSpPr>
          <p:spPr>
            <a:xfrm>
              <a:off x="5721480" y="329256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473800" y="347184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1974960" y="4530600"/>
            <a:ext cx="32511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late SRB query result to Ecogrid ResultS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6281640" y="466236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459400" y="4846680"/>
            <a:ext cx="12016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Query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 flipV="1">
            <a:off x="927000" y="203832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84320" y="3813120"/>
            <a:ext cx="155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ogrid Resultse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251320" y="411336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513240" y="374976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269040" y="4113360"/>
            <a:ext cx="450720" cy="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5302080" y="467532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829640" y="3313080"/>
            <a:ext cx="0" cy="5396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45960" y="208080"/>
            <a:ext cx="7445520" cy="73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Query Example 1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23800" y="1106640"/>
            <a:ext cx="74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adopts a query schema, Query Document Schema,  as a common query language within Ecogri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17680" y="1992240"/>
            <a:ext cx="7589520" cy="41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egq:query queryId="test.1.1" system="http://knb.ecoinformatics.org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egq="ecogrid://ecoinformatics.org/ecogrid-query-1.0.0beta1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xsi="http://www.w3.org/2001/XMLSchema-instance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si:schemaLocation="ecogrid://ecoinformatics.org/ecogrid-query-1.0.0beta1 ../../src/xsd/query.xsd"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amespace prefix="eml"&gt;eml://ecoinformatics.org/eml-2.0.0&lt;/namespac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siz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owner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in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ax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!-- &lt;returnfield&gt;value units&lt;/returnfield&gt; --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title&gt;metadata query for Eco Models&lt;/titl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mdasCollectionName"&gt;/home/whywhere.seek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ORIGINAL DATA SET"&gt;%World Geodetic System%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EQUALS" concept="max. value"&gt;39.11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693720" y="1241280"/>
            <a:ext cx="8255160" cy="2982240"/>
            <a:chOff x="693720" y="1241280"/>
            <a:chExt cx="8255160" cy="2982240"/>
          </a:xfrm>
        </p:grpSpPr>
        <p:sp>
          <p:nvSpPr>
            <p:cNvPr id="266" name=""/>
            <p:cNvSpPr/>
            <p:nvPr/>
          </p:nvSpPr>
          <p:spPr>
            <a:xfrm>
              <a:off x="693720" y="1241280"/>
              <a:ext cx="8255160" cy="2846520"/>
            </a:xfrm>
            <a:prstGeom prst="wedgeRoundRectCallout">
              <a:avLst>
                <a:gd name="adj1" fmla="val -34037"/>
                <a:gd name="adj2" fmla="val 76601"/>
                <a:gd name="adj3" fmla="val 16667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981000" y="1917720"/>
              <a:ext cx="7797960" cy="230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&lt;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mdasCollectionName"&gt;/home/whywhere.seek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ORIGINAL DATA SET"&gt;%World Geodetic System%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EQUALS" concept="max. value"&gt;39.11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/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15880" y="322200"/>
            <a:ext cx="5983200" cy="6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Query Example 2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01560" y="1257480"/>
            <a:ext cx="8085240" cy="53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User”&gt;testuser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MdasDomain”&gt;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LIKE" concept="MdasHome”&gt;/home/testuser.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Port”&gt;6617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srbPasswd”&gt;passwd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AuthScheme”&gt;encrypt1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EQUALS" concept="Number of Species"&gt;2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LIKE" concept="file name"&gt;%Model%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ge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033560" y="2859120"/>
            <a:ext cx="740556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‘get’ call from ecogrid to SRB system means to retrieve the content of a datase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‘get’ function can also be used to submit a SQL query for a relational database (Oracle, DB2, etc), which is pre-registered as a data source in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665360" y="2678040"/>
            <a:ext cx="190188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RB Pu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6036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2040" y="3243240"/>
            <a:ext cx="14731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Query Servi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3963960" y="3403440"/>
            <a:ext cx="1071360" cy="1474560"/>
            <a:chOff x="3963960" y="3403440"/>
            <a:chExt cx="1071360" cy="1474560"/>
          </a:xfrm>
        </p:grpSpPr>
        <p:sp>
          <p:nvSpPr>
            <p:cNvPr id="277" name=""/>
            <p:cNvSpPr/>
            <p:nvPr/>
          </p:nvSpPr>
          <p:spPr>
            <a:xfrm>
              <a:off x="4211640" y="340344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963960" y="3582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 flipV="1">
            <a:off x="731880" y="196848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657600" y="367020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3708000" y="4537080"/>
            <a:ext cx="353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52360" y="3260880"/>
            <a:ext cx="15559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 or a text string for a DB SQ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7993080" y="3314880"/>
            <a:ext cx="901800" cy="906120"/>
            <a:chOff x="7993080" y="3314880"/>
            <a:chExt cx="901800" cy="906120"/>
          </a:xfrm>
        </p:grpSpPr>
        <p:sp>
          <p:nvSpPr>
            <p:cNvPr id="285" name=""/>
            <p:cNvSpPr/>
            <p:nvPr/>
          </p:nvSpPr>
          <p:spPr>
            <a:xfrm>
              <a:off x="7993080" y="3314880"/>
              <a:ext cx="901800" cy="906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064360" y="3717000"/>
              <a:ext cx="77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le syste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6068880" y="1568520"/>
            <a:ext cx="916200" cy="824400"/>
            <a:chOff x="6068880" y="1568520"/>
            <a:chExt cx="916200" cy="824400"/>
          </a:xfrm>
        </p:grpSpPr>
        <p:sp>
          <p:nvSpPr>
            <p:cNvPr id="288" name=""/>
            <p:cNvSpPr/>
            <p:nvPr/>
          </p:nvSpPr>
          <p:spPr>
            <a:xfrm>
              <a:off x="6068880" y="1568520"/>
              <a:ext cx="916200" cy="82368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141600" y="1933920"/>
              <a:ext cx="786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RB MCA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4835520" y="3684600"/>
            <a:ext cx="17319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4821120" y="4003560"/>
            <a:ext cx="1635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819440" y="163980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get reques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019840" y="4106880"/>
            <a:ext cx="1153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8061480" y="5396040"/>
            <a:ext cx="874440" cy="809640"/>
            <a:chOff x="8061480" y="5396040"/>
            <a:chExt cx="874440" cy="809640"/>
          </a:xfrm>
        </p:grpSpPr>
        <p:sp>
          <p:nvSpPr>
            <p:cNvPr id="295" name=""/>
            <p:cNvSpPr/>
            <p:nvPr/>
          </p:nvSpPr>
          <p:spPr>
            <a:xfrm>
              <a:off x="8061480" y="5396040"/>
              <a:ext cx="874440" cy="8096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130600" y="5755320"/>
              <a:ext cx="75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racl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6761160" y="5637240"/>
            <a:ext cx="87300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649920" y="3559320"/>
            <a:ext cx="87336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35600" y="331776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file I/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62520" y="4627440"/>
            <a:ext cx="189864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4849920" y="4890600"/>
            <a:ext cx="1828800" cy="970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477040" y="467352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ubmit SQL 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548240" y="554688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rapped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661160" y="588816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605720" y="386568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4475160" y="2093400"/>
            <a:ext cx="1538280" cy="12049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030560" y="218916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esolve SRB file nam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88240" y="3290760"/>
            <a:ext cx="1071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.sd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873840" y="5342040"/>
            <a:ext cx="1071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.wi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6T20:01:25Z</dcterms:created>
  <dc:creator> Bing Zhu</dc:creator>
  <dc:description/>
  <dc:language>en-US</dc:language>
  <cp:lastModifiedBy> Bing Zhu</cp:lastModifiedBy>
  <dcterms:modified xsi:type="dcterms:W3CDTF">2004-12-16T21:33:26Z</dcterms:modified>
  <cp:revision>198</cp:revision>
  <dc:subject/>
  <dc:title>Building Ecogrid System</dc:title>
</cp:coreProperties>
</file>