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0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03"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0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10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6"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07"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37CC3-A91E-4C1A-A130-69819FA6AC2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stands for Metadata Catalo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all goal of KNB project is to create the Knowledge Network for Biocomplexity.  This is a network of scientists, sharing and integrating data to create and test theory in ecology and its sister fields.  This network not only is composed of the computer infrastructure (of which metacat is a part) but also the people, institutions and ideas that make up the ecological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one of the three main software components of the KNB.  The other software components that we are developing include the aforementioned xml metadata standard and a desktop data manager called morpho, which can interface with metac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network database storage system which stores any well-formed XML document(Schema-independ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 of ecological data manag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utonomy refers to the fact that most ecological researchers are independent of any major oversight institution.  Even when researchers are under an umbrella of some institution, the institutions are not colaborative…that is they don’t subscribe to any single set of governing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characteristic of ecological research sites is that they are very spatially disperse.  They also have varying degress of conectivity to the outside world.  Some research sites may have a 56 K modem for a data connection, other may have a T3 line, still others may have no data conn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ith so many different researchers and no data collection or storage standard, the biggest problem that metacat attempts to solve is that of data heterogeneity.  Heterogeneous data makes it nearly impossible for any re-use or synthesis of data set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is essentially, a front end to an rdbms which facilitates the storage, searching and retrieval of XML docu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can store any well-formed xml docu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an store any data file (text or binary) into server fil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a document is in the database, it can be queried with Xpath type string matching expre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input and output is done through the servlet in XML.  The xml can be automatically transformed using an XSLT stylesheet if the user or client requires a different output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cat also contains a built in document based replication scheme which allows metacats in different locations to share documents and provide a persistent data collection across multiple si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many users accessing metacat, keeping tabs on who can access what becomes important.  Metacat allows user and document level access control and authentication. Authentication is performed via a plugin to an existing authentication mechanism such as LDAP.  Document access control is performed by metacat and is controlled by the document ow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most ecological researchers and sites do not have the money to spend on additional software, we have kept metacat free of any commercial software licences.  Metacat itself and all of the tools it uses are GPLed and freely available and distributable.  The one exception to this is the backend database.  If a site chooses to use a commercial RDBMS (like Oracle or MS SQLServer) they must provide a license, however, Metacat has been tested with several free database systems including MySQL and PostgreSQ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57BAC-9B03-4811-BC95-CFEBF4B6E3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3DAB0-3CB8-4D8A-AD10-A9AA2DAD94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41428-1254-417F-BD98-A8215EB57D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CB717-4A57-4F80-AEEF-A8E1B1E9A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CF0787D-D388-4673-89DA-2F863D98D8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10EC15-E905-4483-B5D7-92C78B37DD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F70D47-F6C8-4959-A622-7656760EC8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024A11-742E-421C-8FBA-83DFC6779F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9E9E4F-EA5A-474B-8AA7-192D2E7F6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51C5A8-E8C0-4655-BFC1-B2B96DFE199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E1C63B-8A7E-4ABD-BCBD-59714A591A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480249-CAF0-4F31-ABBE-811BBF8FF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0A9B39-1E03-4C82-BDDC-DD87934039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6D6A1C-5849-45AB-B629-07FC6B2896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26ADE9-B4C4-4189-80F5-D4C638D92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24D4E8-D9CA-46A5-9A4D-773B272822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34AC87-BA44-44B2-9B07-16B440CD66B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76BD83-09F3-43FB-8FED-FEB6FC2DB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2F01B5-1AD6-427E-A831-58F11CF70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76A24-3A33-46F8-B819-B0BDACD24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9A2202-5D44-4AF9-947E-A6903542BB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C86DA7-024D-4B18-B3AD-44B1D1499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92336-000D-44D1-9184-B968225C5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1669A-8ACD-4EDD-8143-BFE6CA4FA2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0" name=""/>
          <p:cNvGrpSpPr/>
          <p:nvPr/>
        </p:nvGrpSpPr>
        <p:grpSpPr>
          <a:xfrm>
            <a:off x="-9360" y="-20520"/>
            <a:ext cx="9153360" cy="6878520"/>
            <a:chOff x="-9360" y="-20520"/>
            <a:chExt cx="9153360" cy="6878520"/>
          </a:xfrm>
        </p:grpSpPr>
        <p:sp>
          <p:nvSpPr>
            <p:cNvPr id="1"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3"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4"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7"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9"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D7F5D-12E2-46AE-9C43-398A793D8A61}"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grpSp>
        <p:nvGrpSpPr>
          <p:cNvPr id="51" name=""/>
          <p:cNvGrpSpPr/>
          <p:nvPr/>
        </p:nvGrpSpPr>
        <p:grpSpPr>
          <a:xfrm>
            <a:off x="-9360" y="-20520"/>
            <a:ext cx="9153360" cy="6878520"/>
            <a:chOff x="-9360" y="-20520"/>
            <a:chExt cx="9153360" cy="6878520"/>
          </a:xfrm>
        </p:grpSpPr>
        <p:sp>
          <p:nvSpPr>
            <p:cNvPr id="52" name=""/>
            <p:cNvSpPr/>
            <p:nvPr/>
          </p:nvSpPr>
          <p:spPr>
            <a:xfrm>
              <a:off x="8809200" y="0"/>
              <a:ext cx="334800" cy="6858000"/>
            </a:xfrm>
            <a:prstGeom prst="rect">
              <a:avLst/>
            </a:prstGeom>
            <a:gradFill rotWithShape="0">
              <a:gsLst>
                <a:gs pos="0">
                  <a:srgbClr val="000044"/>
                </a:gs>
                <a:gs pos="50000">
                  <a:srgbClr val="3366ff"/>
                </a:gs>
                <a:gs pos="100000">
                  <a:srgbClr val="00004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53" name=""/>
            <p:cNvSpPr/>
            <p:nvPr/>
          </p:nvSpPr>
          <p:spPr>
            <a:xfrm>
              <a:off x="-9360" y="4489560"/>
              <a:ext cx="5754600" cy="2368440"/>
            </a:xfrm>
            <a:custGeom>
              <a:avLst/>
              <a:gdLst/>
              <a:ahLst/>
              <a:rect l="l" t="t" r="r" b="b"/>
              <a:pathLst>
                <a:path w="3625" h="1492">
                  <a:moveTo>
                    <a:pt x="0" y="1491"/>
                  </a:moveTo>
                  <a:lnTo>
                    <a:pt x="0" y="0"/>
                  </a:lnTo>
                  <a:lnTo>
                    <a:pt x="171" y="3"/>
                  </a:lnTo>
                  <a:lnTo>
                    <a:pt x="355" y="9"/>
                  </a:lnTo>
                  <a:lnTo>
                    <a:pt x="499" y="21"/>
                  </a:lnTo>
                  <a:lnTo>
                    <a:pt x="650" y="36"/>
                  </a:lnTo>
                  <a:lnTo>
                    <a:pt x="809" y="54"/>
                  </a:lnTo>
                  <a:lnTo>
                    <a:pt x="957" y="78"/>
                  </a:lnTo>
                  <a:lnTo>
                    <a:pt x="1119" y="105"/>
                  </a:lnTo>
                  <a:lnTo>
                    <a:pt x="1261" y="133"/>
                  </a:lnTo>
                  <a:lnTo>
                    <a:pt x="1441" y="175"/>
                  </a:lnTo>
                  <a:lnTo>
                    <a:pt x="1598" y="217"/>
                  </a:lnTo>
                  <a:lnTo>
                    <a:pt x="1763" y="269"/>
                  </a:lnTo>
                  <a:lnTo>
                    <a:pt x="1887" y="308"/>
                  </a:lnTo>
                  <a:lnTo>
                    <a:pt x="2085" y="384"/>
                  </a:lnTo>
                  <a:lnTo>
                    <a:pt x="2230" y="444"/>
                  </a:lnTo>
                  <a:lnTo>
                    <a:pt x="2456" y="547"/>
                  </a:lnTo>
                  <a:lnTo>
                    <a:pt x="2666" y="662"/>
                  </a:lnTo>
                  <a:lnTo>
                    <a:pt x="2859" y="786"/>
                  </a:lnTo>
                  <a:lnTo>
                    <a:pt x="3046" y="920"/>
                  </a:lnTo>
                  <a:lnTo>
                    <a:pt x="3193" y="1038"/>
                  </a:lnTo>
                  <a:lnTo>
                    <a:pt x="3332" y="1168"/>
                  </a:lnTo>
                  <a:lnTo>
                    <a:pt x="3440" y="1280"/>
                  </a:lnTo>
                  <a:lnTo>
                    <a:pt x="3524" y="1380"/>
                  </a:lnTo>
                  <a:lnTo>
                    <a:pt x="3624" y="1491"/>
                  </a:lnTo>
                  <a:lnTo>
                    <a:pt x="3608" y="1491"/>
                  </a:lnTo>
                  <a:lnTo>
                    <a:pt x="0" y="1491"/>
                  </a:lnTo>
                </a:path>
              </a:pathLst>
            </a:custGeom>
            <a:gradFill rotWithShape="0">
              <a:gsLst>
                <a:gs pos="0">
                  <a:srgbClr val="000000"/>
                </a:gs>
                <a:gs pos="100000">
                  <a:srgbClr val="000066"/>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Arial"/>
              </a:endParaRPr>
            </a:p>
          </p:txBody>
        </p:sp>
        <p:sp>
          <p:nvSpPr>
            <p:cNvPr id="54" name=""/>
            <p:cNvSpPr/>
            <p:nvPr/>
          </p:nvSpPr>
          <p:spPr>
            <a:xfrm>
              <a:off x="0" y="3817800"/>
              <a:ext cx="8164440" cy="3019680"/>
            </a:xfrm>
            <a:custGeom>
              <a:avLst/>
              <a:gdLst/>
              <a:ahLst/>
              <a:rect l="l" t="t" r="r" b="b"/>
              <a:pathLst>
                <a:path w="5143" h="1902">
                  <a:moveTo>
                    <a:pt x="2718" y="405"/>
                  </a:moveTo>
                  <a:lnTo>
                    <a:pt x="2466" y="333"/>
                  </a:lnTo>
                  <a:lnTo>
                    <a:pt x="2202" y="261"/>
                  </a:lnTo>
                  <a:lnTo>
                    <a:pt x="1929" y="198"/>
                  </a:lnTo>
                  <a:lnTo>
                    <a:pt x="1695" y="153"/>
                  </a:lnTo>
                  <a:lnTo>
                    <a:pt x="1434" y="111"/>
                  </a:lnTo>
                  <a:lnTo>
                    <a:pt x="1188" y="75"/>
                  </a:lnTo>
                  <a:lnTo>
                    <a:pt x="957" y="48"/>
                  </a:lnTo>
                  <a:lnTo>
                    <a:pt x="747" y="30"/>
                  </a:lnTo>
                  <a:lnTo>
                    <a:pt x="501" y="15"/>
                  </a:lnTo>
                  <a:lnTo>
                    <a:pt x="246" y="3"/>
                  </a:lnTo>
                  <a:lnTo>
                    <a:pt x="0" y="0"/>
                  </a:lnTo>
                  <a:lnTo>
                    <a:pt x="0" y="275"/>
                  </a:lnTo>
                  <a:lnTo>
                    <a:pt x="0" y="345"/>
                  </a:lnTo>
                  <a:lnTo>
                    <a:pt x="0" y="275"/>
                  </a:lnTo>
                  <a:lnTo>
                    <a:pt x="0" y="342"/>
                  </a:lnTo>
                  <a:lnTo>
                    <a:pt x="339" y="351"/>
                  </a:lnTo>
                  <a:lnTo>
                    <a:pt x="606" y="372"/>
                  </a:lnTo>
                  <a:lnTo>
                    <a:pt x="852" y="399"/>
                  </a:lnTo>
                  <a:lnTo>
                    <a:pt x="1068" y="435"/>
                  </a:lnTo>
                  <a:lnTo>
                    <a:pt x="1275" y="474"/>
                  </a:lnTo>
                  <a:lnTo>
                    <a:pt x="1545" y="540"/>
                  </a:lnTo>
                  <a:lnTo>
                    <a:pt x="1761" y="603"/>
                  </a:lnTo>
                  <a:lnTo>
                    <a:pt x="1971" y="678"/>
                  </a:lnTo>
                  <a:lnTo>
                    <a:pt x="2166" y="747"/>
                  </a:lnTo>
                  <a:lnTo>
                    <a:pt x="2397" y="852"/>
                  </a:lnTo>
                  <a:lnTo>
                    <a:pt x="2613" y="960"/>
                  </a:lnTo>
                  <a:lnTo>
                    <a:pt x="2832" y="1095"/>
                  </a:lnTo>
                  <a:lnTo>
                    <a:pt x="3012" y="1212"/>
                  </a:lnTo>
                  <a:lnTo>
                    <a:pt x="3186" y="1347"/>
                  </a:lnTo>
                  <a:lnTo>
                    <a:pt x="3351" y="1497"/>
                  </a:lnTo>
                  <a:lnTo>
                    <a:pt x="3480" y="1629"/>
                  </a:lnTo>
                  <a:lnTo>
                    <a:pt x="3612" y="1785"/>
                  </a:lnTo>
                  <a:lnTo>
                    <a:pt x="3699" y="1901"/>
                  </a:lnTo>
                  <a:lnTo>
                    <a:pt x="5142" y="1901"/>
                  </a:lnTo>
                  <a:lnTo>
                    <a:pt x="5076" y="1827"/>
                  </a:lnTo>
                  <a:lnTo>
                    <a:pt x="4968" y="1707"/>
                  </a:lnTo>
                  <a:lnTo>
                    <a:pt x="4797" y="1539"/>
                  </a:lnTo>
                  <a:lnTo>
                    <a:pt x="4617" y="1383"/>
                  </a:lnTo>
                  <a:lnTo>
                    <a:pt x="4410" y="1221"/>
                  </a:lnTo>
                  <a:lnTo>
                    <a:pt x="4185" y="1071"/>
                  </a:lnTo>
                  <a:lnTo>
                    <a:pt x="3960" y="939"/>
                  </a:lnTo>
                  <a:lnTo>
                    <a:pt x="3708" y="801"/>
                  </a:lnTo>
                  <a:lnTo>
                    <a:pt x="3492" y="702"/>
                  </a:lnTo>
                  <a:lnTo>
                    <a:pt x="3231" y="588"/>
                  </a:lnTo>
                  <a:lnTo>
                    <a:pt x="2964" y="489"/>
                  </a:lnTo>
                  <a:lnTo>
                    <a:pt x="2718" y="405"/>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5" name=""/>
            <p:cNvSpPr/>
            <p:nvPr/>
          </p:nvSpPr>
          <p:spPr>
            <a:xfrm>
              <a:off x="0" y="3146400"/>
              <a:ext cx="9144000" cy="3691080"/>
            </a:xfrm>
            <a:custGeom>
              <a:avLst/>
              <a:gdLst/>
              <a:ahLst/>
              <a:rect l="l" t="t" r="r" b="b"/>
              <a:pathLst>
                <a:path w="5760" h="2325">
                  <a:moveTo>
                    <a:pt x="0" y="0"/>
                  </a:moveTo>
                  <a:lnTo>
                    <a:pt x="0" y="339"/>
                  </a:lnTo>
                  <a:lnTo>
                    <a:pt x="558" y="357"/>
                  </a:lnTo>
                  <a:lnTo>
                    <a:pt x="807" y="375"/>
                  </a:lnTo>
                  <a:lnTo>
                    <a:pt x="1056" y="399"/>
                  </a:lnTo>
                  <a:lnTo>
                    <a:pt x="1272" y="426"/>
                  </a:lnTo>
                  <a:lnTo>
                    <a:pt x="1539" y="465"/>
                  </a:lnTo>
                  <a:lnTo>
                    <a:pt x="1791" y="510"/>
                  </a:lnTo>
                  <a:lnTo>
                    <a:pt x="2076" y="570"/>
                  </a:lnTo>
                  <a:lnTo>
                    <a:pt x="2334" y="630"/>
                  </a:lnTo>
                  <a:lnTo>
                    <a:pt x="2544" y="687"/>
                  </a:lnTo>
                  <a:lnTo>
                    <a:pt x="2775" y="759"/>
                  </a:lnTo>
                  <a:lnTo>
                    <a:pt x="3003" y="837"/>
                  </a:lnTo>
                  <a:lnTo>
                    <a:pt x="3231" y="924"/>
                  </a:lnTo>
                  <a:lnTo>
                    <a:pt x="3438" y="1005"/>
                  </a:lnTo>
                  <a:lnTo>
                    <a:pt x="3663" y="1110"/>
                  </a:lnTo>
                  <a:lnTo>
                    <a:pt x="3903" y="1233"/>
                  </a:lnTo>
                  <a:lnTo>
                    <a:pt x="4149" y="1374"/>
                  </a:lnTo>
                  <a:lnTo>
                    <a:pt x="4353" y="1506"/>
                  </a:lnTo>
                  <a:lnTo>
                    <a:pt x="4491" y="1602"/>
                  </a:lnTo>
                  <a:lnTo>
                    <a:pt x="4668" y="1740"/>
                  </a:lnTo>
                  <a:lnTo>
                    <a:pt x="4824" y="1875"/>
                  </a:lnTo>
                  <a:lnTo>
                    <a:pt x="4968" y="2016"/>
                  </a:lnTo>
                  <a:lnTo>
                    <a:pt x="5100" y="2154"/>
                  </a:lnTo>
                  <a:lnTo>
                    <a:pt x="5238" y="2324"/>
                  </a:lnTo>
                  <a:lnTo>
                    <a:pt x="5759" y="2324"/>
                  </a:lnTo>
                  <a:lnTo>
                    <a:pt x="5759" y="1245"/>
                  </a:lnTo>
                  <a:lnTo>
                    <a:pt x="5580" y="1119"/>
                  </a:lnTo>
                  <a:lnTo>
                    <a:pt x="5400" y="1020"/>
                  </a:lnTo>
                  <a:lnTo>
                    <a:pt x="5205" y="918"/>
                  </a:lnTo>
                  <a:lnTo>
                    <a:pt x="5031" y="837"/>
                  </a:lnTo>
                  <a:lnTo>
                    <a:pt x="4866" y="771"/>
                  </a:lnTo>
                  <a:lnTo>
                    <a:pt x="4710" y="711"/>
                  </a:lnTo>
                  <a:lnTo>
                    <a:pt x="4545" y="651"/>
                  </a:lnTo>
                  <a:lnTo>
                    <a:pt x="4386" y="600"/>
                  </a:lnTo>
                  <a:lnTo>
                    <a:pt x="4248" y="552"/>
                  </a:lnTo>
                  <a:lnTo>
                    <a:pt x="3993" y="483"/>
                  </a:lnTo>
                  <a:lnTo>
                    <a:pt x="3777" y="423"/>
                  </a:lnTo>
                  <a:lnTo>
                    <a:pt x="3564" y="375"/>
                  </a:lnTo>
                  <a:lnTo>
                    <a:pt x="3282" y="312"/>
                  </a:lnTo>
                  <a:lnTo>
                    <a:pt x="3003" y="261"/>
                  </a:lnTo>
                  <a:lnTo>
                    <a:pt x="2733" y="213"/>
                  </a:lnTo>
                  <a:lnTo>
                    <a:pt x="2451" y="171"/>
                  </a:lnTo>
                  <a:lnTo>
                    <a:pt x="2211" y="138"/>
                  </a:lnTo>
                  <a:lnTo>
                    <a:pt x="1974" y="108"/>
                  </a:lnTo>
                  <a:lnTo>
                    <a:pt x="1665" y="81"/>
                  </a:lnTo>
                  <a:lnTo>
                    <a:pt x="1437" y="60"/>
                  </a:lnTo>
                  <a:lnTo>
                    <a:pt x="1125" y="36"/>
                  </a:lnTo>
                  <a:lnTo>
                    <a:pt x="828" y="21"/>
                  </a:lnTo>
                  <a:lnTo>
                    <a:pt x="558" y="12"/>
                  </a:lnTo>
                  <a:lnTo>
                    <a:pt x="282" y="3"/>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6" name=""/>
            <p:cNvSpPr/>
            <p:nvPr/>
          </p:nvSpPr>
          <p:spPr>
            <a:xfrm>
              <a:off x="0" y="2460600"/>
              <a:ext cx="9144000" cy="2497320"/>
            </a:xfrm>
            <a:custGeom>
              <a:avLst/>
              <a:gdLst/>
              <a:ahLst/>
              <a:rect l="l" t="t" r="r" b="b"/>
              <a:pathLst>
                <a:path w="5760" h="1573">
                  <a:moveTo>
                    <a:pt x="0" y="0"/>
                  </a:moveTo>
                  <a:lnTo>
                    <a:pt x="0" y="351"/>
                  </a:lnTo>
                  <a:lnTo>
                    <a:pt x="282" y="357"/>
                  </a:lnTo>
                  <a:lnTo>
                    <a:pt x="627" y="363"/>
                  </a:lnTo>
                  <a:lnTo>
                    <a:pt x="960" y="375"/>
                  </a:lnTo>
                  <a:lnTo>
                    <a:pt x="1218" y="393"/>
                  </a:lnTo>
                  <a:lnTo>
                    <a:pt x="1470" y="411"/>
                  </a:lnTo>
                  <a:lnTo>
                    <a:pt x="1746" y="435"/>
                  </a:lnTo>
                  <a:lnTo>
                    <a:pt x="2022" y="462"/>
                  </a:lnTo>
                  <a:lnTo>
                    <a:pt x="2340" y="504"/>
                  </a:lnTo>
                  <a:lnTo>
                    <a:pt x="2664" y="549"/>
                  </a:lnTo>
                  <a:lnTo>
                    <a:pt x="2952" y="597"/>
                  </a:lnTo>
                  <a:lnTo>
                    <a:pt x="3225" y="648"/>
                  </a:lnTo>
                  <a:lnTo>
                    <a:pt x="3513" y="708"/>
                  </a:lnTo>
                  <a:lnTo>
                    <a:pt x="3693" y="750"/>
                  </a:lnTo>
                  <a:lnTo>
                    <a:pt x="3936" y="810"/>
                  </a:lnTo>
                  <a:lnTo>
                    <a:pt x="4095" y="855"/>
                  </a:lnTo>
                  <a:lnTo>
                    <a:pt x="4281" y="909"/>
                  </a:lnTo>
                  <a:lnTo>
                    <a:pt x="4503" y="981"/>
                  </a:lnTo>
                  <a:lnTo>
                    <a:pt x="4704" y="1053"/>
                  </a:lnTo>
                  <a:lnTo>
                    <a:pt x="4911" y="1131"/>
                  </a:lnTo>
                  <a:lnTo>
                    <a:pt x="5073" y="1197"/>
                  </a:lnTo>
                  <a:lnTo>
                    <a:pt x="5256" y="1281"/>
                  </a:lnTo>
                  <a:lnTo>
                    <a:pt x="5475" y="1401"/>
                  </a:lnTo>
                  <a:lnTo>
                    <a:pt x="5628" y="1482"/>
                  </a:lnTo>
                  <a:lnTo>
                    <a:pt x="5759" y="1572"/>
                  </a:lnTo>
                  <a:lnTo>
                    <a:pt x="5759" y="633"/>
                  </a:lnTo>
                  <a:lnTo>
                    <a:pt x="5493" y="570"/>
                  </a:lnTo>
                  <a:lnTo>
                    <a:pt x="5214" y="501"/>
                  </a:lnTo>
                  <a:lnTo>
                    <a:pt x="4950" y="444"/>
                  </a:lnTo>
                  <a:lnTo>
                    <a:pt x="4701" y="396"/>
                  </a:lnTo>
                  <a:lnTo>
                    <a:pt x="4425" y="348"/>
                  </a:lnTo>
                  <a:lnTo>
                    <a:pt x="4110" y="294"/>
                  </a:lnTo>
                  <a:lnTo>
                    <a:pt x="3813" y="252"/>
                  </a:lnTo>
                  <a:lnTo>
                    <a:pt x="3549" y="213"/>
                  </a:lnTo>
                  <a:lnTo>
                    <a:pt x="3261" y="183"/>
                  </a:lnTo>
                  <a:lnTo>
                    <a:pt x="3015" y="153"/>
                  </a:lnTo>
                  <a:lnTo>
                    <a:pt x="2757" y="129"/>
                  </a:lnTo>
                  <a:lnTo>
                    <a:pt x="2520" y="105"/>
                  </a:lnTo>
                  <a:lnTo>
                    <a:pt x="2301" y="87"/>
                  </a:lnTo>
                  <a:lnTo>
                    <a:pt x="2013" y="66"/>
                  </a:lnTo>
                  <a:lnTo>
                    <a:pt x="1731" y="48"/>
                  </a:lnTo>
                  <a:lnTo>
                    <a:pt x="1524" y="39"/>
                  </a:lnTo>
                  <a:lnTo>
                    <a:pt x="1260" y="27"/>
                  </a:lnTo>
                  <a:lnTo>
                    <a:pt x="966" y="15"/>
                  </a:lnTo>
                  <a:lnTo>
                    <a:pt x="714" y="12"/>
                  </a:lnTo>
                  <a:lnTo>
                    <a:pt x="510" y="6"/>
                  </a:lnTo>
                  <a:lnTo>
                    <a:pt x="24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7" name=""/>
            <p:cNvSpPr/>
            <p:nvPr/>
          </p:nvSpPr>
          <p:spPr>
            <a:xfrm>
              <a:off x="0" y="1793880"/>
              <a:ext cx="9144000" cy="1539720"/>
            </a:xfrm>
            <a:custGeom>
              <a:avLst/>
              <a:gdLst/>
              <a:ahLst/>
              <a:rect l="l" t="t" r="r" b="b"/>
              <a:pathLst>
                <a:path w="5760" h="970">
                  <a:moveTo>
                    <a:pt x="0" y="0"/>
                  </a:moveTo>
                  <a:lnTo>
                    <a:pt x="0" y="339"/>
                  </a:lnTo>
                  <a:lnTo>
                    <a:pt x="318" y="342"/>
                  </a:lnTo>
                  <a:lnTo>
                    <a:pt x="591" y="348"/>
                  </a:lnTo>
                  <a:lnTo>
                    <a:pt x="846" y="354"/>
                  </a:lnTo>
                  <a:lnTo>
                    <a:pt x="1074" y="360"/>
                  </a:lnTo>
                  <a:lnTo>
                    <a:pt x="1314" y="366"/>
                  </a:lnTo>
                  <a:lnTo>
                    <a:pt x="1599" y="381"/>
                  </a:lnTo>
                  <a:lnTo>
                    <a:pt x="1911" y="399"/>
                  </a:lnTo>
                  <a:lnTo>
                    <a:pt x="2241" y="420"/>
                  </a:lnTo>
                  <a:lnTo>
                    <a:pt x="2619" y="453"/>
                  </a:lnTo>
                  <a:lnTo>
                    <a:pt x="2889" y="477"/>
                  </a:lnTo>
                  <a:lnTo>
                    <a:pt x="3177" y="507"/>
                  </a:lnTo>
                  <a:lnTo>
                    <a:pt x="3498" y="543"/>
                  </a:lnTo>
                  <a:lnTo>
                    <a:pt x="3813" y="585"/>
                  </a:lnTo>
                  <a:lnTo>
                    <a:pt x="4044" y="618"/>
                  </a:lnTo>
                  <a:lnTo>
                    <a:pt x="4365" y="669"/>
                  </a:lnTo>
                  <a:lnTo>
                    <a:pt x="4683" y="726"/>
                  </a:lnTo>
                  <a:lnTo>
                    <a:pt x="4980" y="786"/>
                  </a:lnTo>
                  <a:lnTo>
                    <a:pt x="5268" y="846"/>
                  </a:lnTo>
                  <a:lnTo>
                    <a:pt x="5646" y="942"/>
                  </a:lnTo>
                  <a:lnTo>
                    <a:pt x="5759" y="969"/>
                  </a:lnTo>
                  <a:lnTo>
                    <a:pt x="5759"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8" name=""/>
            <p:cNvSpPr/>
            <p:nvPr/>
          </p:nvSpPr>
          <p:spPr>
            <a:xfrm>
              <a:off x="0" y="-20520"/>
              <a:ext cx="9144000" cy="1682640"/>
            </a:xfrm>
            <a:custGeom>
              <a:avLst/>
              <a:gdLst/>
              <a:ahLst/>
              <a:rect l="l" t="t" r="r" b="b"/>
              <a:pathLst>
                <a:path w="5760" h="1060">
                  <a:moveTo>
                    <a:pt x="0" y="753"/>
                  </a:moveTo>
                  <a:lnTo>
                    <a:pt x="0" y="1059"/>
                  </a:lnTo>
                  <a:lnTo>
                    <a:pt x="5759" y="1059"/>
                  </a:lnTo>
                  <a:lnTo>
                    <a:pt x="5759" y="0"/>
                  </a:lnTo>
                  <a:lnTo>
                    <a:pt x="5430" y="0"/>
                  </a:lnTo>
                  <a:lnTo>
                    <a:pt x="5298" y="84"/>
                  </a:lnTo>
                  <a:lnTo>
                    <a:pt x="5136" y="159"/>
                  </a:lnTo>
                  <a:lnTo>
                    <a:pt x="4968" y="222"/>
                  </a:lnTo>
                  <a:lnTo>
                    <a:pt x="4812" y="267"/>
                  </a:lnTo>
                  <a:lnTo>
                    <a:pt x="4626" y="324"/>
                  </a:lnTo>
                  <a:lnTo>
                    <a:pt x="4440" y="366"/>
                  </a:lnTo>
                  <a:lnTo>
                    <a:pt x="4230" y="414"/>
                  </a:lnTo>
                  <a:lnTo>
                    <a:pt x="3939" y="468"/>
                  </a:lnTo>
                  <a:lnTo>
                    <a:pt x="3711" y="504"/>
                  </a:lnTo>
                  <a:lnTo>
                    <a:pt x="3441" y="543"/>
                  </a:lnTo>
                  <a:lnTo>
                    <a:pt x="3189" y="579"/>
                  </a:lnTo>
                  <a:lnTo>
                    <a:pt x="2925" y="606"/>
                  </a:lnTo>
                  <a:lnTo>
                    <a:pt x="2679" y="633"/>
                  </a:lnTo>
                  <a:lnTo>
                    <a:pt x="2418" y="654"/>
                  </a:lnTo>
                  <a:lnTo>
                    <a:pt x="2142" y="675"/>
                  </a:lnTo>
                  <a:lnTo>
                    <a:pt x="1896" y="693"/>
                  </a:lnTo>
                  <a:lnTo>
                    <a:pt x="1647" y="708"/>
                  </a:lnTo>
                  <a:lnTo>
                    <a:pt x="1404" y="720"/>
                  </a:lnTo>
                  <a:lnTo>
                    <a:pt x="1170" y="732"/>
                  </a:lnTo>
                  <a:lnTo>
                    <a:pt x="906" y="738"/>
                  </a:lnTo>
                  <a:lnTo>
                    <a:pt x="534" y="747"/>
                  </a:lnTo>
                  <a:lnTo>
                    <a:pt x="201" y="753"/>
                  </a:lnTo>
                  <a:lnTo>
                    <a:pt x="0" y="753"/>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59" name=""/>
            <p:cNvSpPr/>
            <p:nvPr/>
          </p:nvSpPr>
          <p:spPr>
            <a:xfrm>
              <a:off x="0" y="-20520"/>
              <a:ext cx="8388360" cy="1068120"/>
            </a:xfrm>
            <a:custGeom>
              <a:avLst/>
              <a:gdLst/>
              <a:ahLst/>
              <a:rect l="l" t="t" r="r" b="b"/>
              <a:pathLst>
                <a:path w="5284" h="673">
                  <a:moveTo>
                    <a:pt x="0" y="366"/>
                  </a:moveTo>
                  <a:lnTo>
                    <a:pt x="0" y="672"/>
                  </a:lnTo>
                  <a:lnTo>
                    <a:pt x="303" y="672"/>
                  </a:lnTo>
                  <a:lnTo>
                    <a:pt x="723" y="663"/>
                  </a:lnTo>
                  <a:lnTo>
                    <a:pt x="1020" y="654"/>
                  </a:lnTo>
                  <a:lnTo>
                    <a:pt x="1302" y="642"/>
                  </a:lnTo>
                  <a:lnTo>
                    <a:pt x="1554" y="630"/>
                  </a:lnTo>
                  <a:lnTo>
                    <a:pt x="1779" y="615"/>
                  </a:lnTo>
                  <a:lnTo>
                    <a:pt x="1962" y="606"/>
                  </a:lnTo>
                  <a:lnTo>
                    <a:pt x="2193" y="588"/>
                  </a:lnTo>
                  <a:lnTo>
                    <a:pt x="2448" y="570"/>
                  </a:lnTo>
                  <a:lnTo>
                    <a:pt x="2700" y="546"/>
                  </a:lnTo>
                  <a:lnTo>
                    <a:pt x="2904" y="528"/>
                  </a:lnTo>
                  <a:lnTo>
                    <a:pt x="3138" y="498"/>
                  </a:lnTo>
                  <a:lnTo>
                    <a:pt x="3324" y="474"/>
                  </a:lnTo>
                  <a:lnTo>
                    <a:pt x="3534" y="447"/>
                  </a:lnTo>
                  <a:lnTo>
                    <a:pt x="3735" y="420"/>
                  </a:lnTo>
                  <a:lnTo>
                    <a:pt x="3933" y="384"/>
                  </a:lnTo>
                  <a:lnTo>
                    <a:pt x="4116" y="351"/>
                  </a:lnTo>
                  <a:lnTo>
                    <a:pt x="4266" y="318"/>
                  </a:lnTo>
                  <a:lnTo>
                    <a:pt x="4446" y="279"/>
                  </a:lnTo>
                  <a:lnTo>
                    <a:pt x="4620" y="237"/>
                  </a:lnTo>
                  <a:lnTo>
                    <a:pt x="4779" y="192"/>
                  </a:lnTo>
                  <a:lnTo>
                    <a:pt x="4920" y="147"/>
                  </a:lnTo>
                  <a:lnTo>
                    <a:pt x="5085" y="90"/>
                  </a:lnTo>
                  <a:lnTo>
                    <a:pt x="5193" y="42"/>
                  </a:lnTo>
                  <a:lnTo>
                    <a:pt x="5283" y="0"/>
                  </a:lnTo>
                  <a:lnTo>
                    <a:pt x="3201" y="0"/>
                  </a:lnTo>
                  <a:lnTo>
                    <a:pt x="2982" y="57"/>
                  </a:lnTo>
                  <a:lnTo>
                    <a:pt x="2775" y="108"/>
                  </a:lnTo>
                  <a:lnTo>
                    <a:pt x="2562" y="150"/>
                  </a:lnTo>
                  <a:lnTo>
                    <a:pt x="2397" y="183"/>
                  </a:lnTo>
                  <a:lnTo>
                    <a:pt x="2205" y="213"/>
                  </a:lnTo>
                  <a:lnTo>
                    <a:pt x="2001" y="243"/>
                  </a:lnTo>
                  <a:lnTo>
                    <a:pt x="1776" y="273"/>
                  </a:lnTo>
                  <a:lnTo>
                    <a:pt x="1536" y="297"/>
                  </a:lnTo>
                  <a:lnTo>
                    <a:pt x="1344" y="312"/>
                  </a:lnTo>
                  <a:lnTo>
                    <a:pt x="1134" y="330"/>
                  </a:lnTo>
                  <a:lnTo>
                    <a:pt x="921" y="342"/>
                  </a:lnTo>
                  <a:lnTo>
                    <a:pt x="696" y="354"/>
                  </a:lnTo>
                  <a:lnTo>
                    <a:pt x="501" y="360"/>
                  </a:lnTo>
                  <a:lnTo>
                    <a:pt x="279" y="366"/>
                  </a:lnTo>
                  <a:lnTo>
                    <a:pt x="99" y="369"/>
                  </a:lnTo>
                  <a:lnTo>
                    <a:pt x="0" y="366"/>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60" name=""/>
            <p:cNvSpPr/>
            <p:nvPr/>
          </p:nvSpPr>
          <p:spPr>
            <a:xfrm>
              <a:off x="0" y="-20520"/>
              <a:ext cx="4578480" cy="453960"/>
            </a:xfrm>
            <a:custGeom>
              <a:avLst/>
              <a:gdLst/>
              <a:ahLst/>
              <a:rect l="l" t="t" r="r" b="b"/>
              <a:pathLst>
                <a:path w="2884" h="286">
                  <a:moveTo>
                    <a:pt x="0" y="0"/>
                  </a:moveTo>
                  <a:lnTo>
                    <a:pt x="0" y="285"/>
                  </a:lnTo>
                  <a:lnTo>
                    <a:pt x="192" y="285"/>
                  </a:lnTo>
                  <a:lnTo>
                    <a:pt x="384" y="282"/>
                  </a:lnTo>
                  <a:lnTo>
                    <a:pt x="579" y="276"/>
                  </a:lnTo>
                  <a:lnTo>
                    <a:pt x="789" y="267"/>
                  </a:lnTo>
                  <a:lnTo>
                    <a:pt x="999" y="258"/>
                  </a:lnTo>
                  <a:lnTo>
                    <a:pt x="1161" y="246"/>
                  </a:lnTo>
                  <a:lnTo>
                    <a:pt x="1302" y="234"/>
                  </a:lnTo>
                  <a:lnTo>
                    <a:pt x="1458" y="222"/>
                  </a:lnTo>
                  <a:lnTo>
                    <a:pt x="1665" y="201"/>
                  </a:lnTo>
                  <a:lnTo>
                    <a:pt x="1992" y="159"/>
                  </a:lnTo>
                  <a:lnTo>
                    <a:pt x="2301" y="117"/>
                  </a:lnTo>
                  <a:lnTo>
                    <a:pt x="2604" y="60"/>
                  </a:lnTo>
                  <a:lnTo>
                    <a:pt x="2883" y="0"/>
                  </a:lnTo>
                  <a:lnTo>
                    <a:pt x="0" y="0"/>
                  </a:lnTo>
                </a:path>
              </a:pathLst>
            </a:custGeom>
            <a:gradFill rotWithShape="0">
              <a:gsLst>
                <a:gs pos="0">
                  <a:srgbClr val="000066"/>
                </a:gs>
                <a:gs pos="100000">
                  <a:srgbClr val="000044"/>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1"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6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6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6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C3AEE6-D45C-4D10-9501-0DD7C372A206}" type="slidenum">
              <a:rPr b="0" lang="en-US" sz="1400" spc="-1" strike="noStrike">
                <a:solidFill>
                  <a:srgbClr val="ffffff"/>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a:t>
            </a:r>
            <a:r>
              <a:rPr b="0" i="1" lang="en-US" sz="4400" spc="-1" strike="noStrike">
                <a:solidFill>
                  <a:srgbClr val="ffcc66"/>
                </a:solidFill>
                <a:latin typeface="Times New Roman"/>
              </a:rPr>
              <a:t>Meta</a:t>
            </a:r>
            <a:r>
              <a:rPr b="0" lang="en-US" sz="4400" spc="-1" strike="noStrike">
                <a:solidFill>
                  <a:srgbClr val="ffcc66"/>
                </a:solidFill>
                <a:latin typeface="Times New Roman"/>
              </a:rPr>
              <a:t>data </a:t>
            </a:r>
            <a:r>
              <a:rPr b="0" i="1" lang="en-US" sz="4400" spc="-1" strike="noStrike">
                <a:solidFill>
                  <a:srgbClr val="ffcc66"/>
                </a:solidFill>
                <a:latin typeface="Times New Roman"/>
              </a:rPr>
              <a:t>Cat</a:t>
            </a:r>
            <a:r>
              <a:rPr b="0" lang="en-US" sz="4400" spc="-1" strike="noStrike">
                <a:solidFill>
                  <a:srgbClr val="ffcc66"/>
                </a:solidFill>
                <a:latin typeface="Times New Roman"/>
              </a:rPr>
              <a:t>alog)</a:t>
            </a:r>
            <a:endParaRPr b="0" lang="en-US" sz="4400" spc="-1" strike="noStrike">
              <a:solidFill>
                <a:srgbClr val="ffcc66"/>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Key component of the Knowledge Network for Biocomplexity (KNB) Project</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 Schema-Independent XML Database System</a:t>
            </a:r>
            <a:endParaRPr b="0" lang="en-US" sz="2800" spc="-1" strike="noStrike">
              <a:solidFill>
                <a:srgbClr val="ffffff"/>
              </a:solidFill>
              <a:latin typeface="Times New Roman"/>
            </a:endParaRPr>
          </a:p>
          <a:p>
            <a:pPr marL="343080" indent="-343080">
              <a:lnSpc>
                <a:spcPct val="8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dresses the three challenges of ecological  data management</a:t>
            </a:r>
            <a:endParaRPr b="0" lang="en-US" sz="28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Mostly independent researchers with their own database systems (</a:t>
            </a:r>
            <a:r>
              <a:rPr b="1" lang="en-US" sz="2400" spc="-1" strike="noStrike">
                <a:solidFill>
                  <a:srgbClr val="ffffff"/>
                </a:solidFill>
                <a:latin typeface="Times New Roman"/>
              </a:rPr>
              <a:t>autonom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ted in all parts of the country and world (</a:t>
            </a:r>
            <a:r>
              <a:rPr b="1" lang="en-US" sz="2400" spc="-1" strike="noStrike">
                <a:solidFill>
                  <a:srgbClr val="ffffff"/>
                </a:solidFill>
                <a:latin typeface="Times New Roman"/>
              </a:rPr>
              <a:t>dispersion</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285840">
              <a:lnSpc>
                <a:spcPct val="8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calized data collection and storage protocols (</a:t>
            </a:r>
            <a:r>
              <a:rPr b="1" lang="en-US" sz="2400" spc="-1" strike="noStrike">
                <a:solidFill>
                  <a:srgbClr val="ffffff"/>
                </a:solidFill>
                <a:latin typeface="Times New Roman"/>
              </a:rPr>
              <a:t>heterogeneity</a:t>
            </a:r>
            <a:r>
              <a:rPr b="0" lang="en-US" sz="2400" spc="-1" strike="noStrike">
                <a:solidFill>
                  <a:srgbClr val="ffffff"/>
                </a:solidFill>
                <a:latin typeface="Times New Roman"/>
              </a:rPr>
              <a:t>)</a:t>
            </a:r>
            <a:endParaRPr b="0" lang="en-US" sz="2400" spc="-1" strike="noStrike">
              <a:solidFill>
                <a:srgbClr val="ffffff"/>
              </a:solidFill>
              <a:latin typeface="Times New Roman"/>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000000"/>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etacat Key Features</a:t>
            </a:r>
            <a:endParaRPr b="0" lang="en-US" sz="4400" spc="-1" strike="noStrike">
              <a:solidFill>
                <a:srgbClr val="ffcc66"/>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well-formed XML document in DB</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tores any data file into file system</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Java servlet front-end to any JDBC/SQL92 Compliant RDBMS (PostgreSQL, Oracle, MS SQLServer, …)</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Path type queries of stored XML documents</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XML input and output</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utomatic XSL transformations of stored XM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Built in replication scheme</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cument and user level access control</a:t>
            </a:r>
            <a:endParaRPr b="0" lang="en-US" sz="2800" spc="-1" strike="noStrike">
              <a:solidFill>
                <a:srgbClr val="ffffff"/>
              </a:solidFill>
              <a:latin typeface="Times New Roman"/>
            </a:endParaRPr>
          </a:p>
          <a:p>
            <a:pPr marL="301680" indent="-301680">
              <a:lnSpc>
                <a:spcPct val="9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pen source, off-the-shelf too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11T15:12:53Z</dcterms:created>
  <dc:creator>Chad Berkley</dc:creator>
  <dc:description/>
  <dc:language>en-US</dc:language>
  <cp:lastModifiedBy>Jing Tao</cp:lastModifiedBy>
  <dcterms:modified xsi:type="dcterms:W3CDTF">2004-12-10T22:39:35Z</dcterms:modified>
  <cp:revision>74</cp:revision>
  <dc:subject/>
  <dc:title>Metacat: a Schema-Independent XML Database System</dc:title>
</cp:coreProperties>
</file>