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7AA-502D-4C21-B061-683B0DD1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C11-DF4A-4082-ACDB-1717555E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CE3-DDDD-4A25-8339-FA925BBD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B6BF-05ED-483F-9A8F-21080E06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36A4-0E76-41CF-9946-A2A44657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BFE-9404-4160-851F-EEEBF7C7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A384-0E54-4354-A4B2-74C74859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31D9-74EC-4AF2-9312-D94968C2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9973-7A66-4561-8DBB-7F3C1028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2F43-B3EA-4ED6-83DC-6B6F948D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B7AF-C4F3-42D0-91C5-AB81EFF0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8DE-31FD-47CD-B085-E4405F09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A7D7-2808-483A-8BF2-02870453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2D35-ECE3-421E-B4AE-DCAB8663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040F-6508-4CB1-BB6A-CF88B0AD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86BB-74D4-47B2-9033-ED63A8AA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E4F1-436B-40DB-8E8B-AA505AA4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632-BADB-4602-AB9F-454A6DF1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C4E-42FE-4440-B61D-2459EC76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4DC-F8C1-4BC9-9B9A-2BAF401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663-A471-4DCA-BCDC-BC4A5214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45C-9B72-43AB-BFEA-17691FB5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F42-F956-401F-820B-63BB381E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F0A-4FC3-441E-9B1B-32E9937A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6114-5A81-4ECC-BFD1-E039BC6822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1895400" y="2961720"/>
            <a:ext cx="6039000" cy="819360"/>
          </a:xfrm>
          <a:custGeom>
            <a:avLst/>
            <a:gdLst>
              <a:gd name="textAreaLeft" fmla="*/ 415440 w 6039000"/>
              <a:gd name="textAreaRight" fmla="*/ 5623560 w 6039000"/>
              <a:gd name="textAreaTop" fmla="*/ 336600 h 819360"/>
              <a:gd name="textAreaBottom" fmla="*/ 482760 h 819360"/>
            </a:gdLst>
            <a:ahLst/>
            <a:rect l="textAreaLeft" t="textAreaTop" r="textAreaRight" b="textAreaBottom"/>
            <a:pathLst>
              <a:path w="21600" h="21600">
                <a:moveTo>
                  <a:pt x="0" y="4437"/>
                </a:moveTo>
                <a:cubicBezTo>
                  <a:pt x="6457" y="-11282"/>
                  <a:pt x="13657" y="20156"/>
                  <a:pt x="20114" y="4437"/>
                </a:cubicBezTo>
                <a:lnTo>
                  <a:pt x="21600" y="17163"/>
                </a:lnTo>
                <a:cubicBezTo>
                  <a:pt x="15143" y="32882"/>
                  <a:pt x="7943" y="1444"/>
                  <a:pt x="1486" y="17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3d7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38280" y="1708200"/>
            <a:ext cx="67089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4EFE-0389-40C1-9A8B-11D305774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1895400" y="2961720"/>
            <a:ext cx="6039000" cy="819360"/>
          </a:xfrm>
          <a:custGeom>
            <a:avLst/>
            <a:gdLst>
              <a:gd name="textAreaLeft" fmla="*/ 415440 w 6039000"/>
              <a:gd name="textAreaRight" fmla="*/ 5623560 w 6039000"/>
              <a:gd name="textAreaTop" fmla="*/ 336600 h 819360"/>
              <a:gd name="textAreaBottom" fmla="*/ 482760 h 819360"/>
            </a:gdLst>
            <a:ahLst/>
            <a:rect l="textAreaLeft" t="textAreaTop" r="textAreaRight" b="textAreaBottom"/>
            <a:pathLst>
              <a:path w="21600" h="21600">
                <a:moveTo>
                  <a:pt x="0" y="4437"/>
                </a:moveTo>
                <a:cubicBezTo>
                  <a:pt x="6457" y="-11282"/>
                  <a:pt x="13657" y="20156"/>
                  <a:pt x="20114" y="4437"/>
                </a:cubicBezTo>
                <a:lnTo>
                  <a:pt x="21600" y="17163"/>
                </a:lnTo>
                <a:cubicBezTo>
                  <a:pt x="15143" y="32882"/>
                  <a:pt x="7943" y="1444"/>
                  <a:pt x="1486" y="17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3d7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2400" y="255240"/>
            <a:ext cx="6951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Ecological Metadata Language (EML)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638280" y="2608200"/>
            <a:ext cx="810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Matthew B. Jones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ational Center for Ecological Analysis and Synthesi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University of California Santa Barbar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http://www.nceas.ucsb.e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http://knb.ecoinformatics.or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6040" y="4979880"/>
            <a:ext cx="1189080" cy="11858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76080" y="1752120"/>
            <a:ext cx="62866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Knowledge Network for Biocomplex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6699"/>
                </a:solidFill>
                <a:latin typeface="Arial Narrow"/>
              </a:rPr>
              <a:t>Distributed metadata</a:t>
            </a:r>
            <a:endParaRPr b="1" lang="en-US" sz="45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769840" y="17683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entralized metadata hub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harvest metadata from sit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llow direct client interac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tributed metadata and da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ites can run Metac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rect client interaction @ sit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an choose to whom their metadata and data are accessibl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’s coo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12480" y="162072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ore ‘any’ metadata standa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must be formatted in XML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rt ‘any’ metadata standard to HTM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XSLT for transforma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vert one metadata standard to anoth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XSLT for transforma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Validate metadata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doctype is an asser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ast centralized structured quer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XML query representation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(uses pre-computed structural index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’s ho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12480" y="162072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pecialized clients easily develop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imple API over http for metadat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Accessible to java, perl, vb, etc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ross-platform client &amp; serv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ny JDBC database for metadata backen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ow it *really* works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pen standards for broad accessi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Metadata exchanged in XM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Transport over HTTP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ervlet API for I/O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version using XSL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Validation using DT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ill support datatypes with XML Schem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cological Metadata Langu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uilt on LTER’s long history of work in metadata system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ESA FLED Repor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Michener et al. 1997. Non-geospatial metadata for the ecological sciences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nitial EML 1.0 in 1998.  Minor updates to EML 1.4.1 available now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 1.4.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ict implementation of Michener et al. pap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s XML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ulariz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keeps requirements simpl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only provide modules you nee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dd new metadata modules as needed (for site, or otherwise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ichener et al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 -- Data s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datase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I -- Research contex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research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II -- Data set status &amp; accessibil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access, eml-statu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IV -- Data structu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file, eml-variabl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ass V -- Supplementa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ml-supplement, eml-softwar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oals for EML 2.0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nsistency among modul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let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tensi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ion of modul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chine processing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ppable to existing standard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 2.0 beta 2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33400" y="154296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resourc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bibliographic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so-party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people and organiz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packag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compon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entity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file/object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attribut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variable/attribute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constrai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integrity constrai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acces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access contro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distribution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distribution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research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research origi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quality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quality management inf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ml-lineag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-- processing and line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ource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Bas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, title(s), name, originato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publication date, place seri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bstract, keywords, URL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mment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ataset specific extens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iterature specific extens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oftware specific extens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tributo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1952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d Berkley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vid Blankman, LTER Ne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Jivka Bojilova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wen Eddins, LTER Ne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John Harris, NCEA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n Higgins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ris Jones, PISCO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ark Schildhauer, NCE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19160" y="232920"/>
            <a:ext cx="609588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ource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56000" y="1165320"/>
          <a:ext cx="4599000" cy="54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65320"/>
                    <a:ext cx="459900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o-party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ponsiblePar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-usable compon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rson or Organiz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nam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tact informa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ole of par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.g. owner, author, edi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9160" y="174240"/>
            <a:ext cx="609588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o-party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79520" y="1239840"/>
          <a:ext cx="820260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239840"/>
                    <a:ext cx="8202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ource (3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 contains an originato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iginator is a Responsible Par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o, has all of the properties of a Responsible Par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iterature 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801800" y="2278080"/>
          <a:ext cx="660888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1800" y="2278080"/>
                    <a:ext cx="660888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ftware 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013120" y="2171880"/>
          <a:ext cx="5859360" cy="37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2171880"/>
                    <a:ext cx="5859360" cy="37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04760" y="247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ataset resourc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14200" y="1392120"/>
          <a:ext cx="870120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392120"/>
                    <a:ext cx="87012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 inform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ist of related objec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tainmen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.g., data file 1 is “part of” the pack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ssocia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.g., “metadata file 2 “describes the attributes in” data file 1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pressed as a “triple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bject, relationship, objec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39000" y="4095720"/>
            <a:ext cx="1295280" cy="1276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05080" y="3962520"/>
            <a:ext cx="1295280" cy="1333440"/>
          </a:xfrm>
          <a:prstGeom prst="rect">
            <a:avLst/>
          </a:prstGeom>
          <a:solidFill>
            <a:srgbClr val="0066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48040" y="4705200"/>
            <a:ext cx="1962360" cy="0"/>
          </a:xfrm>
          <a:prstGeom prst="line">
            <a:avLst/>
          </a:prstGeom>
          <a:ln w="50760">
            <a:solidFill>
              <a:srgbClr val="01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22440" y="3394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3960" y="39654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8640" y="34322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45760" y="5394240"/>
            <a:ext cx="131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Object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27040" y="550872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ata Entity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8000" y="539424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escribes th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attributes in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 (3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457280" y="2797200"/>
          <a:ext cx="7350120" cy="20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2797200"/>
                    <a:ext cx="73501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und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ational Science Found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Knowledge and Distributed Intelligence Program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B99-80154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Database Activities in the Biological Sciences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BI99-04777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CE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NSF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EB-0072909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University of California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99"/>
                </a:solidFill>
                <a:latin typeface="Arial"/>
              </a:rPr>
              <a:t>UC Santa Barbara</a:t>
            </a:r>
            <a:endParaRPr b="0" lang="en-US" sz="17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6880" y="307800"/>
            <a:ext cx="4156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2080" y="1014480"/>
            <a:ext cx="337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package: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n Example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29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37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57880" y="3162240"/>
            <a:ext cx="990360" cy="590760"/>
          </a:xfrm>
          <a:prstGeom prst="ellipse">
            <a:avLst/>
          </a:prstGeom>
          <a:noFill/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0240" y="1406520"/>
            <a:ext cx="1809720" cy="4597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143245"/>
              <a:gd name="adj5" fmla="val 364708"/>
              <a:gd name="adj6" fmla="val 183152"/>
            </a:avLst>
          </a:prstGeom>
          <a:solidFill>
            <a:srgbClr val="ffffcc"/>
          </a:solidFill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47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8760" y="3162240"/>
            <a:ext cx="2819520" cy="590760"/>
          </a:xfrm>
          <a:prstGeom prst="ellipse">
            <a:avLst/>
          </a:prstGeom>
          <a:noFill/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00240" y="1406520"/>
            <a:ext cx="1809720" cy="4597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182805"/>
              <a:gd name="adj5" fmla="val 331611"/>
              <a:gd name="adj6" fmla="val 263143"/>
            </a:avLst>
          </a:prstGeom>
          <a:solidFill>
            <a:srgbClr val="ffffcc"/>
          </a:solidFill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357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67520" y="3162240"/>
            <a:ext cx="990720" cy="590760"/>
          </a:xfrm>
          <a:prstGeom prst="ellipse">
            <a:avLst/>
          </a:prstGeom>
          <a:noFill/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00240" y="1406520"/>
            <a:ext cx="1809720" cy="4597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216138"/>
              <a:gd name="adj5" fmla="val 344050"/>
              <a:gd name="adj6" fmla="val 330504"/>
            </a:avLst>
          </a:prstGeom>
          <a:solidFill>
            <a:srgbClr val="ffffcc"/>
          </a:solidFill>
          <a:ln w="7632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tity, Attributes, Constrain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lational data models consist of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ntities (tabl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ich are collections of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ttributes (variabl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ich are inter-related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ity constrain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19320" y="5113440"/>
          <a:ext cx="34927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9320" y="5113440"/>
                    <a:ext cx="34927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entity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properties of each entity in a collection of da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, name, size, format, orienta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mpression and encoding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cord &amp; quote delimiter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number header lin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ase sensitivi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uthentication checksum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ata problem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33480" y="59508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entity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279520" y="293760"/>
          <a:ext cx="6470640" cy="62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9520" y="293760"/>
                    <a:ext cx="647064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ttribute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each variable in an ent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ttribute name, definit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units, storage type and precision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efinition of coded valu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llowable numeric rang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missing value cod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elimiter or length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ttribute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468440" y="1760400"/>
          <a:ext cx="744696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1760400"/>
                    <a:ext cx="74469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bjectives of the KNB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45960" y="19810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ational network for data shar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Autonomous site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Individual researcher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ccommodate data heterogene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ccommodate metadata heterogene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nable advanced servic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Data integration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Hypothesis modeling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Visualization and analysi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constraint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press integrity constraints within and among ent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nstraint(s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imary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reign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nique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andidate ke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tend to generalized assertions about data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constraint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309680" y="2565360"/>
          <a:ext cx="75661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2565360"/>
                    <a:ext cx="75661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ccess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press access control rules for objects (metadata or data) within a data management syst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uthentication system use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order to apply access control rul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llow/deny access control rul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o gets what permission(s) and for how lo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access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471680" y="2286000"/>
          <a:ext cx="734544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286000"/>
                    <a:ext cx="734544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distribution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how a data package is distribut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stribution forma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stributor contact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igital transfer option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eed work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eliminate redundanci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duce complexit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distribution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608120"/>
          <a:ext cx="1054908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8120"/>
                    <a:ext cx="105490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earch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14680" y="19810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s the research context and origin of the data collect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dentifier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search Project(s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itle, originator, abstract, objectiv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emporal coverag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unding and staff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te description, design + method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eeds work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mport ResourceBase, examine coverage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earch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69960" y="1459080"/>
          <a:ext cx="8007480" cy="40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459080"/>
                    <a:ext cx="800748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research (3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57480" y="1162080"/>
          <a:ext cx="7321320" cy="54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162080"/>
                    <a:ext cx="73213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qua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Quality management inform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(unimplemented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EML 1.4 has some scattered info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l-supplement (quality_assurance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ml-file (data_problem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Quality info needed in many place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roject methods, dataset, entity, attributes, etc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lu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5960" y="19810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etadata (EML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Use XML for syntax representation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Grassroots standardization effor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Metadata conversion tool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etadata server (Metacat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Centralized harvest engin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istributed data network (Metacat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ata management software for ecologists (Morpho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Manage metadata and dat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tandalone and networked capabilitie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ml-lineag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(unimplemented)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scribe the lineage across versions of packages, data entities, etc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ility to show processing relationships among entit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A + B created C using process 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GDC process step, asuProtocol work releva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ther relevant work (Frew et al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08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16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36880" y="307800"/>
            <a:ext cx="415656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26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32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36880" y="307800"/>
            <a:ext cx="41565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42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48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24000" y="4815000"/>
            <a:ext cx="1581120" cy="1752120"/>
            <a:chOff x="324000" y="4815000"/>
            <a:chExt cx="1581120" cy="1752120"/>
          </a:xfrm>
        </p:grpSpPr>
        <p:sp>
          <p:nvSpPr>
            <p:cNvPr id="453" name=""/>
            <p:cNvSpPr/>
            <p:nvPr/>
          </p:nvSpPr>
          <p:spPr>
            <a:xfrm>
              <a:off x="324000" y="481500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6280" y="496728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8560" y="511956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1200" y="527184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9040" y="363384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39400" y="307800"/>
            <a:ext cx="415656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64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70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24000" y="4815000"/>
            <a:ext cx="1581120" cy="1752120"/>
            <a:chOff x="324000" y="4815000"/>
            <a:chExt cx="1581120" cy="1752120"/>
          </a:xfrm>
        </p:grpSpPr>
        <p:sp>
          <p:nvSpPr>
            <p:cNvPr id="475" name=""/>
            <p:cNvSpPr/>
            <p:nvPr/>
          </p:nvSpPr>
          <p:spPr>
            <a:xfrm>
              <a:off x="324000" y="481500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6280" y="496728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8560" y="511956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1200" y="527184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2000" y="638280"/>
            <a:ext cx="112392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9040" y="363384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28760" y="2123280"/>
            <a:ext cx="952200" cy="1047960"/>
          </a:xfrm>
          <a:custGeom>
            <a:avLst/>
            <a:gdLst>
              <a:gd name="textAreaLeft" fmla="*/ 0 w 952200"/>
              <a:gd name="textAreaRight" fmla="*/ 952560 w 952200"/>
              <a:gd name="textAreaTop" fmla="*/ 0 h 1047960"/>
              <a:gd name="textAreaBottom" fmla="*/ 1047960 h 104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9400" y="307800"/>
            <a:ext cx="41565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504800" y="2533680"/>
            <a:ext cx="1581480" cy="1752480"/>
            <a:chOff x="1504800" y="2533680"/>
            <a:chExt cx="1581480" cy="1752480"/>
          </a:xfrm>
        </p:grpSpPr>
        <p:sp>
          <p:nvSpPr>
            <p:cNvPr id="488" name=""/>
            <p:cNvSpPr/>
            <p:nvPr/>
          </p:nvSpPr>
          <p:spPr>
            <a:xfrm>
              <a:off x="1504800" y="25336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57440" y="2685960"/>
              <a:ext cx="1123920" cy="12956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09720" y="2838600"/>
              <a:ext cx="112392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62000" y="2990880"/>
              <a:ext cx="1124280" cy="1295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D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686480" y="324000"/>
            <a:ext cx="4228920" cy="624816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971800" y="4795920"/>
            <a:ext cx="1581120" cy="1752120"/>
            <a:chOff x="2971800" y="4795920"/>
            <a:chExt cx="1581120" cy="1752120"/>
          </a:xfrm>
        </p:grpSpPr>
        <p:sp>
          <p:nvSpPr>
            <p:cNvPr id="494" name=""/>
            <p:cNvSpPr/>
            <p:nvPr/>
          </p:nvSpPr>
          <p:spPr>
            <a:xfrm>
              <a:off x="2971800" y="479592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494820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76720" y="5100480"/>
              <a:ext cx="1123920" cy="1294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9000" y="5252760"/>
              <a:ext cx="1123920" cy="1295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E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24000" y="4815000"/>
            <a:ext cx="1581120" cy="1752120"/>
            <a:chOff x="324000" y="4815000"/>
            <a:chExt cx="1581120" cy="1752120"/>
          </a:xfrm>
        </p:grpSpPr>
        <p:sp>
          <p:nvSpPr>
            <p:cNvPr id="499" name=""/>
            <p:cNvSpPr/>
            <p:nvPr/>
          </p:nvSpPr>
          <p:spPr>
            <a:xfrm>
              <a:off x="324000" y="481500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6280" y="496728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8560" y="5119560"/>
              <a:ext cx="1123920" cy="129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1200" y="5271840"/>
              <a:ext cx="1123920" cy="1295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 ...A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046320" y="623880"/>
            <a:ext cx="1123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2000" y="638280"/>
            <a:ext cx="112392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040" y="363384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295080" y="3652920"/>
            <a:ext cx="952200" cy="1047600"/>
          </a:xfrm>
          <a:custGeom>
            <a:avLst/>
            <a:gdLst>
              <a:gd name="textAreaLeft" fmla="*/ -360 w 952200"/>
              <a:gd name="textAreaRight" fmla="*/ 952200 w 952200"/>
              <a:gd name="textAreaTop" fmla="*/ 0 h 1047600"/>
              <a:gd name="textAreaBottom" fmla="*/ 104796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28760" y="2123280"/>
            <a:ext cx="952200" cy="1047960"/>
          </a:xfrm>
          <a:custGeom>
            <a:avLst/>
            <a:gdLst>
              <a:gd name="textAreaLeft" fmla="*/ 0 w 952200"/>
              <a:gd name="textAreaRight" fmla="*/ 952560 w 952200"/>
              <a:gd name="textAreaTop" fmla="*/ 0 h 1047960"/>
              <a:gd name="textAreaBottom" fmla="*/ 1047960 h 1047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39400" y="307800"/>
            <a:ext cx="41565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identifier&gt;A&lt;/identifie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title&gt;Biodiversity data&lt;/titl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surname&gt;Jones&lt;/surname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originator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&lt;/dataset&gt;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data entity in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 “is research context for”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entity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“is attribute structure of” D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C “is constraints for” D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24320" y="2117880"/>
            <a:ext cx="952560" cy="1047600"/>
          </a:xfrm>
          <a:custGeom>
            <a:avLst/>
            <a:gdLst>
              <a:gd name="textAreaLeft" fmla="*/ 0 w 952560"/>
              <a:gd name="textAreaRight" fmla="*/ 952920 w 952560"/>
              <a:gd name="textAreaTop" fmla="*/ 360 h 1047600"/>
              <a:gd name="textAreaBottom" fmla="*/ 1048320 h 1047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60800" y="3219480"/>
            <a:ext cx="1457280" cy="460440"/>
          </a:xfrm>
          <a:prstGeom prst="rightArrow">
            <a:avLst>
              <a:gd name="adj1" fmla="val 50000"/>
              <a:gd name="adj2" fmla="val 79124"/>
            </a:avLst>
          </a:prstGeom>
          <a:solidFill>
            <a:srgbClr val="3366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27200" y="619200"/>
            <a:ext cx="1123920" cy="1295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Edu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reakout group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ctivity 1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view and revise modules assigned to you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Document your rationale and changes completely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ctivity 2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Review modules resulting from Activity 1 -- flag any problem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Complete documentation and changes as needed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reakout Groups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1366920" y="2373480"/>
            <a:ext cx="2201760" cy="22885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roup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pack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so-par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lineag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44800" y="2373480"/>
            <a:ext cx="2151360" cy="22885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roup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ac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distribu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qual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researc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3720" y="2373480"/>
            <a:ext cx="2197080" cy="2288520"/>
          </a:xfrm>
          <a:prstGeom prst="rect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roup 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ent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attrib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eml-constrai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uidelines for revis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arget the broad ecology commun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Individual scientist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tation based scientist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Arial"/>
              </a:rPr>
              <a:t>Station needs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fferentiate machine processing from human-readable cont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duce complexity if possib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etadata Systems Design (1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nal though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521" name="dilbert-iwon" descr=""/>
          <p:cNvPicPr/>
          <p:nvPr/>
        </p:nvPicPr>
        <p:blipFill>
          <a:blip r:embed="rId1"/>
          <a:stretch/>
        </p:blipFill>
        <p:spPr>
          <a:xfrm>
            <a:off x="387360" y="2289240"/>
            <a:ext cx="8583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etadata Systems Design (3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249720" y="41832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0880" y="419112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92280" y="37926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5229360"/>
            <a:ext cx="324000" cy="25704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7400" y="523872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pho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1880" y="5977080"/>
            <a:ext cx="262080" cy="245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85240" y="5948280"/>
            <a:ext cx="19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metadata syste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35240" y="126540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7360" y="182736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440" y="262080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1520" y="118584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N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2720" y="2014200"/>
            <a:ext cx="22140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08360" y="3693600"/>
            <a:ext cx="311040" cy="149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28560" y="3798720"/>
            <a:ext cx="3492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953800" y="376632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26360" y="294804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756480" y="25462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657840" y="2106000"/>
            <a:ext cx="31464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350400" y="2307600"/>
            <a:ext cx="332640" cy="90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199920" y="263988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271200" y="2535480"/>
            <a:ext cx="471240" cy="1443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78160" y="2909880"/>
            <a:ext cx="608040" cy="698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2680" y="2290680"/>
            <a:ext cx="669960" cy="412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110280" y="1577880"/>
            <a:ext cx="531000" cy="304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18040" y="1163520"/>
            <a:ext cx="65700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OBF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8200" y="2003760"/>
            <a:ext cx="20520" cy="5360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6680" y="5580000"/>
            <a:ext cx="323640" cy="25740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720" y="55897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580080" y="46846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095160" y="467388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etadata Systems Design (4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3249720" y="41832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20880" y="419112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92280" y="37926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1640" y="5229360"/>
            <a:ext cx="324000" cy="25704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7400" y="523872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pho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1880" y="5977080"/>
            <a:ext cx="262080" cy="245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85240" y="5948280"/>
            <a:ext cx="19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metadata syste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35240" y="126540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87360" y="182736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440" y="262080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1520" y="118584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N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2720" y="2014200"/>
            <a:ext cx="22140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808360" y="3693600"/>
            <a:ext cx="311040" cy="149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328560" y="3798720"/>
            <a:ext cx="3492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953800" y="376632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26360" y="294804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56480" y="25462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57840" y="2106000"/>
            <a:ext cx="31464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50400" y="2307600"/>
            <a:ext cx="332640" cy="90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199920" y="263988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271200" y="2535480"/>
            <a:ext cx="471240" cy="1443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78160" y="2909880"/>
            <a:ext cx="608040" cy="698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72680" y="2290680"/>
            <a:ext cx="669960" cy="412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10280" y="1577880"/>
            <a:ext cx="531000" cy="304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18040" y="1163520"/>
            <a:ext cx="65700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OBF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8200" y="2003760"/>
            <a:ext cx="20520" cy="5360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6680" y="5580000"/>
            <a:ext cx="323640" cy="25740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91720" y="55897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580080" y="46846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095160" y="467388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33440" y="1855800"/>
            <a:ext cx="65736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14800" y="1752480"/>
            <a:ext cx="6570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1711080" y="205848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1944360" y="284904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6494400" y="141696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408240" y="6408720"/>
            <a:ext cx="35064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80560" y="634824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output fi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38160" y="214200"/>
            <a:ext cx="60958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An Alternative Design (2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3249720" y="41832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20880" y="419112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92280" y="379260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2647800"/>
            <a:ext cx="1116000" cy="109404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8680" y="292752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1360" y="178452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90200" y="2046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EA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360" y="486252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90"/>
                </a:moveTo>
                <a:lnTo>
                  <a:pt x="6" y="54"/>
                </a:lnTo>
                <a:lnTo>
                  <a:pt x="30" y="30"/>
                </a:lnTo>
                <a:lnTo>
                  <a:pt x="60" y="6"/>
                </a:lnTo>
                <a:lnTo>
                  <a:pt x="96" y="0"/>
                </a:lnTo>
                <a:lnTo>
                  <a:pt x="132" y="6"/>
                </a:lnTo>
                <a:lnTo>
                  <a:pt x="162" y="30"/>
                </a:lnTo>
                <a:lnTo>
                  <a:pt x="186" y="54"/>
                </a:lnTo>
                <a:lnTo>
                  <a:pt x="192" y="90"/>
                </a:lnTo>
                <a:lnTo>
                  <a:pt x="186" y="126"/>
                </a:lnTo>
                <a:lnTo>
                  <a:pt x="162" y="156"/>
                </a:lnTo>
                <a:lnTo>
                  <a:pt x="132" y="180"/>
                </a:lnTo>
                <a:lnTo>
                  <a:pt x="96" y="186"/>
                </a:lnTo>
                <a:lnTo>
                  <a:pt x="60" y="180"/>
                </a:lnTo>
                <a:lnTo>
                  <a:pt x="30" y="156"/>
                </a:lnTo>
                <a:lnTo>
                  <a:pt x="6" y="126"/>
                </a:lnTo>
                <a:lnTo>
                  <a:pt x="0" y="90"/>
                </a:lnTo>
                <a:close/>
              </a:path>
            </a:pathLst>
          </a:custGeom>
          <a:solidFill>
            <a:srgbClr val="f6d36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83800" y="4849920"/>
            <a:ext cx="26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cat Catalog (replicated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1640" y="5229360"/>
            <a:ext cx="324000" cy="25704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7400" y="5238720"/>
            <a:ext cx="139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pho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6040" y="443232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0" y="399888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7720" y="42782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DS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87880" y="3678120"/>
            <a:ext cx="639720" cy="47628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90520" y="3078720"/>
            <a:ext cx="10800" cy="79740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222080" y="2468520"/>
            <a:ext cx="747720" cy="277920"/>
          </a:xfrm>
          <a:prstGeom prst="line">
            <a:avLst/>
          </a:prstGeom>
          <a:ln w="7632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1880" y="5977080"/>
            <a:ext cx="262080" cy="245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5240" y="5948280"/>
            <a:ext cx="19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 metadata system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35240" y="1265400"/>
            <a:ext cx="657360" cy="5918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8280" y="26496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440" y="2620800"/>
            <a:ext cx="65736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2720" y="2014200"/>
            <a:ext cx="22140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08360" y="3693600"/>
            <a:ext cx="311040" cy="1494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328560" y="3798720"/>
            <a:ext cx="3492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953800" y="376632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426360" y="294804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756480" y="25462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657840" y="2106000"/>
            <a:ext cx="31464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50400" y="2307600"/>
            <a:ext cx="332640" cy="90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199920" y="263988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271200" y="2535480"/>
            <a:ext cx="471240" cy="1443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78160" y="2909880"/>
            <a:ext cx="608040" cy="698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72680" y="2290680"/>
            <a:ext cx="669960" cy="412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110280" y="1577880"/>
            <a:ext cx="531000" cy="30492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18040" y="1163520"/>
            <a:ext cx="657000" cy="592200"/>
          </a:xfrm>
          <a:prstGeom prst="rect">
            <a:avLst/>
          </a:prstGeom>
          <a:solidFill>
            <a:srgbClr val="ffcc99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OBF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8200" y="2003760"/>
            <a:ext cx="20520" cy="53604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6680" y="5580000"/>
            <a:ext cx="323640" cy="257400"/>
          </a:xfrm>
          <a:custGeom>
            <a:avLst/>
            <a:gdLst/>
            <a:ahLst/>
            <a:rect l="l" t="t" r="r" b="b"/>
            <a:pathLst>
              <a:path w="204" h="162">
                <a:moveTo>
                  <a:pt x="102" y="0"/>
                </a:moveTo>
                <a:lnTo>
                  <a:pt x="204" y="162"/>
                </a:lnTo>
                <a:lnTo>
                  <a:pt x="0" y="162"/>
                </a:lnTo>
                <a:lnTo>
                  <a:pt x="10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1720" y="55897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client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580080" y="46846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6095160" y="467388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33440" y="1855800"/>
            <a:ext cx="65736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14800" y="1752480"/>
            <a:ext cx="6570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792000" y="49644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1944360" y="2849040"/>
            <a:ext cx="59220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408240" y="6408720"/>
            <a:ext cx="350640" cy="13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560" y="6348240"/>
            <a:ext cx="165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output filt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51800" y="83664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20280" y="113184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R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20600" y="1362240"/>
            <a:ext cx="1116000" cy="1093680"/>
          </a:xfrm>
          <a:custGeom>
            <a:avLst/>
            <a:gdLst/>
            <a:ahLst/>
            <a:rect l="l" t="t" r="r" b="b"/>
            <a:pathLst>
              <a:path w="1086" h="1092">
                <a:moveTo>
                  <a:pt x="6" y="642"/>
                </a:moveTo>
                <a:lnTo>
                  <a:pt x="0" y="588"/>
                </a:lnTo>
                <a:lnTo>
                  <a:pt x="0" y="480"/>
                </a:lnTo>
                <a:lnTo>
                  <a:pt x="12" y="426"/>
                </a:lnTo>
                <a:lnTo>
                  <a:pt x="24" y="378"/>
                </a:lnTo>
                <a:lnTo>
                  <a:pt x="48" y="324"/>
                </a:lnTo>
                <a:lnTo>
                  <a:pt x="72" y="276"/>
                </a:lnTo>
                <a:lnTo>
                  <a:pt x="96" y="234"/>
                </a:lnTo>
                <a:lnTo>
                  <a:pt x="132" y="192"/>
                </a:lnTo>
                <a:lnTo>
                  <a:pt x="204" y="120"/>
                </a:lnTo>
                <a:lnTo>
                  <a:pt x="252" y="84"/>
                </a:lnTo>
                <a:lnTo>
                  <a:pt x="294" y="60"/>
                </a:lnTo>
                <a:lnTo>
                  <a:pt x="342" y="36"/>
                </a:lnTo>
                <a:lnTo>
                  <a:pt x="396" y="18"/>
                </a:lnTo>
                <a:lnTo>
                  <a:pt x="450" y="6"/>
                </a:lnTo>
                <a:lnTo>
                  <a:pt x="504" y="0"/>
                </a:lnTo>
                <a:lnTo>
                  <a:pt x="558" y="0"/>
                </a:lnTo>
                <a:lnTo>
                  <a:pt x="666" y="12"/>
                </a:lnTo>
                <a:lnTo>
                  <a:pt x="714" y="30"/>
                </a:lnTo>
                <a:lnTo>
                  <a:pt x="768" y="48"/>
                </a:lnTo>
                <a:lnTo>
                  <a:pt x="810" y="72"/>
                </a:lnTo>
                <a:lnTo>
                  <a:pt x="858" y="102"/>
                </a:lnTo>
                <a:lnTo>
                  <a:pt x="900" y="132"/>
                </a:lnTo>
                <a:lnTo>
                  <a:pt x="936" y="168"/>
                </a:lnTo>
                <a:lnTo>
                  <a:pt x="972" y="210"/>
                </a:lnTo>
                <a:lnTo>
                  <a:pt x="1032" y="294"/>
                </a:lnTo>
                <a:lnTo>
                  <a:pt x="1050" y="342"/>
                </a:lnTo>
                <a:lnTo>
                  <a:pt x="1068" y="396"/>
                </a:lnTo>
                <a:lnTo>
                  <a:pt x="1080" y="450"/>
                </a:lnTo>
                <a:lnTo>
                  <a:pt x="1086" y="504"/>
                </a:lnTo>
                <a:lnTo>
                  <a:pt x="1086" y="612"/>
                </a:lnTo>
                <a:lnTo>
                  <a:pt x="1074" y="666"/>
                </a:lnTo>
                <a:lnTo>
                  <a:pt x="1062" y="714"/>
                </a:lnTo>
                <a:lnTo>
                  <a:pt x="1044" y="768"/>
                </a:lnTo>
                <a:lnTo>
                  <a:pt x="1020" y="816"/>
                </a:lnTo>
                <a:lnTo>
                  <a:pt x="960" y="900"/>
                </a:lnTo>
                <a:lnTo>
                  <a:pt x="924" y="936"/>
                </a:lnTo>
                <a:lnTo>
                  <a:pt x="840" y="1008"/>
                </a:lnTo>
                <a:lnTo>
                  <a:pt x="744" y="1056"/>
                </a:lnTo>
                <a:lnTo>
                  <a:pt x="696" y="1074"/>
                </a:lnTo>
                <a:lnTo>
                  <a:pt x="642" y="1086"/>
                </a:lnTo>
                <a:lnTo>
                  <a:pt x="588" y="1092"/>
                </a:lnTo>
                <a:lnTo>
                  <a:pt x="534" y="1092"/>
                </a:lnTo>
                <a:lnTo>
                  <a:pt x="426" y="1080"/>
                </a:lnTo>
                <a:lnTo>
                  <a:pt x="378" y="1062"/>
                </a:lnTo>
                <a:lnTo>
                  <a:pt x="324" y="1044"/>
                </a:lnTo>
                <a:lnTo>
                  <a:pt x="276" y="1020"/>
                </a:lnTo>
                <a:lnTo>
                  <a:pt x="192" y="960"/>
                </a:lnTo>
                <a:lnTo>
                  <a:pt x="156" y="924"/>
                </a:lnTo>
                <a:lnTo>
                  <a:pt x="84" y="840"/>
                </a:lnTo>
                <a:lnTo>
                  <a:pt x="60" y="798"/>
                </a:lnTo>
                <a:lnTo>
                  <a:pt x="36" y="750"/>
                </a:lnTo>
                <a:lnTo>
                  <a:pt x="18" y="696"/>
                </a:lnTo>
                <a:lnTo>
                  <a:pt x="6" y="642"/>
                </a:lnTo>
                <a:close/>
              </a:path>
            </a:pathLst>
          </a:custGeom>
          <a:solidFill>
            <a:srgbClr val="f6d36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89440" y="1623960"/>
            <a:ext cx="80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ca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7480" y="672840"/>
            <a:ext cx="221760" cy="570600"/>
          </a:xfrm>
          <a:prstGeom prst="line">
            <a:avLst/>
          </a:prstGeom>
          <a:ln w="572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38240" y="275904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9760" y="276696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38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160" y="2368440"/>
            <a:ext cx="314280" cy="27648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72" y="0"/>
                </a:moveTo>
                <a:lnTo>
                  <a:pt x="198" y="144"/>
                </a:lnTo>
                <a:lnTo>
                  <a:pt x="0" y="174"/>
                </a:lnTo>
                <a:lnTo>
                  <a:pt x="72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96880" y="2270160"/>
            <a:ext cx="311040" cy="1490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17440" y="2374560"/>
            <a:ext cx="35280" cy="3434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42320" y="2342160"/>
            <a:ext cx="264600" cy="41616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46760" y="804960"/>
            <a:ext cx="2741760" cy="128088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958000">
            <a:off x="-149400" y="544320"/>
            <a:ext cx="2960640" cy="1871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089920" y="182088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420040" y="1419120"/>
            <a:ext cx="314280" cy="285840"/>
          </a:xfrm>
          <a:custGeom>
            <a:avLst/>
            <a:gdLst/>
            <a:ahLst/>
            <a:rect l="l" t="t" r="r" b="b"/>
            <a:pathLst>
              <a:path w="198" h="180">
                <a:moveTo>
                  <a:pt x="126" y="0"/>
                </a:moveTo>
                <a:lnTo>
                  <a:pt x="0" y="144"/>
                </a:lnTo>
                <a:lnTo>
                  <a:pt x="198" y="180"/>
                </a:lnTo>
                <a:lnTo>
                  <a:pt x="126" y="0"/>
                </a:lnTo>
                <a:close/>
              </a:path>
            </a:pathLst>
          </a:custGeom>
          <a:solidFill>
            <a:srgbClr val="00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21760" y="978840"/>
            <a:ext cx="314280" cy="276120"/>
          </a:xfrm>
          <a:custGeom>
            <a:avLst/>
            <a:gdLst/>
            <a:ahLst/>
            <a:rect l="l" t="t" r="r" b="b"/>
            <a:pathLst>
              <a:path w="198" h="174">
                <a:moveTo>
                  <a:pt x="126" y="0"/>
                </a:moveTo>
                <a:lnTo>
                  <a:pt x="0" y="138"/>
                </a:lnTo>
                <a:lnTo>
                  <a:pt x="198" y="174"/>
                </a:lnTo>
                <a:lnTo>
                  <a:pt x="126" y="0"/>
                </a:lnTo>
                <a:close/>
              </a:path>
            </a:pathLst>
          </a:custGeom>
          <a:solidFill>
            <a:srgbClr val="f45b9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013600" y="1180440"/>
            <a:ext cx="333000" cy="8964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863840" y="1512720"/>
            <a:ext cx="249120" cy="23832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7935120" y="1408320"/>
            <a:ext cx="471600" cy="144000"/>
          </a:xfrm>
          <a:prstGeom prst="line">
            <a:avLst/>
          </a:prstGeom>
          <a:ln w="28440">
            <a:solidFill>
              <a:srgbClr val="01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9T22:39:21Z</dcterms:created>
  <dc:creator>Matt Jones</dc:creator>
  <dc:description/>
  <dc:language>en-US</dc:language>
  <cp:lastModifiedBy>Matt Jones</cp:lastModifiedBy>
  <dcterms:modified xsi:type="dcterms:W3CDTF">2001-04-01T09:20:54Z</dcterms:modified>
  <cp:revision>213</cp:revision>
  <dc:subject/>
  <dc:title>Metadata Standards</dc:title>
</cp:coreProperties>
</file>