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8D089-CC98-4BEF-BFCD-E5A66778C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5661F-0E88-4448-A617-B59A9B916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1F024-CA8C-428E-9A71-E46B6C752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6F819-73B3-43FF-BF93-FF8FA868F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C83A1-379C-4D68-8E25-86FE03664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49393-904C-4B1F-ADE3-F9A27292F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24755-A493-4E5B-9238-418FBA691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4F2C9-4D09-42FB-9840-AA0842A6D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6BCC1-9530-47A7-B186-BCCBF95BF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F845B-ECD5-46CF-9A6F-BCDE62C1F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B51F1-98A2-4ED7-9A3E-6F153E9EE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773A0-03DC-4081-8110-8BD166D6A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99CF7-4544-488E-80EE-9DB8A683C1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>
            <a:stCxn id="42" idx="3"/>
            <a:endCxn id="43" idx="1"/>
          </p:cNvCxnSpPr>
          <p:nvPr/>
        </p:nvCxnSpPr>
        <p:spPr>
          <a:xfrm flipV="1">
            <a:off x="3122640" y="2148120"/>
            <a:ext cx="2414880" cy="30024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5" idx="1"/>
            <a:endCxn id="46" idx="3"/>
          </p:cNvCxnSpPr>
          <p:nvPr/>
        </p:nvCxnSpPr>
        <p:spPr>
          <a:xfrm flipH="1" flipV="1">
            <a:off x="2844720" y="4938840"/>
            <a:ext cx="2641680" cy="38160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rch, Response with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1219320" y="1143000"/>
            <a:ext cx="2286000" cy="4952880"/>
            <a:chOff x="1219320" y="1143000"/>
            <a:chExt cx="2286000" cy="4952880"/>
          </a:xfrm>
        </p:grpSpPr>
        <p:sp>
          <p:nvSpPr>
            <p:cNvPr id="42" name=""/>
            <p:cNvSpPr/>
            <p:nvPr/>
          </p:nvSpPr>
          <p:spPr>
            <a:xfrm>
              <a:off x="1600200" y="2309760"/>
              <a:ext cx="152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arch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01640" y="480060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984680" y="5715000"/>
              <a:ext cx="5036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0" name=""/>
            <p:cNvCxnSpPr>
              <a:stCxn id="46" idx="2"/>
              <a:endCxn id="49" idx="0"/>
            </p:cNvCxnSpPr>
            <p:nvPr/>
          </p:nvCxnSpPr>
          <p:spPr>
            <a:xfrm>
              <a:off x="2223000" y="5077080"/>
              <a:ext cx="13680" cy="6382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1" name=""/>
            <p:cNvSpPr/>
            <p:nvPr/>
          </p:nvSpPr>
          <p:spPr>
            <a:xfrm>
              <a:off x="2061360" y="1657440"/>
              <a:ext cx="5968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2" name=""/>
            <p:cNvCxnSpPr>
              <a:stCxn id="51" idx="2"/>
              <a:endCxn id="42" idx="0"/>
            </p:cNvCxnSpPr>
            <p:nvPr/>
          </p:nvCxnSpPr>
          <p:spPr>
            <a:xfrm>
              <a:off x="2359800" y="1933920"/>
              <a:ext cx="1800" cy="3762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53" name=""/>
            <p:cNvGrpSpPr/>
            <p:nvPr/>
          </p:nvGrpSpPr>
          <p:grpSpPr>
            <a:xfrm>
              <a:off x="1219320" y="1143000"/>
              <a:ext cx="2286000" cy="4952880"/>
              <a:chOff x="1219320" y="1143000"/>
              <a:chExt cx="2286000" cy="4952880"/>
            </a:xfrm>
          </p:grpSpPr>
          <p:sp>
            <p:nvSpPr>
              <p:cNvPr id="54" name=""/>
              <p:cNvSpPr/>
              <p:nvPr/>
            </p:nvSpPr>
            <p:spPr>
              <a:xfrm>
                <a:off x="1219320" y="1447920"/>
                <a:ext cx="2286000" cy="464796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219320" y="1143000"/>
                <a:ext cx="2286000" cy="30492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040120" y="1176480"/>
                <a:ext cx="1250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ata Consume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7" name=""/>
          <p:cNvGrpSpPr/>
          <p:nvPr/>
        </p:nvGrpSpPr>
        <p:grpSpPr>
          <a:xfrm>
            <a:off x="4572000" y="1447920"/>
            <a:ext cx="3657600" cy="4267080"/>
            <a:chOff x="4572000" y="1447920"/>
            <a:chExt cx="3657600" cy="4267080"/>
          </a:xfrm>
        </p:grpSpPr>
        <p:sp>
          <p:nvSpPr>
            <p:cNvPr id="43" name=""/>
            <p:cNvSpPr/>
            <p:nvPr/>
          </p:nvSpPr>
          <p:spPr>
            <a:xfrm>
              <a:off x="5537160" y="200988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630400" y="2700360"/>
              <a:ext cx="107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ative 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753440" y="3810240"/>
              <a:ext cx="1499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388200" y="383868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486040" y="5181840"/>
              <a:ext cx="15325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pon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1" name=""/>
            <p:cNvCxnSpPr>
              <a:stCxn id="43" idx="2"/>
              <a:endCxn id="58" idx="0"/>
            </p:cNvCxnSpPr>
            <p:nvPr/>
          </p:nvCxnSpPr>
          <p:spPr>
            <a:xfrm>
              <a:off x="6158520" y="2286360"/>
              <a:ext cx="8280" cy="4143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2" name=""/>
            <p:cNvCxnSpPr>
              <a:stCxn id="58" idx="2"/>
              <a:endCxn id="59" idx="0"/>
            </p:cNvCxnSpPr>
            <p:nvPr/>
          </p:nvCxnSpPr>
          <p:spPr>
            <a:xfrm flipH="1">
              <a:off x="5502960" y="2976840"/>
              <a:ext cx="663840" cy="8337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59" idx="2"/>
              <a:endCxn id="45" idx="0"/>
            </p:cNvCxnSpPr>
            <p:nvPr/>
          </p:nvCxnSpPr>
          <p:spPr>
            <a:xfrm>
              <a:off x="5502960" y="4086720"/>
              <a:ext cx="749520" cy="10954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4" name=""/>
            <p:cNvCxnSpPr>
              <a:stCxn id="58" idx="2"/>
              <a:endCxn id="60" idx="0"/>
            </p:cNvCxnSpPr>
            <p:nvPr/>
          </p:nvCxnSpPr>
          <p:spPr>
            <a:xfrm>
              <a:off x="6166440" y="2976840"/>
              <a:ext cx="972360" cy="8622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5" name=""/>
            <p:cNvCxnSpPr>
              <a:stCxn id="60" idx="2"/>
              <a:endCxn id="45" idx="0"/>
            </p:cNvCxnSpPr>
            <p:nvPr/>
          </p:nvCxnSpPr>
          <p:spPr>
            <a:xfrm flipH="1">
              <a:off x="6252120" y="4115160"/>
              <a:ext cx="886680" cy="1067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6" name=""/>
            <p:cNvSpPr/>
            <p:nvPr/>
          </p:nvSpPr>
          <p:spPr>
            <a:xfrm>
              <a:off x="4572000" y="1752840"/>
              <a:ext cx="3657600" cy="39621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572000" y="1447920"/>
              <a:ext cx="365760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688800" y="1481400"/>
              <a:ext cx="111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Provid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rch, Response with Result Set Identifier (poin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71" idx="3"/>
            <a:endCxn id="72" idx="1"/>
          </p:cNvCxnSpPr>
          <p:nvPr/>
        </p:nvCxnSpPr>
        <p:spPr>
          <a:xfrm>
            <a:off x="3122280" y="1893960"/>
            <a:ext cx="2413800" cy="2815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" name=""/>
          <p:cNvCxnSpPr>
            <a:stCxn id="74" idx="1"/>
            <a:endCxn id="75" idx="3"/>
          </p:cNvCxnSpPr>
          <p:nvPr/>
        </p:nvCxnSpPr>
        <p:spPr>
          <a:xfrm flipH="1" flipV="1">
            <a:off x="2845800" y="4941000"/>
            <a:ext cx="2640600" cy="4057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76" name=""/>
          <p:cNvGrpSpPr/>
          <p:nvPr/>
        </p:nvGrpSpPr>
        <p:grpSpPr>
          <a:xfrm>
            <a:off x="1219320" y="1143000"/>
            <a:ext cx="2133360" cy="5029200"/>
            <a:chOff x="1219320" y="1143000"/>
            <a:chExt cx="2133360" cy="5029200"/>
          </a:xfrm>
        </p:grpSpPr>
        <p:sp>
          <p:nvSpPr>
            <p:cNvPr id="71" name=""/>
            <p:cNvSpPr/>
            <p:nvPr/>
          </p:nvSpPr>
          <p:spPr>
            <a:xfrm>
              <a:off x="1600200" y="1752480"/>
              <a:ext cx="152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arch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601640" y="480060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616040" y="5715000"/>
              <a:ext cx="12016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ointer to 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8" name=""/>
            <p:cNvCxnSpPr>
              <a:stCxn id="75" idx="2"/>
              <a:endCxn id="77" idx="0"/>
            </p:cNvCxnSpPr>
            <p:nvPr/>
          </p:nvCxnSpPr>
          <p:spPr>
            <a:xfrm flipH="1">
              <a:off x="2217240" y="5081400"/>
              <a:ext cx="7200" cy="6339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1219320" y="1447920"/>
              <a:ext cx="2133360" cy="47242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19320" y="1143000"/>
              <a:ext cx="213336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963800" y="1176480"/>
              <a:ext cx="1250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Consum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4572000" y="1219320"/>
            <a:ext cx="3657600" cy="4572000"/>
            <a:chOff x="4572000" y="1219320"/>
            <a:chExt cx="3657600" cy="4572000"/>
          </a:xfrm>
        </p:grpSpPr>
        <p:sp>
          <p:nvSpPr>
            <p:cNvPr id="72" name=""/>
            <p:cNvSpPr/>
            <p:nvPr/>
          </p:nvSpPr>
          <p:spPr>
            <a:xfrm>
              <a:off x="5537160" y="203364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630400" y="2724120"/>
              <a:ext cx="107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ative 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753440" y="3833640"/>
              <a:ext cx="1499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388200" y="386244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630400" y="4595760"/>
              <a:ext cx="1302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ch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7" name=""/>
            <p:cNvCxnSpPr>
              <a:stCxn id="72" idx="2"/>
              <a:endCxn id="83" idx="0"/>
            </p:cNvCxnSpPr>
            <p:nvPr/>
          </p:nvCxnSpPr>
          <p:spPr>
            <a:xfrm>
              <a:off x="6159600" y="2314440"/>
              <a:ext cx="8640" cy="4104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" name=""/>
            <p:cNvCxnSpPr>
              <a:stCxn id="83" idx="2"/>
              <a:endCxn id="84" idx="0"/>
            </p:cNvCxnSpPr>
            <p:nvPr/>
          </p:nvCxnSpPr>
          <p:spPr>
            <a:xfrm flipH="1">
              <a:off x="5503320" y="3004920"/>
              <a:ext cx="664200" cy="8290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" name=""/>
            <p:cNvCxnSpPr>
              <a:stCxn id="84" idx="2"/>
              <a:endCxn id="86" idx="0"/>
            </p:cNvCxnSpPr>
            <p:nvPr/>
          </p:nvCxnSpPr>
          <p:spPr>
            <a:xfrm>
              <a:off x="5504040" y="4114800"/>
              <a:ext cx="77832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0" name=""/>
            <p:cNvCxnSpPr>
              <a:stCxn id="83" idx="2"/>
              <a:endCxn id="85" idx="0"/>
            </p:cNvCxnSpPr>
            <p:nvPr/>
          </p:nvCxnSpPr>
          <p:spPr>
            <a:xfrm>
              <a:off x="6167160" y="3004920"/>
              <a:ext cx="972360" cy="8578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1" name=""/>
            <p:cNvCxnSpPr>
              <a:stCxn id="85" idx="2"/>
              <a:endCxn id="86" idx="0"/>
            </p:cNvCxnSpPr>
            <p:nvPr/>
          </p:nvCxnSpPr>
          <p:spPr>
            <a:xfrm flipH="1">
              <a:off x="6281280" y="4142880"/>
              <a:ext cx="858240" cy="4532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488200" y="5205240"/>
              <a:ext cx="15217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essage with 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2" name=""/>
            <p:cNvCxnSpPr>
              <a:stCxn id="86" idx="2"/>
              <a:endCxn id="74" idx="0"/>
            </p:cNvCxnSpPr>
            <p:nvPr/>
          </p:nvCxnSpPr>
          <p:spPr>
            <a:xfrm flipH="1">
              <a:off x="6249600" y="4876920"/>
              <a:ext cx="3240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3" name=""/>
            <p:cNvSpPr/>
            <p:nvPr/>
          </p:nvSpPr>
          <p:spPr>
            <a:xfrm>
              <a:off x="4572000" y="1219320"/>
              <a:ext cx="3657600" cy="3045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810840" y="1219320"/>
              <a:ext cx="111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Provid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572000" y="1523880"/>
              <a:ext cx="3657600" cy="426744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rieve Data Using RS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"/>
          <p:cNvCxnSpPr>
            <a:stCxn id="98" idx="3"/>
            <a:endCxn id="99" idx="1"/>
          </p:cNvCxnSpPr>
          <p:nvPr/>
        </p:nvCxnSpPr>
        <p:spPr>
          <a:xfrm flipV="1">
            <a:off x="1865160" y="1740600"/>
            <a:ext cx="3850560" cy="67716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101" idx="1"/>
            <a:endCxn id="98" idx="3"/>
          </p:cNvCxnSpPr>
          <p:nvPr/>
        </p:nvCxnSpPr>
        <p:spPr>
          <a:xfrm flipH="1">
            <a:off x="1864440" y="2350800"/>
            <a:ext cx="3698280" cy="673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103" idx="3"/>
            <a:endCxn id="104" idx="1"/>
          </p:cNvCxnSpPr>
          <p:nvPr/>
        </p:nvCxnSpPr>
        <p:spPr>
          <a:xfrm>
            <a:off x="1906200" y="3487680"/>
            <a:ext cx="3732840" cy="46440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"/>
          <p:cNvCxnSpPr>
            <a:stCxn id="106" idx="1"/>
            <a:endCxn id="107" idx="3"/>
          </p:cNvCxnSpPr>
          <p:nvPr/>
        </p:nvCxnSpPr>
        <p:spPr>
          <a:xfrm flipH="1" flipV="1">
            <a:off x="2134440" y="5217480"/>
            <a:ext cx="2894760" cy="10548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08" name=""/>
          <p:cNvGrpSpPr/>
          <p:nvPr/>
        </p:nvGrpSpPr>
        <p:grpSpPr>
          <a:xfrm>
            <a:off x="4572000" y="3581280"/>
            <a:ext cx="3581280" cy="2133360"/>
            <a:chOff x="4572000" y="3581280"/>
            <a:chExt cx="3581280" cy="2133360"/>
          </a:xfrm>
        </p:grpSpPr>
        <p:sp>
          <p:nvSpPr>
            <p:cNvPr id="104" name=""/>
            <p:cNvSpPr/>
            <p:nvPr/>
          </p:nvSpPr>
          <p:spPr>
            <a:xfrm>
              <a:off x="5642280" y="3809880"/>
              <a:ext cx="98676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802400" y="4419360"/>
              <a:ext cx="140436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nstruct Data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027400" y="5181480"/>
              <a:ext cx="22291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nstruct Respon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0" name=""/>
            <p:cNvCxnSpPr>
              <a:stCxn id="104" idx="2"/>
              <a:endCxn id="109" idx="0"/>
            </p:cNvCxnSpPr>
            <p:nvPr/>
          </p:nvCxnSpPr>
          <p:spPr>
            <a:xfrm flipH="1">
              <a:off x="5504760" y="4090320"/>
              <a:ext cx="63108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1" name=""/>
            <p:cNvCxnSpPr>
              <a:stCxn id="109" idx="2"/>
              <a:endCxn id="106" idx="0"/>
            </p:cNvCxnSpPr>
            <p:nvPr/>
          </p:nvCxnSpPr>
          <p:spPr>
            <a:xfrm>
              <a:off x="5505480" y="4700520"/>
              <a:ext cx="63720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2" name=""/>
            <p:cNvSpPr/>
            <p:nvPr/>
          </p:nvSpPr>
          <p:spPr>
            <a:xfrm>
              <a:off x="6400800" y="441936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3" name=""/>
            <p:cNvCxnSpPr>
              <a:stCxn id="104" idx="2"/>
              <a:endCxn id="112" idx="0"/>
            </p:cNvCxnSpPr>
            <p:nvPr/>
          </p:nvCxnSpPr>
          <p:spPr>
            <a:xfrm>
              <a:off x="6135840" y="4090320"/>
              <a:ext cx="101664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4" name=""/>
            <p:cNvCxnSpPr>
              <a:stCxn id="112" idx="2"/>
              <a:endCxn id="106" idx="0"/>
            </p:cNvCxnSpPr>
            <p:nvPr/>
          </p:nvCxnSpPr>
          <p:spPr>
            <a:xfrm flipH="1">
              <a:off x="6141240" y="4700520"/>
              <a:ext cx="101052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5" name=""/>
            <p:cNvSpPr/>
            <p:nvPr/>
          </p:nvSpPr>
          <p:spPr>
            <a:xfrm>
              <a:off x="4572000" y="3581280"/>
              <a:ext cx="3581280" cy="21333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5181480" y="1219320"/>
            <a:ext cx="2438280" cy="1447560"/>
            <a:chOff x="5181480" y="1219320"/>
            <a:chExt cx="2438280" cy="1447560"/>
          </a:xfrm>
        </p:grpSpPr>
        <p:grpSp>
          <p:nvGrpSpPr>
            <p:cNvPr id="117" name=""/>
            <p:cNvGrpSpPr/>
            <p:nvPr/>
          </p:nvGrpSpPr>
          <p:grpSpPr>
            <a:xfrm>
              <a:off x="5181480" y="1447920"/>
              <a:ext cx="2438280" cy="1218960"/>
              <a:chOff x="5181480" y="1447920"/>
              <a:chExt cx="2438280" cy="1218960"/>
            </a:xfrm>
          </p:grpSpPr>
          <p:sp>
            <p:nvSpPr>
              <p:cNvPr id="99" name=""/>
              <p:cNvSpPr/>
              <p:nvPr/>
            </p:nvSpPr>
            <p:spPr>
              <a:xfrm>
                <a:off x="5715720" y="1600200"/>
                <a:ext cx="1363320" cy="27648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Lookup Target ID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5562360" y="2209680"/>
                <a:ext cx="1626840" cy="27648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Get Service Endpoi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18" name=""/>
              <p:cNvCxnSpPr>
                <a:stCxn id="99" idx="2"/>
                <a:endCxn id="101" idx="0"/>
              </p:cNvCxnSpPr>
              <p:nvPr/>
            </p:nvCxnSpPr>
            <p:spPr>
              <a:xfrm flipH="1">
                <a:off x="6376680" y="1881000"/>
                <a:ext cx="20880" cy="329040"/>
              </a:xfrm>
              <a:prstGeom prst="straightConnector1">
                <a:avLst/>
              </a:prstGeom>
              <a:ln w="648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119" name=""/>
              <p:cNvSpPr/>
              <p:nvPr/>
            </p:nvSpPr>
            <p:spPr>
              <a:xfrm>
                <a:off x="5181480" y="1447920"/>
                <a:ext cx="2438280" cy="121896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" name=""/>
            <p:cNvSpPr/>
            <p:nvPr/>
          </p:nvSpPr>
          <p:spPr>
            <a:xfrm>
              <a:off x="6782040" y="1219320"/>
              <a:ext cx="740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gist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181480" y="1219320"/>
              <a:ext cx="2438280" cy="2286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flipH="1" flipV="1">
            <a:off x="4572000" y="3276720"/>
            <a:ext cx="3581280" cy="3045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963480" y="3276720"/>
            <a:ext cx="111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 Provi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457200" y="838080"/>
            <a:ext cx="2362320" cy="5638680"/>
            <a:chOff x="457200" y="838080"/>
            <a:chExt cx="2362320" cy="5638680"/>
          </a:xfrm>
        </p:grpSpPr>
        <p:sp>
          <p:nvSpPr>
            <p:cNvPr id="125" name=""/>
            <p:cNvSpPr/>
            <p:nvPr/>
          </p:nvSpPr>
          <p:spPr>
            <a:xfrm>
              <a:off x="1207800" y="1271520"/>
              <a:ext cx="545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130040" y="2185920"/>
              <a:ext cx="732240" cy="4590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lv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22960" y="4986360"/>
              <a:ext cx="1311480" cy="4590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Respons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222920" y="5943600"/>
              <a:ext cx="5036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7" name=""/>
            <p:cNvCxnSpPr>
              <a:stCxn id="125" idx="2"/>
              <a:endCxn id="98" idx="0"/>
            </p:cNvCxnSpPr>
            <p:nvPr/>
          </p:nvCxnSpPr>
          <p:spPr>
            <a:xfrm>
              <a:off x="1481040" y="1552320"/>
              <a:ext cx="16560" cy="63432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8" name=""/>
            <p:cNvCxnSpPr>
              <a:stCxn id="107" idx="2"/>
              <a:endCxn id="126" idx="0"/>
            </p:cNvCxnSpPr>
            <p:nvPr/>
          </p:nvCxnSpPr>
          <p:spPr>
            <a:xfrm flipH="1">
              <a:off x="1474200" y="5449680"/>
              <a:ext cx="5400" cy="4946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3" name=""/>
            <p:cNvSpPr/>
            <p:nvPr/>
          </p:nvSpPr>
          <p:spPr>
            <a:xfrm>
              <a:off x="1069200" y="3163680"/>
              <a:ext cx="834480" cy="6415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mpos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ques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9" name=""/>
            <p:cNvCxnSpPr>
              <a:stCxn id="98" idx="2"/>
              <a:endCxn id="103" idx="0"/>
            </p:cNvCxnSpPr>
            <p:nvPr/>
          </p:nvCxnSpPr>
          <p:spPr>
            <a:xfrm flipH="1">
              <a:off x="1487160" y="2648880"/>
              <a:ext cx="10080" cy="5151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0" name=""/>
            <p:cNvSpPr/>
            <p:nvPr/>
          </p:nvSpPr>
          <p:spPr>
            <a:xfrm>
              <a:off x="457200" y="1143000"/>
              <a:ext cx="2362320" cy="53337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57200" y="838080"/>
              <a:ext cx="236232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522440" y="868320"/>
              <a:ext cx="1250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Consum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1T18:02:31Z</dcterms:created>
  <dc:creator>Dave Vieglais</dc:creator>
  <dc:description/>
  <dc:language>en-US</dc:language>
  <cp:lastModifiedBy>Dave Vieglais</cp:lastModifiedBy>
  <dcterms:modified xsi:type="dcterms:W3CDTF">2003-05-11T21:58:03Z</dcterms:modified>
  <cp:revision>8</cp:revision>
  <dc:subject/>
  <dc:title>Slide 1</dc:title>
</cp:coreProperties>
</file>